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10158413" cy="10947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373FE-5CE0-40BA-813D-3D484EB168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7960" y="437760"/>
            <a:ext cx="9144000" cy="182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507960" y="2553840"/>
            <a:ext cx="91440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507960" y="6327360"/>
            <a:ext cx="91440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B6129-ED38-4AE5-92D8-53924EB58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7960" y="437760"/>
            <a:ext cx="9144000" cy="182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507960" y="2553840"/>
            <a:ext cx="44622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193720" y="2553840"/>
            <a:ext cx="44622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507960" y="6327360"/>
            <a:ext cx="44622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193720" y="6327360"/>
            <a:ext cx="44622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A3D404-3DD7-4F85-9E01-910C856C85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7960" y="437760"/>
            <a:ext cx="9144000" cy="182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507960" y="2553840"/>
            <a:ext cx="294408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99640" y="2553840"/>
            <a:ext cx="294408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691320" y="2553840"/>
            <a:ext cx="294408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507960" y="6327360"/>
            <a:ext cx="294408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99640" y="6327360"/>
            <a:ext cx="294408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691320" y="6327360"/>
            <a:ext cx="294408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5744A7-F006-4F38-B2D0-086A07CEB6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437760"/>
            <a:ext cx="9144000" cy="182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507960" y="2553840"/>
            <a:ext cx="9144000" cy="7224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C269F-5320-45E7-8D5F-A29E4D346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437760"/>
            <a:ext cx="9144000" cy="182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507960" y="2553840"/>
            <a:ext cx="9144000" cy="7224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14349-0FB2-49C0-8804-50F409904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960" y="437760"/>
            <a:ext cx="9144000" cy="182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507960" y="2553840"/>
            <a:ext cx="4462200" cy="7224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193720" y="2553840"/>
            <a:ext cx="4462200" cy="7224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73EF9-8BC4-4FA6-A6BE-DDD291FB8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437760"/>
            <a:ext cx="9144000" cy="182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09260-DC1E-4822-BBC9-F8AE3CBE5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7960" y="437760"/>
            <a:ext cx="9144000" cy="845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DDB42-C47F-4C6D-86B6-428CEFA72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7960" y="437760"/>
            <a:ext cx="9144000" cy="182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507960" y="2553840"/>
            <a:ext cx="44622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193720" y="2553840"/>
            <a:ext cx="4462200" cy="7224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507960" y="6327360"/>
            <a:ext cx="44622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890D0-E64D-42CE-8F16-6B5A3481B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7960" y="437760"/>
            <a:ext cx="9144000" cy="182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507960" y="2553840"/>
            <a:ext cx="4462200" cy="7224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193720" y="2553840"/>
            <a:ext cx="44622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193720" y="6327360"/>
            <a:ext cx="44622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74BF8-6298-4BAC-948E-1DC50A2D0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7960" y="437760"/>
            <a:ext cx="9144000" cy="182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507960" y="2553840"/>
            <a:ext cx="44622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193720" y="2553840"/>
            <a:ext cx="44622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507960" y="6327360"/>
            <a:ext cx="9144000" cy="344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9DA0E-C070-4B05-B054-AD38ED640D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437760"/>
            <a:ext cx="9144000" cy="182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507960" y="2553840"/>
            <a:ext cx="9144000" cy="7224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507960" y="10147320"/>
            <a:ext cx="2370240" cy="58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471840" y="10147320"/>
            <a:ext cx="321624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281720" y="10147320"/>
            <a:ext cx="2370240" cy="582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7B946-9406-4F01-9BF2-B43A3F13D67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1"/>
          <p:cNvSpPr/>
          <p:nvPr/>
        </p:nvSpPr>
        <p:spPr>
          <a:xfrm>
            <a:off x="2057400" y="2336760"/>
            <a:ext cx="7467480" cy="149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You Will Learn to add and subtract integers using</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Pictures (and Diagrams)</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Objects (Integer Chips)</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Numbers (Yes!  Numbers!)</a:t>
            </a:r>
            <a:endParaRPr b="0" lang="en-US" sz="2300" spc="-1" strike="noStrike">
              <a:solidFill>
                <a:srgbClr val="000000"/>
              </a:solidFill>
              <a:latin typeface="Calibri"/>
            </a:endParaRPr>
          </a:p>
        </p:txBody>
      </p:sp>
      <p:grpSp>
        <p:nvGrpSpPr>
          <p:cNvPr id="42" name="Group 6"/>
          <p:cNvGrpSpPr/>
          <p:nvPr/>
        </p:nvGrpSpPr>
        <p:grpSpPr>
          <a:xfrm>
            <a:off x="6254640" y="4133880"/>
            <a:ext cx="986040" cy="973080"/>
            <a:chOff x="6254640" y="4133880"/>
            <a:chExt cx="986040" cy="973080"/>
          </a:xfrm>
        </p:grpSpPr>
        <p:sp>
          <p:nvSpPr>
            <p:cNvPr id="43" name="Freeform 2"/>
            <p:cNvSpPr/>
            <p:nvPr/>
          </p:nvSpPr>
          <p:spPr>
            <a:xfrm>
              <a:off x="6254640" y="4133880"/>
              <a:ext cx="986040" cy="973080"/>
            </a:xfrm>
            <a:custGeom>
              <a:avLst/>
              <a:gdLst>
                <a:gd name="textAreaLeft" fmla="*/ 0 w 986040"/>
                <a:gd name="textAreaRight" fmla="*/ 986400 w 986040"/>
                <a:gd name="textAreaTop" fmla="*/ 0 h 973080"/>
                <a:gd name="textAreaBottom" fmla="*/ 973440 h 973080"/>
              </a:gdLst>
              <a:ahLst/>
              <a:rect l="textAreaLeft" t="textAreaTop" r="textAreaRight" b="textAreaBottom"/>
              <a:pathLst>
                <a:path w="985648" h="972821">
                  <a:moveTo>
                    <a:pt x="0" y="0"/>
                  </a:moveTo>
                  <a:lnTo>
                    <a:pt x="985647" y="0"/>
                  </a:lnTo>
                  <a:lnTo>
                    <a:pt x="985647" y="972820"/>
                  </a:lnTo>
                  <a:lnTo>
                    <a:pt x="0" y="972820"/>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44" name="Group 5"/>
            <p:cNvGrpSpPr/>
            <p:nvPr/>
          </p:nvGrpSpPr>
          <p:grpSpPr>
            <a:xfrm>
              <a:off x="6540120" y="4393080"/>
              <a:ext cx="428040" cy="441000"/>
              <a:chOff x="6540120" y="4393080"/>
              <a:chExt cx="428040" cy="441000"/>
            </a:xfrm>
          </p:grpSpPr>
          <p:sp>
            <p:nvSpPr>
              <p:cNvPr id="45" name="Straight Connector 3"/>
              <p:cNvSpPr/>
              <p:nvPr/>
            </p:nvSpPr>
            <p:spPr>
              <a:xfrm>
                <a:off x="6540120" y="4627080"/>
                <a:ext cx="428040" cy="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Straight Connector 4"/>
              <p:cNvSpPr/>
              <p:nvPr/>
            </p:nvSpPr>
            <p:spPr>
              <a:xfrm flipV="1">
                <a:off x="6747480" y="4393080"/>
                <a:ext cx="0" cy="44100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47" name="Group 9"/>
          <p:cNvGrpSpPr/>
          <p:nvPr/>
        </p:nvGrpSpPr>
        <p:grpSpPr>
          <a:xfrm>
            <a:off x="287280" y="2446200"/>
            <a:ext cx="990720" cy="978120"/>
            <a:chOff x="287280" y="2446200"/>
            <a:chExt cx="990720" cy="978120"/>
          </a:xfrm>
        </p:grpSpPr>
        <p:sp>
          <p:nvSpPr>
            <p:cNvPr id="48" name="Freeform 7"/>
            <p:cNvSpPr/>
            <p:nvPr/>
          </p:nvSpPr>
          <p:spPr>
            <a:xfrm>
              <a:off x="287280" y="2446200"/>
              <a:ext cx="990720" cy="978120"/>
            </a:xfrm>
            <a:custGeom>
              <a:avLst/>
              <a:gdLst>
                <a:gd name="textAreaLeft" fmla="*/ 0 w 990720"/>
                <a:gd name="textAreaRight" fmla="*/ 991080 w 990720"/>
                <a:gd name="textAreaTop" fmla="*/ 0 h 978120"/>
                <a:gd name="textAreaBottom" fmla="*/ 978480 h 978120"/>
              </a:gdLst>
              <a:ahLst/>
              <a:rect l="textAreaLeft" t="textAreaTop" r="textAreaRight" b="textAreaBottom"/>
              <a:pathLst>
                <a:path w="991618" h="978663">
                  <a:moveTo>
                    <a:pt x="0" y="0"/>
                  </a:moveTo>
                  <a:lnTo>
                    <a:pt x="991617" y="0"/>
                  </a:lnTo>
                  <a:lnTo>
                    <a:pt x="991617" y="978662"/>
                  </a:lnTo>
                  <a:lnTo>
                    <a:pt x="0" y="978662"/>
                  </a:ln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9" name="Straight Connector 8"/>
            <p:cNvSpPr/>
            <p:nvPr/>
          </p:nvSpPr>
          <p:spPr>
            <a:xfrm>
              <a:off x="560880" y="2941560"/>
              <a:ext cx="43020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0" name="Group 38"/>
          <p:cNvGrpSpPr/>
          <p:nvPr/>
        </p:nvGrpSpPr>
        <p:grpSpPr>
          <a:xfrm>
            <a:off x="227160" y="1349280"/>
            <a:ext cx="9356400" cy="840240"/>
            <a:chOff x="227160" y="1349280"/>
            <a:chExt cx="9356400" cy="840240"/>
          </a:xfrm>
        </p:grpSpPr>
        <p:sp>
          <p:nvSpPr>
            <p:cNvPr id="51" name="TextBox 10"/>
            <p:cNvSpPr/>
            <p:nvPr/>
          </p:nvSpPr>
          <p:spPr>
            <a:xfrm>
              <a:off x="3860640" y="1842120"/>
              <a:ext cx="5079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1</a:t>
              </a:r>
              <a:endParaRPr b="0" lang="en-US" sz="1500" spc="-1" strike="noStrike">
                <a:solidFill>
                  <a:srgbClr val="000000"/>
                </a:solidFill>
                <a:latin typeface="Calibri"/>
              </a:endParaRPr>
            </a:p>
          </p:txBody>
        </p:sp>
        <p:sp>
          <p:nvSpPr>
            <p:cNvPr id="52" name="TextBox 11"/>
            <p:cNvSpPr/>
            <p:nvPr/>
          </p:nvSpPr>
          <p:spPr>
            <a:xfrm>
              <a:off x="4762440" y="1867320"/>
              <a:ext cx="43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 12"/>
                </a:rPr>
                <a:t>0</a:t>
              </a:r>
              <a:endParaRPr b="0" lang="en-US" sz="1400" spc="-1" strike="noStrike">
                <a:solidFill>
                  <a:srgbClr val="000000"/>
                </a:solidFill>
                <a:latin typeface="Calibri"/>
              </a:endParaRPr>
            </a:p>
          </p:txBody>
        </p:sp>
        <p:sp>
          <p:nvSpPr>
            <p:cNvPr id="53" name="TextBox 12"/>
            <p:cNvSpPr/>
            <p:nvPr/>
          </p:nvSpPr>
          <p:spPr>
            <a:xfrm>
              <a:off x="3111480" y="1842120"/>
              <a:ext cx="3808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2</a:t>
              </a:r>
              <a:endParaRPr b="0" lang="en-US" sz="1500" spc="-1" strike="noStrike">
                <a:solidFill>
                  <a:srgbClr val="000000"/>
                </a:solidFill>
                <a:latin typeface="Calibri"/>
              </a:endParaRPr>
            </a:p>
          </p:txBody>
        </p:sp>
        <p:sp>
          <p:nvSpPr>
            <p:cNvPr id="54" name="TextBox 13"/>
            <p:cNvSpPr/>
            <p:nvPr/>
          </p:nvSpPr>
          <p:spPr>
            <a:xfrm>
              <a:off x="2311200" y="184212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3</a:t>
              </a:r>
              <a:endParaRPr b="0" lang="en-US" sz="1500" spc="-1" strike="noStrike">
                <a:solidFill>
                  <a:srgbClr val="000000"/>
                </a:solidFill>
                <a:latin typeface="Calibri"/>
              </a:endParaRPr>
            </a:p>
          </p:txBody>
        </p:sp>
        <p:sp>
          <p:nvSpPr>
            <p:cNvPr id="55" name="TextBox 14"/>
            <p:cNvSpPr/>
            <p:nvPr/>
          </p:nvSpPr>
          <p:spPr>
            <a:xfrm>
              <a:off x="1536480" y="184212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4</a:t>
              </a:r>
              <a:endParaRPr b="0" lang="en-US" sz="1500" spc="-1" strike="noStrike">
                <a:solidFill>
                  <a:srgbClr val="000000"/>
                </a:solidFill>
                <a:latin typeface="Calibri"/>
              </a:endParaRPr>
            </a:p>
          </p:txBody>
        </p:sp>
        <p:sp>
          <p:nvSpPr>
            <p:cNvPr id="56" name="TextBox 15"/>
            <p:cNvSpPr/>
            <p:nvPr/>
          </p:nvSpPr>
          <p:spPr>
            <a:xfrm>
              <a:off x="799920" y="182916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5</a:t>
              </a:r>
              <a:endParaRPr b="0" lang="en-US" sz="1500" spc="-1" strike="noStrike">
                <a:solidFill>
                  <a:srgbClr val="000000"/>
                </a:solidFill>
                <a:latin typeface="Calibri"/>
              </a:endParaRPr>
            </a:p>
          </p:txBody>
        </p:sp>
        <p:sp>
          <p:nvSpPr>
            <p:cNvPr id="57" name="TextBox 16"/>
            <p:cNvSpPr/>
            <p:nvPr/>
          </p:nvSpPr>
          <p:spPr>
            <a:xfrm>
              <a:off x="5537160" y="1842120"/>
              <a:ext cx="5079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1</a:t>
              </a:r>
              <a:endParaRPr b="0" lang="en-US" sz="1500" spc="-1" strike="noStrike">
                <a:solidFill>
                  <a:srgbClr val="000000"/>
                </a:solidFill>
                <a:latin typeface="Calibri"/>
              </a:endParaRPr>
            </a:p>
          </p:txBody>
        </p:sp>
        <p:sp>
          <p:nvSpPr>
            <p:cNvPr id="58" name="TextBox 17"/>
            <p:cNvSpPr/>
            <p:nvPr/>
          </p:nvSpPr>
          <p:spPr>
            <a:xfrm>
              <a:off x="6337080" y="1842120"/>
              <a:ext cx="3808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2</a:t>
              </a:r>
              <a:endParaRPr b="0" lang="en-US" sz="1500" spc="-1" strike="noStrike">
                <a:solidFill>
                  <a:srgbClr val="000000"/>
                </a:solidFill>
                <a:latin typeface="Calibri"/>
              </a:endParaRPr>
            </a:p>
          </p:txBody>
        </p:sp>
        <p:sp>
          <p:nvSpPr>
            <p:cNvPr id="59" name="TextBox 18"/>
            <p:cNvSpPr/>
            <p:nvPr/>
          </p:nvSpPr>
          <p:spPr>
            <a:xfrm>
              <a:off x="7061040" y="186732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3</a:t>
              </a:r>
              <a:endParaRPr b="0" lang="en-US" sz="1500" spc="-1" strike="noStrike">
                <a:solidFill>
                  <a:srgbClr val="000000"/>
                </a:solidFill>
                <a:latin typeface="Calibri"/>
              </a:endParaRPr>
            </a:p>
          </p:txBody>
        </p:sp>
        <p:sp>
          <p:nvSpPr>
            <p:cNvPr id="60" name="TextBox 19"/>
            <p:cNvSpPr/>
            <p:nvPr/>
          </p:nvSpPr>
          <p:spPr>
            <a:xfrm>
              <a:off x="7835760" y="186732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4</a:t>
              </a:r>
              <a:endParaRPr b="0" lang="en-US" sz="1500" spc="-1" strike="noStrike">
                <a:solidFill>
                  <a:srgbClr val="000000"/>
                </a:solidFill>
                <a:latin typeface="Calibri"/>
              </a:endParaRPr>
            </a:p>
          </p:txBody>
        </p:sp>
        <p:sp>
          <p:nvSpPr>
            <p:cNvPr id="61" name="TextBox 20"/>
            <p:cNvSpPr/>
            <p:nvPr/>
          </p:nvSpPr>
          <p:spPr>
            <a:xfrm>
              <a:off x="8623080" y="182916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5</a:t>
              </a:r>
              <a:endParaRPr b="0" lang="en-US" sz="1500" spc="-1" strike="noStrike">
                <a:solidFill>
                  <a:srgbClr val="000000"/>
                </a:solidFill>
                <a:latin typeface="Calibri"/>
              </a:endParaRPr>
            </a:p>
          </p:txBody>
        </p:sp>
        <p:grpSp>
          <p:nvGrpSpPr>
            <p:cNvPr id="62" name="Group 26"/>
            <p:cNvGrpSpPr/>
            <p:nvPr/>
          </p:nvGrpSpPr>
          <p:grpSpPr>
            <a:xfrm>
              <a:off x="227160" y="1349280"/>
              <a:ext cx="9356400" cy="530640"/>
              <a:chOff x="227160" y="1349280"/>
              <a:chExt cx="9356400" cy="530640"/>
            </a:xfrm>
          </p:grpSpPr>
          <p:sp>
            <p:nvSpPr>
              <p:cNvPr id="63" name="Freeform 21"/>
              <p:cNvSpPr/>
              <p:nvPr/>
            </p:nvSpPr>
            <p:spPr>
              <a:xfrm>
                <a:off x="240120" y="1602720"/>
                <a:ext cx="9341640" cy="19800"/>
              </a:xfrm>
              <a:custGeom>
                <a:avLst/>
                <a:gdLst>
                  <a:gd name="textAreaLeft" fmla="*/ 0 w 9341640"/>
                  <a:gd name="textAreaRight" fmla="*/ 9342000 w 9341640"/>
                  <a:gd name="textAreaTop" fmla="*/ 0 h 19800"/>
                  <a:gd name="textAreaBottom" fmla="*/ 20160 h 19800"/>
                </a:gdLst>
                <a:ahLst/>
                <a:rect l="textAreaLeft" t="textAreaTop" r="textAreaRight" b="textAreaBottom"/>
                <a:pathLst>
                  <a:path w="9341867" h="20068">
                    <a:moveTo>
                      <a:pt x="0" y="20067"/>
                    </a:moveTo>
                    <a:lnTo>
                      <a:pt x="0" y="0"/>
                    </a:lnTo>
                    <a:lnTo>
                      <a:pt x="9341866" y="0"/>
                    </a:lnTo>
                    <a:lnTo>
                      <a:pt x="9341866" y="20067"/>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sp>
            <p:nvSpPr>
              <p:cNvPr id="64" name="Freeform 22"/>
              <p:cNvSpPr/>
              <p:nvPr/>
            </p:nvSpPr>
            <p:spPr>
              <a:xfrm>
                <a:off x="227160" y="1349280"/>
                <a:ext cx="269640" cy="277560"/>
              </a:xfrm>
              <a:custGeom>
                <a:avLst/>
                <a:gdLst>
                  <a:gd name="textAreaLeft" fmla="*/ 0 w 269640"/>
                  <a:gd name="textAreaRight" fmla="*/ 270000 w 269640"/>
                  <a:gd name="textAreaTop" fmla="*/ 0 h 277560"/>
                  <a:gd name="textAreaBottom" fmla="*/ 277920 h 277560"/>
                </a:gdLst>
                <a:ahLst/>
                <a:rect l="textAreaLeft" t="textAreaTop" r="textAreaRight" b="textAreaBottom"/>
                <a:pathLst>
                  <a:path w="269749" h="277368">
                    <a:moveTo>
                      <a:pt x="13081" y="277367"/>
                    </a:moveTo>
                    <a:lnTo>
                      <a:pt x="0" y="263270"/>
                    </a:lnTo>
                    <a:lnTo>
                      <a:pt x="256668" y="0"/>
                    </a:lnTo>
                    <a:lnTo>
                      <a:pt x="269748" y="138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 name="Freeform 23"/>
              <p:cNvSpPr/>
              <p:nvPr/>
            </p:nvSpPr>
            <p:spPr>
              <a:xfrm>
                <a:off x="230760" y="1601640"/>
                <a:ext cx="269640" cy="277560"/>
              </a:xfrm>
              <a:custGeom>
                <a:avLst/>
                <a:gdLst>
                  <a:gd name="textAreaLeft" fmla="*/ 0 w 269640"/>
                  <a:gd name="textAreaRight" fmla="*/ 270000 w 269640"/>
                  <a:gd name="textAreaTop" fmla="*/ 0 h 277560"/>
                  <a:gd name="textAreaBottom" fmla="*/ 277920 h 277560"/>
                </a:gdLst>
                <a:ahLst/>
                <a:rect l="textAreaLeft" t="textAreaTop" r="textAreaRight" b="textAreaBottom"/>
                <a:pathLst>
                  <a:path w="269875" h="277497">
                    <a:moveTo>
                      <a:pt x="0" y="13971"/>
                    </a:moveTo>
                    <a:lnTo>
                      <a:pt x="13207" y="0"/>
                    </a:lnTo>
                    <a:lnTo>
                      <a:pt x="269874" y="263399"/>
                    </a:lnTo>
                    <a:lnTo>
                      <a:pt x="256793" y="277496"/>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6" name="Freeform 24"/>
              <p:cNvSpPr/>
              <p:nvPr/>
            </p:nvSpPr>
            <p:spPr>
              <a:xfrm>
                <a:off x="9313920" y="1350000"/>
                <a:ext cx="269640" cy="277560"/>
              </a:xfrm>
              <a:custGeom>
                <a:avLst/>
                <a:gdLst>
                  <a:gd name="textAreaLeft" fmla="*/ 0 w 269640"/>
                  <a:gd name="textAreaRight" fmla="*/ 270000 w 269640"/>
                  <a:gd name="textAreaTop" fmla="*/ 0 h 277560"/>
                  <a:gd name="textAreaBottom" fmla="*/ 277920 h 277560"/>
                </a:gdLst>
                <a:ahLst/>
                <a:rect l="textAreaLeft" t="textAreaTop" r="textAreaRight" b="textAreaBottom"/>
                <a:pathLst>
                  <a:path w="269876" h="277495">
                    <a:moveTo>
                      <a:pt x="269875" y="263397"/>
                    </a:moveTo>
                    <a:lnTo>
                      <a:pt x="256793" y="277494"/>
                    </a:lnTo>
                    <a:lnTo>
                      <a:pt x="0" y="14097"/>
                    </a:lnTo>
                    <a:lnTo>
                      <a:pt x="13080"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7" name="Freeform 25"/>
              <p:cNvSpPr/>
              <p:nvPr/>
            </p:nvSpPr>
            <p:spPr>
              <a:xfrm>
                <a:off x="9309960" y="1602720"/>
                <a:ext cx="269640" cy="277200"/>
              </a:xfrm>
              <a:custGeom>
                <a:avLst/>
                <a:gdLst>
                  <a:gd name="textAreaLeft" fmla="*/ 0 w 269640"/>
                  <a:gd name="textAreaRight" fmla="*/ 270000 w 269640"/>
                  <a:gd name="textAreaTop" fmla="*/ 0 h 277200"/>
                  <a:gd name="textAreaBottom" fmla="*/ 277560 h 277200"/>
                </a:gdLst>
                <a:ahLst/>
                <a:rect l="textAreaLeft" t="textAreaTop" r="textAreaRight" b="textAreaBottom"/>
                <a:pathLst>
                  <a:path w="269876" h="277243">
                    <a:moveTo>
                      <a:pt x="256793" y="0"/>
                    </a:moveTo>
                    <a:lnTo>
                      <a:pt x="269875" y="14097"/>
                    </a:lnTo>
                    <a:lnTo>
                      <a:pt x="13208" y="277242"/>
                    </a:lnTo>
                    <a:lnTo>
                      <a:pt x="0" y="26339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68" name="Freeform 27"/>
            <p:cNvSpPr/>
            <p:nvPr/>
          </p:nvSpPr>
          <p:spPr>
            <a:xfrm>
              <a:off x="8749800" y="1398960"/>
              <a:ext cx="20520" cy="403200"/>
            </a:xfrm>
            <a:custGeom>
              <a:avLst/>
              <a:gdLst>
                <a:gd name="textAreaLeft" fmla="*/ 0 w 20520"/>
                <a:gd name="textAreaRight" fmla="*/ 20880 w 20520"/>
                <a:gd name="textAreaTop" fmla="*/ 0 h 403200"/>
                <a:gd name="textAreaBottom" fmla="*/ 403560 h 403200"/>
              </a:gdLst>
              <a:ahLst/>
              <a:rect l="textAreaLeft" t="textAreaTop" r="textAreaRight" b="textAreaBottom"/>
              <a:pathLst>
                <a:path w="20576" h="403099">
                  <a:moveTo>
                    <a:pt x="0" y="0"/>
                  </a:moveTo>
                  <a:lnTo>
                    <a:pt x="20575" y="0"/>
                  </a:lnTo>
                  <a:lnTo>
                    <a:pt x="20575" y="403098"/>
                  </a:lnTo>
                  <a:lnTo>
                    <a:pt x="0" y="40309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9" name="Freeform 28"/>
            <p:cNvSpPr/>
            <p:nvPr/>
          </p:nvSpPr>
          <p:spPr>
            <a:xfrm>
              <a:off x="7990560" y="1398960"/>
              <a:ext cx="20520" cy="403200"/>
            </a:xfrm>
            <a:custGeom>
              <a:avLst/>
              <a:gdLst>
                <a:gd name="textAreaLeft" fmla="*/ 0 w 20520"/>
                <a:gd name="textAreaRight" fmla="*/ 20880 w 20520"/>
                <a:gd name="textAreaTop" fmla="*/ 0 h 403200"/>
                <a:gd name="textAreaBottom" fmla="*/ 403560 h 403200"/>
              </a:gdLst>
              <a:ahLst/>
              <a:rect l="textAreaLeft" t="textAreaTop" r="textAreaRight" b="textAreaBottom"/>
              <a:pathLst>
                <a:path w="20575" h="403099">
                  <a:moveTo>
                    <a:pt x="0" y="0"/>
                  </a:moveTo>
                  <a:lnTo>
                    <a:pt x="20574" y="0"/>
                  </a:lnTo>
                  <a:lnTo>
                    <a:pt x="20574" y="403098"/>
                  </a:lnTo>
                  <a:lnTo>
                    <a:pt x="0" y="40309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0" name="Freeform 29"/>
            <p:cNvSpPr/>
            <p:nvPr/>
          </p:nvSpPr>
          <p:spPr>
            <a:xfrm>
              <a:off x="7184520" y="1398960"/>
              <a:ext cx="20520" cy="403200"/>
            </a:xfrm>
            <a:custGeom>
              <a:avLst/>
              <a:gdLst>
                <a:gd name="textAreaLeft" fmla="*/ 0 w 20520"/>
                <a:gd name="textAreaRight" fmla="*/ 20880 w 20520"/>
                <a:gd name="textAreaTop" fmla="*/ 0 h 403200"/>
                <a:gd name="textAreaBottom" fmla="*/ 403560 h 403200"/>
              </a:gdLst>
              <a:ahLst/>
              <a:rect l="textAreaLeft" t="textAreaTop" r="textAreaRight" b="textAreaBottom"/>
              <a:pathLst>
                <a:path w="20702" h="403099">
                  <a:moveTo>
                    <a:pt x="0" y="0"/>
                  </a:moveTo>
                  <a:lnTo>
                    <a:pt x="20701" y="0"/>
                  </a:lnTo>
                  <a:lnTo>
                    <a:pt x="20701" y="403098"/>
                  </a:lnTo>
                  <a:lnTo>
                    <a:pt x="0" y="40309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1" name="Freeform 30"/>
            <p:cNvSpPr/>
            <p:nvPr/>
          </p:nvSpPr>
          <p:spPr>
            <a:xfrm>
              <a:off x="6425280" y="1398960"/>
              <a:ext cx="20520" cy="403200"/>
            </a:xfrm>
            <a:custGeom>
              <a:avLst/>
              <a:gdLst>
                <a:gd name="textAreaLeft" fmla="*/ 0 w 20520"/>
                <a:gd name="textAreaRight" fmla="*/ 20880 w 20520"/>
                <a:gd name="textAreaTop" fmla="*/ 0 h 403200"/>
                <a:gd name="textAreaBottom" fmla="*/ 403560 h 403200"/>
              </a:gdLst>
              <a:ahLst/>
              <a:rect l="textAreaLeft" t="textAreaTop" r="textAreaRight" b="textAreaBottom"/>
              <a:pathLst>
                <a:path w="20575" h="403099">
                  <a:moveTo>
                    <a:pt x="0" y="0"/>
                  </a:moveTo>
                  <a:lnTo>
                    <a:pt x="20574" y="0"/>
                  </a:lnTo>
                  <a:lnTo>
                    <a:pt x="20574" y="403098"/>
                  </a:lnTo>
                  <a:lnTo>
                    <a:pt x="0" y="40309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2" name="Freeform 31"/>
            <p:cNvSpPr/>
            <p:nvPr/>
          </p:nvSpPr>
          <p:spPr>
            <a:xfrm>
              <a:off x="5666040" y="1398960"/>
              <a:ext cx="20520" cy="403200"/>
            </a:xfrm>
            <a:custGeom>
              <a:avLst/>
              <a:gdLst>
                <a:gd name="textAreaLeft" fmla="*/ 0 w 20520"/>
                <a:gd name="textAreaRight" fmla="*/ 20880 w 20520"/>
                <a:gd name="textAreaTop" fmla="*/ 0 h 403200"/>
                <a:gd name="textAreaBottom" fmla="*/ 403560 h 403200"/>
              </a:gdLst>
              <a:ahLst/>
              <a:rect l="textAreaLeft" t="textAreaTop" r="textAreaRight" b="textAreaBottom"/>
              <a:pathLst>
                <a:path w="20574" h="403099">
                  <a:moveTo>
                    <a:pt x="0" y="0"/>
                  </a:moveTo>
                  <a:lnTo>
                    <a:pt x="20573" y="0"/>
                  </a:lnTo>
                  <a:lnTo>
                    <a:pt x="20573" y="403098"/>
                  </a:lnTo>
                  <a:lnTo>
                    <a:pt x="0" y="40309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 name="Freeform 32"/>
            <p:cNvSpPr/>
            <p:nvPr/>
          </p:nvSpPr>
          <p:spPr>
            <a:xfrm>
              <a:off x="4085280" y="1415160"/>
              <a:ext cx="20520" cy="403200"/>
            </a:xfrm>
            <a:custGeom>
              <a:avLst/>
              <a:gdLst>
                <a:gd name="textAreaLeft" fmla="*/ 0 w 20520"/>
                <a:gd name="textAreaRight" fmla="*/ 20880 w 20520"/>
                <a:gd name="textAreaTop" fmla="*/ 0 h 403200"/>
                <a:gd name="textAreaBottom" fmla="*/ 403560 h 403200"/>
              </a:gdLst>
              <a:ahLst/>
              <a:rect l="textAreaLeft" t="textAreaTop" r="textAreaRight" b="textAreaBottom"/>
              <a:pathLst>
                <a:path w="20575" h="403225">
                  <a:moveTo>
                    <a:pt x="0" y="0"/>
                  </a:moveTo>
                  <a:lnTo>
                    <a:pt x="20574" y="0"/>
                  </a:lnTo>
                  <a:lnTo>
                    <a:pt x="20574" y="403224"/>
                  </a:lnTo>
                  <a:lnTo>
                    <a:pt x="0" y="403224"/>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4" name="Freeform 33"/>
            <p:cNvSpPr/>
            <p:nvPr/>
          </p:nvSpPr>
          <p:spPr>
            <a:xfrm>
              <a:off x="3326040" y="1415160"/>
              <a:ext cx="20520" cy="403200"/>
            </a:xfrm>
            <a:custGeom>
              <a:avLst/>
              <a:gdLst>
                <a:gd name="textAreaLeft" fmla="*/ 0 w 20520"/>
                <a:gd name="textAreaRight" fmla="*/ 20880 w 20520"/>
                <a:gd name="textAreaTop" fmla="*/ 0 h 403200"/>
                <a:gd name="textAreaBottom" fmla="*/ 403560 h 403200"/>
              </a:gdLst>
              <a:ahLst/>
              <a:rect l="textAreaLeft" t="textAreaTop" r="textAreaRight" b="textAreaBottom"/>
              <a:pathLst>
                <a:path w="20702" h="403225">
                  <a:moveTo>
                    <a:pt x="0" y="0"/>
                  </a:moveTo>
                  <a:lnTo>
                    <a:pt x="20701" y="0"/>
                  </a:lnTo>
                  <a:lnTo>
                    <a:pt x="20701" y="403224"/>
                  </a:lnTo>
                  <a:lnTo>
                    <a:pt x="0" y="403224"/>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5" name="Freeform 34"/>
            <p:cNvSpPr/>
            <p:nvPr/>
          </p:nvSpPr>
          <p:spPr>
            <a:xfrm>
              <a:off x="2520360" y="1415160"/>
              <a:ext cx="20520" cy="403200"/>
            </a:xfrm>
            <a:custGeom>
              <a:avLst/>
              <a:gdLst>
                <a:gd name="textAreaLeft" fmla="*/ 0 w 20520"/>
                <a:gd name="textAreaRight" fmla="*/ 20880 w 20520"/>
                <a:gd name="textAreaTop" fmla="*/ 0 h 403200"/>
                <a:gd name="textAreaBottom" fmla="*/ 403560 h 403200"/>
              </a:gdLst>
              <a:ahLst/>
              <a:rect l="textAreaLeft" t="textAreaTop" r="textAreaRight" b="textAreaBottom"/>
              <a:pathLst>
                <a:path w="20701" h="403225">
                  <a:moveTo>
                    <a:pt x="0" y="0"/>
                  </a:moveTo>
                  <a:lnTo>
                    <a:pt x="20700" y="0"/>
                  </a:lnTo>
                  <a:lnTo>
                    <a:pt x="20700" y="403224"/>
                  </a:lnTo>
                  <a:lnTo>
                    <a:pt x="0" y="403224"/>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6" name="Freeform 35"/>
            <p:cNvSpPr/>
            <p:nvPr/>
          </p:nvSpPr>
          <p:spPr>
            <a:xfrm>
              <a:off x="1761120" y="1415160"/>
              <a:ext cx="20520" cy="403200"/>
            </a:xfrm>
            <a:custGeom>
              <a:avLst/>
              <a:gdLst>
                <a:gd name="textAreaLeft" fmla="*/ 0 w 20520"/>
                <a:gd name="textAreaRight" fmla="*/ 20880 w 20520"/>
                <a:gd name="textAreaTop" fmla="*/ 0 h 403200"/>
                <a:gd name="textAreaBottom" fmla="*/ 403560 h 403200"/>
              </a:gdLst>
              <a:ahLst/>
              <a:rect l="textAreaLeft" t="textAreaTop" r="textAreaRight" b="textAreaBottom"/>
              <a:pathLst>
                <a:path w="20576" h="403225">
                  <a:moveTo>
                    <a:pt x="0" y="0"/>
                  </a:moveTo>
                  <a:lnTo>
                    <a:pt x="20575" y="0"/>
                  </a:lnTo>
                  <a:lnTo>
                    <a:pt x="20575" y="403224"/>
                  </a:lnTo>
                  <a:lnTo>
                    <a:pt x="0" y="403224"/>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7" name="Freeform 36"/>
            <p:cNvSpPr/>
            <p:nvPr/>
          </p:nvSpPr>
          <p:spPr>
            <a:xfrm>
              <a:off x="1001880" y="1415160"/>
              <a:ext cx="20520" cy="403200"/>
            </a:xfrm>
            <a:custGeom>
              <a:avLst/>
              <a:gdLst>
                <a:gd name="textAreaLeft" fmla="*/ 0 w 20520"/>
                <a:gd name="textAreaRight" fmla="*/ 20880 w 20520"/>
                <a:gd name="textAreaTop" fmla="*/ 0 h 403200"/>
                <a:gd name="textAreaBottom" fmla="*/ 403560 h 403200"/>
              </a:gdLst>
              <a:ahLst/>
              <a:rect l="textAreaLeft" t="textAreaTop" r="textAreaRight" b="textAreaBottom"/>
              <a:pathLst>
                <a:path w="20576" h="403225">
                  <a:moveTo>
                    <a:pt x="0" y="0"/>
                  </a:moveTo>
                  <a:lnTo>
                    <a:pt x="20575" y="0"/>
                  </a:lnTo>
                  <a:lnTo>
                    <a:pt x="20575" y="403224"/>
                  </a:lnTo>
                  <a:lnTo>
                    <a:pt x="0" y="403224"/>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8" name="Freeform 37"/>
            <p:cNvSpPr/>
            <p:nvPr/>
          </p:nvSpPr>
          <p:spPr>
            <a:xfrm>
              <a:off x="4875840" y="1398960"/>
              <a:ext cx="20520" cy="403200"/>
            </a:xfrm>
            <a:custGeom>
              <a:avLst/>
              <a:gdLst>
                <a:gd name="textAreaLeft" fmla="*/ 0 w 20520"/>
                <a:gd name="textAreaRight" fmla="*/ 20880 w 20520"/>
                <a:gd name="textAreaTop" fmla="*/ 0 h 403200"/>
                <a:gd name="textAreaBottom" fmla="*/ 403560 h 403200"/>
              </a:gdLst>
              <a:ahLst/>
              <a:rect l="textAreaLeft" t="textAreaTop" r="textAreaRight" b="textAreaBottom"/>
              <a:pathLst>
                <a:path w="20575" h="403099">
                  <a:moveTo>
                    <a:pt x="0" y="0"/>
                  </a:moveTo>
                  <a:lnTo>
                    <a:pt x="20574" y="0"/>
                  </a:lnTo>
                  <a:lnTo>
                    <a:pt x="20574" y="403098"/>
                  </a:lnTo>
                  <a:lnTo>
                    <a:pt x="0" y="40309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79" name="Oval 39"/>
          <p:cNvSpPr/>
          <p:nvPr/>
        </p:nvSpPr>
        <p:spPr>
          <a:xfrm>
            <a:off x="7505640" y="3048120"/>
            <a:ext cx="1046160" cy="1004760"/>
          </a:xfrm>
          <a:prstGeom prst="ellipse">
            <a:avLst/>
          </a:prstGeom>
          <a:solidFill>
            <a:srgbClr val="ff0000"/>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Oval 40"/>
          <p:cNvSpPr/>
          <p:nvPr/>
        </p:nvSpPr>
        <p:spPr>
          <a:xfrm>
            <a:off x="825480" y="4064040"/>
            <a:ext cx="1065240" cy="1022400"/>
          </a:xfrm>
          <a:prstGeom prst="ellipse">
            <a:avLst/>
          </a:prstGeom>
          <a:solidFill>
            <a:srgbClr val="0000ff"/>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TextBox 41"/>
          <p:cNvSpPr/>
          <p:nvPr/>
        </p:nvSpPr>
        <p:spPr>
          <a:xfrm>
            <a:off x="177840" y="152280"/>
            <a:ext cx="9753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ff"/>
                </a:solidFill>
                <a:latin typeface="Comic Sans MS - 48"/>
              </a:rPr>
              <a:t>Ch 9: Add and Subtract Integer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TextBox 1"/>
          <p:cNvSpPr/>
          <p:nvPr/>
        </p:nvSpPr>
        <p:spPr>
          <a:xfrm>
            <a:off x="101520" y="216000"/>
            <a:ext cx="1013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ff"/>
                </a:solidFill>
                <a:latin typeface="Comic Sans MS - 36"/>
              </a:rPr>
              <a:t>Example 1: Add Integers Using a Number Line</a:t>
            </a:r>
            <a:endParaRPr b="0" lang="en-US" sz="3600" spc="-1" strike="noStrike">
              <a:solidFill>
                <a:srgbClr val="000000"/>
              </a:solidFill>
              <a:latin typeface="Calibri"/>
            </a:endParaRPr>
          </a:p>
        </p:txBody>
      </p:sp>
      <p:sp>
        <p:nvSpPr>
          <p:cNvPr id="446" name="TextBox 2"/>
          <p:cNvSpPr/>
          <p:nvPr/>
        </p:nvSpPr>
        <p:spPr>
          <a:xfrm>
            <a:off x="965160" y="213372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a) (+4) + (+2) = ___</a:t>
            </a:r>
            <a:r>
              <a:rPr b="0" lang="en-US" sz="2400" spc="-1" strike="noStrike">
                <a:solidFill>
                  <a:srgbClr val="0000ff"/>
                </a:solidFill>
                <a:latin typeface="Comic Sans MS - 24"/>
              </a:rPr>
              <a:t>	</a:t>
            </a:r>
            <a:r>
              <a:rPr b="0" lang="en-US" sz="2400" spc="-1" strike="noStrike">
                <a:solidFill>
                  <a:srgbClr val="0000ff"/>
                </a:solidFill>
                <a:latin typeface="Comic Sans MS - 24"/>
              </a:rPr>
              <a:t>	</a:t>
            </a:r>
            <a:r>
              <a:rPr b="0" lang="en-US" sz="2400" spc="-1" strike="noStrike">
                <a:solidFill>
                  <a:srgbClr val="0000ff"/>
                </a:solidFill>
                <a:latin typeface="Comic Sans MS - 24"/>
              </a:rPr>
              <a:t>	</a:t>
            </a:r>
            <a:r>
              <a:rPr b="0" lang="en-US" sz="2400" spc="-1" strike="noStrike">
                <a:solidFill>
                  <a:srgbClr val="0000ff"/>
                </a:solidFill>
                <a:latin typeface="Comic Sans MS - 24"/>
              </a:rPr>
              <a:t>b) (-5) + (-3) = ___</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c) (+2) + (-4) = ___</a:t>
            </a:r>
            <a:r>
              <a:rPr b="0" lang="en-US" sz="2400" spc="-1" strike="noStrike">
                <a:solidFill>
                  <a:srgbClr val="0000ff"/>
                </a:solidFill>
                <a:latin typeface="Comic Sans MS - 24"/>
              </a:rPr>
              <a:t>	</a:t>
            </a:r>
            <a:r>
              <a:rPr b="0" lang="en-US" sz="2400" spc="-1" strike="noStrike">
                <a:solidFill>
                  <a:srgbClr val="0000ff"/>
                </a:solidFill>
                <a:latin typeface="Comic Sans MS - 24"/>
              </a:rPr>
              <a:t>	</a:t>
            </a:r>
            <a:r>
              <a:rPr b="0" lang="en-US" sz="2400" spc="-1" strike="noStrike">
                <a:solidFill>
                  <a:srgbClr val="0000ff"/>
                </a:solidFill>
                <a:latin typeface="Comic Sans MS - 24"/>
              </a:rPr>
              <a:t>	</a:t>
            </a:r>
            <a:r>
              <a:rPr b="0" lang="en-US" sz="2400" spc="-1" strike="noStrike">
                <a:solidFill>
                  <a:srgbClr val="0000ff"/>
                </a:solidFill>
                <a:latin typeface="Comic Sans MS - 24"/>
              </a:rPr>
              <a:t>d) (-6) + (+6) = ___</a:t>
            </a:r>
            <a:endParaRPr b="0" lang="en-US" sz="2400" spc="-1" strike="noStrike">
              <a:solidFill>
                <a:srgbClr val="000000"/>
              </a:solidFill>
              <a:latin typeface="Calibri"/>
            </a:endParaRPr>
          </a:p>
        </p:txBody>
      </p:sp>
      <p:grpSp>
        <p:nvGrpSpPr>
          <p:cNvPr id="447" name="Group 51"/>
          <p:cNvGrpSpPr/>
          <p:nvPr/>
        </p:nvGrpSpPr>
        <p:grpSpPr>
          <a:xfrm>
            <a:off x="355680" y="4462560"/>
            <a:ext cx="9250200" cy="825840"/>
            <a:chOff x="355680" y="4462560"/>
            <a:chExt cx="9250200" cy="825840"/>
          </a:xfrm>
        </p:grpSpPr>
        <p:sp>
          <p:nvSpPr>
            <p:cNvPr id="448" name="TextBox 3"/>
            <p:cNvSpPr/>
            <p:nvPr/>
          </p:nvSpPr>
          <p:spPr>
            <a:xfrm>
              <a:off x="5219640" y="4966200"/>
              <a:ext cx="5079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1</a:t>
              </a:r>
              <a:endParaRPr b="0" lang="en-US" sz="1500" spc="-1" strike="noStrike">
                <a:solidFill>
                  <a:srgbClr val="000000"/>
                </a:solidFill>
                <a:latin typeface="Calibri"/>
              </a:endParaRPr>
            </a:p>
          </p:txBody>
        </p:sp>
        <p:sp>
          <p:nvSpPr>
            <p:cNvPr id="449" name="TextBox 4"/>
            <p:cNvSpPr/>
            <p:nvPr/>
          </p:nvSpPr>
          <p:spPr>
            <a:xfrm>
              <a:off x="4825800" y="4966200"/>
              <a:ext cx="4572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0</a:t>
              </a:r>
              <a:endParaRPr b="0" lang="en-US" sz="1500" spc="-1" strike="noStrike">
                <a:solidFill>
                  <a:srgbClr val="000000"/>
                </a:solidFill>
                <a:latin typeface="Calibri"/>
              </a:endParaRPr>
            </a:p>
          </p:txBody>
        </p:sp>
        <p:sp>
          <p:nvSpPr>
            <p:cNvPr id="450" name="TextBox 5"/>
            <p:cNvSpPr/>
            <p:nvPr/>
          </p:nvSpPr>
          <p:spPr>
            <a:xfrm>
              <a:off x="5651280" y="4966200"/>
              <a:ext cx="3808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2</a:t>
              </a:r>
              <a:endParaRPr b="0" lang="en-US" sz="1500" spc="-1" strike="noStrike">
                <a:solidFill>
                  <a:srgbClr val="000000"/>
                </a:solidFill>
                <a:latin typeface="Calibri"/>
              </a:endParaRPr>
            </a:p>
          </p:txBody>
        </p:sp>
        <p:sp>
          <p:nvSpPr>
            <p:cNvPr id="451" name="TextBox 6"/>
            <p:cNvSpPr/>
            <p:nvPr/>
          </p:nvSpPr>
          <p:spPr>
            <a:xfrm>
              <a:off x="6032520" y="496620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3</a:t>
              </a:r>
              <a:endParaRPr b="0" lang="en-US" sz="1500" spc="-1" strike="noStrike">
                <a:solidFill>
                  <a:srgbClr val="000000"/>
                </a:solidFill>
                <a:latin typeface="Calibri"/>
              </a:endParaRPr>
            </a:p>
          </p:txBody>
        </p:sp>
        <p:sp>
          <p:nvSpPr>
            <p:cNvPr id="452" name="TextBox 7"/>
            <p:cNvSpPr/>
            <p:nvPr/>
          </p:nvSpPr>
          <p:spPr>
            <a:xfrm>
              <a:off x="6413400" y="496620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4</a:t>
              </a:r>
              <a:endParaRPr b="0" lang="en-US" sz="1500" spc="-1" strike="noStrike">
                <a:solidFill>
                  <a:srgbClr val="000000"/>
                </a:solidFill>
                <a:latin typeface="Calibri"/>
              </a:endParaRPr>
            </a:p>
          </p:txBody>
        </p:sp>
        <p:sp>
          <p:nvSpPr>
            <p:cNvPr id="453" name="TextBox 8"/>
            <p:cNvSpPr/>
            <p:nvPr/>
          </p:nvSpPr>
          <p:spPr>
            <a:xfrm>
              <a:off x="6832440" y="496620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5</a:t>
              </a:r>
              <a:endParaRPr b="0" lang="en-US" sz="1500" spc="-1" strike="noStrike">
                <a:solidFill>
                  <a:srgbClr val="000000"/>
                </a:solidFill>
                <a:latin typeface="Calibri"/>
              </a:endParaRPr>
            </a:p>
          </p:txBody>
        </p:sp>
        <p:sp>
          <p:nvSpPr>
            <p:cNvPr id="454" name="TextBox 9"/>
            <p:cNvSpPr/>
            <p:nvPr/>
          </p:nvSpPr>
          <p:spPr>
            <a:xfrm>
              <a:off x="7200720" y="496620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6</a:t>
              </a:r>
              <a:endParaRPr b="0" lang="en-US" sz="1500" spc="-1" strike="noStrike">
                <a:solidFill>
                  <a:srgbClr val="000000"/>
                </a:solidFill>
                <a:latin typeface="Calibri"/>
              </a:endParaRPr>
            </a:p>
          </p:txBody>
        </p:sp>
        <p:sp>
          <p:nvSpPr>
            <p:cNvPr id="455" name="TextBox 10"/>
            <p:cNvSpPr/>
            <p:nvPr/>
          </p:nvSpPr>
          <p:spPr>
            <a:xfrm>
              <a:off x="7607160" y="496620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7</a:t>
              </a:r>
              <a:endParaRPr b="0" lang="en-US" sz="1500" spc="-1" strike="noStrike">
                <a:solidFill>
                  <a:srgbClr val="000000"/>
                </a:solidFill>
                <a:latin typeface="Calibri"/>
              </a:endParaRPr>
            </a:p>
          </p:txBody>
        </p:sp>
        <p:sp>
          <p:nvSpPr>
            <p:cNvPr id="456" name="TextBox 11"/>
            <p:cNvSpPr/>
            <p:nvPr/>
          </p:nvSpPr>
          <p:spPr>
            <a:xfrm>
              <a:off x="8001000" y="494064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8</a:t>
              </a:r>
              <a:endParaRPr b="0" lang="en-US" sz="1500" spc="-1" strike="noStrike">
                <a:solidFill>
                  <a:srgbClr val="000000"/>
                </a:solidFill>
                <a:latin typeface="Calibri"/>
              </a:endParaRPr>
            </a:p>
          </p:txBody>
        </p:sp>
        <p:sp>
          <p:nvSpPr>
            <p:cNvPr id="457" name="TextBox 12"/>
            <p:cNvSpPr/>
            <p:nvPr/>
          </p:nvSpPr>
          <p:spPr>
            <a:xfrm>
              <a:off x="8394480" y="494064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9</a:t>
              </a:r>
              <a:endParaRPr b="0" lang="en-US" sz="1500" spc="-1" strike="noStrike">
                <a:solidFill>
                  <a:srgbClr val="000000"/>
                </a:solidFill>
                <a:latin typeface="Calibri"/>
              </a:endParaRPr>
            </a:p>
          </p:txBody>
        </p:sp>
        <p:sp>
          <p:nvSpPr>
            <p:cNvPr id="458" name="TextBox 13"/>
            <p:cNvSpPr/>
            <p:nvPr/>
          </p:nvSpPr>
          <p:spPr>
            <a:xfrm>
              <a:off x="8750160" y="4928040"/>
              <a:ext cx="660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 12"/>
                </a:rPr>
                <a:t>10</a:t>
              </a:r>
              <a:endParaRPr b="0" lang="en-US" sz="1400" spc="-1" strike="noStrike">
                <a:solidFill>
                  <a:srgbClr val="000000"/>
                </a:solidFill>
                <a:latin typeface="Calibri"/>
              </a:endParaRPr>
            </a:p>
          </p:txBody>
        </p:sp>
        <p:grpSp>
          <p:nvGrpSpPr>
            <p:cNvPr id="459" name="Group 19"/>
            <p:cNvGrpSpPr/>
            <p:nvPr/>
          </p:nvGrpSpPr>
          <p:grpSpPr>
            <a:xfrm>
              <a:off x="355680" y="4462560"/>
              <a:ext cx="9250200" cy="529560"/>
              <a:chOff x="355680" y="4462560"/>
              <a:chExt cx="9250200" cy="529560"/>
            </a:xfrm>
          </p:grpSpPr>
          <p:sp>
            <p:nvSpPr>
              <p:cNvPr id="460" name="Freeform 14"/>
              <p:cNvSpPr/>
              <p:nvPr/>
            </p:nvSpPr>
            <p:spPr>
              <a:xfrm>
                <a:off x="368280" y="4715280"/>
                <a:ext cx="9235440" cy="19800"/>
              </a:xfrm>
              <a:custGeom>
                <a:avLst/>
                <a:gdLst>
                  <a:gd name="textAreaLeft" fmla="*/ 0 w 9235440"/>
                  <a:gd name="textAreaRight" fmla="*/ 9235800 w 9235440"/>
                  <a:gd name="textAreaTop" fmla="*/ 0 h 19800"/>
                  <a:gd name="textAreaBottom" fmla="*/ 20160 h 19800"/>
                </a:gdLst>
                <a:ahLst/>
                <a:rect l="textAreaLeft" t="textAreaTop" r="textAreaRight" b="textAreaBottom"/>
                <a:pathLst>
                  <a:path w="9235694" h="20066">
                    <a:moveTo>
                      <a:pt x="0" y="20065"/>
                    </a:moveTo>
                    <a:lnTo>
                      <a:pt x="0" y="0"/>
                    </a:lnTo>
                    <a:lnTo>
                      <a:pt x="9235693" y="0"/>
                    </a:lnTo>
                    <a:lnTo>
                      <a:pt x="9235693" y="20065"/>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sp>
            <p:nvSpPr>
              <p:cNvPr id="461" name="Freeform 15"/>
              <p:cNvSpPr/>
              <p:nvPr/>
            </p:nvSpPr>
            <p:spPr>
              <a:xfrm>
                <a:off x="355680" y="4462560"/>
                <a:ext cx="266760" cy="276840"/>
              </a:xfrm>
              <a:custGeom>
                <a:avLst/>
                <a:gdLst>
                  <a:gd name="textAreaLeft" fmla="*/ 0 w 266760"/>
                  <a:gd name="textAreaRight" fmla="*/ 267120 w 266760"/>
                  <a:gd name="textAreaTop" fmla="*/ 0 h 276840"/>
                  <a:gd name="textAreaBottom" fmla="*/ 277200 h 276840"/>
                </a:gdLst>
                <a:ahLst/>
                <a:rect l="textAreaLeft" t="textAreaTop" r="textAreaRight" b="textAreaBottom"/>
                <a:pathLst>
                  <a:path w="266827" h="276733">
                    <a:moveTo>
                      <a:pt x="12954" y="276732"/>
                    </a:moveTo>
                    <a:lnTo>
                      <a:pt x="0" y="262636"/>
                    </a:lnTo>
                    <a:lnTo>
                      <a:pt x="253745" y="0"/>
                    </a:lnTo>
                    <a:lnTo>
                      <a:pt x="266826" y="1396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2" name="Freeform 16"/>
              <p:cNvSpPr/>
              <p:nvPr/>
            </p:nvSpPr>
            <p:spPr>
              <a:xfrm>
                <a:off x="359280" y="4714560"/>
                <a:ext cx="266760" cy="276840"/>
              </a:xfrm>
              <a:custGeom>
                <a:avLst/>
                <a:gdLst>
                  <a:gd name="textAreaLeft" fmla="*/ 0 w 266760"/>
                  <a:gd name="textAreaRight" fmla="*/ 267120 w 266760"/>
                  <a:gd name="textAreaTop" fmla="*/ 0 h 276840"/>
                  <a:gd name="textAreaBottom" fmla="*/ 277200 h 276840"/>
                </a:gdLst>
                <a:ahLst/>
                <a:rect l="textAreaLeft" t="textAreaTop" r="textAreaRight" b="textAreaBottom"/>
                <a:pathLst>
                  <a:path w="266827" h="276607">
                    <a:moveTo>
                      <a:pt x="0" y="13843"/>
                    </a:moveTo>
                    <a:lnTo>
                      <a:pt x="13080" y="0"/>
                    </a:lnTo>
                    <a:lnTo>
                      <a:pt x="266826" y="262510"/>
                    </a:lnTo>
                    <a:lnTo>
                      <a:pt x="253872" y="276606"/>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3" name="Freeform 17"/>
              <p:cNvSpPr/>
              <p:nvPr/>
            </p:nvSpPr>
            <p:spPr>
              <a:xfrm>
                <a:off x="9339120" y="4463640"/>
                <a:ext cx="266760" cy="276840"/>
              </a:xfrm>
              <a:custGeom>
                <a:avLst/>
                <a:gdLst>
                  <a:gd name="textAreaLeft" fmla="*/ 0 w 266760"/>
                  <a:gd name="textAreaRight" fmla="*/ 267120 w 266760"/>
                  <a:gd name="textAreaTop" fmla="*/ 0 h 276840"/>
                  <a:gd name="textAreaBottom" fmla="*/ 277200 h 276840"/>
                </a:gdLst>
                <a:ahLst/>
                <a:rect l="textAreaLeft" t="textAreaTop" r="textAreaRight" b="textAreaBottom"/>
                <a:pathLst>
                  <a:path w="266828" h="276607">
                    <a:moveTo>
                      <a:pt x="266827" y="262508"/>
                    </a:moveTo>
                    <a:lnTo>
                      <a:pt x="253872" y="276606"/>
                    </a:lnTo>
                    <a:lnTo>
                      <a:pt x="0" y="13969"/>
                    </a:lnTo>
                    <a:lnTo>
                      <a:pt x="12827"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4" name="Freeform 18"/>
              <p:cNvSpPr/>
              <p:nvPr/>
            </p:nvSpPr>
            <p:spPr>
              <a:xfrm>
                <a:off x="9335520" y="4715280"/>
                <a:ext cx="266760" cy="276840"/>
              </a:xfrm>
              <a:custGeom>
                <a:avLst/>
                <a:gdLst>
                  <a:gd name="textAreaLeft" fmla="*/ 0 w 266760"/>
                  <a:gd name="textAreaRight" fmla="*/ 267120 w 266760"/>
                  <a:gd name="textAreaTop" fmla="*/ 0 h 276840"/>
                  <a:gd name="textAreaBottom" fmla="*/ 277200 h 276840"/>
                </a:gdLst>
                <a:ahLst/>
                <a:rect l="textAreaLeft" t="textAreaTop" r="textAreaRight" b="textAreaBottom"/>
                <a:pathLst>
                  <a:path w="266954" h="276479">
                    <a:moveTo>
                      <a:pt x="253873" y="0"/>
                    </a:moveTo>
                    <a:lnTo>
                      <a:pt x="266953" y="13970"/>
                    </a:lnTo>
                    <a:lnTo>
                      <a:pt x="13080" y="276478"/>
                    </a:lnTo>
                    <a:lnTo>
                      <a:pt x="0" y="2625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465" name="Freeform 20"/>
            <p:cNvSpPr/>
            <p:nvPr/>
          </p:nvSpPr>
          <p:spPr>
            <a:xfrm>
              <a:off x="8935560" y="4479480"/>
              <a:ext cx="20880" cy="417240"/>
            </a:xfrm>
            <a:custGeom>
              <a:avLst/>
              <a:gdLst>
                <a:gd name="textAreaLeft" fmla="*/ 0 w 20880"/>
                <a:gd name="textAreaRight" fmla="*/ 21240 w 20880"/>
                <a:gd name="textAreaTop" fmla="*/ 0 h 417240"/>
                <a:gd name="textAreaBottom" fmla="*/ 417600 h 417240"/>
              </a:gdLst>
              <a:ahLst/>
              <a:rect l="textAreaLeft" t="textAreaTop" r="textAreaRight" b="textAreaBottom"/>
              <a:pathLst>
                <a:path w="21210" h="416943">
                  <a:moveTo>
                    <a:pt x="0" y="0"/>
                  </a:moveTo>
                  <a:lnTo>
                    <a:pt x="21209" y="0"/>
                  </a:lnTo>
                  <a:lnTo>
                    <a:pt x="21209"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6" name="Freeform 21"/>
            <p:cNvSpPr/>
            <p:nvPr/>
          </p:nvSpPr>
          <p:spPr>
            <a:xfrm>
              <a:off x="8156880" y="4479480"/>
              <a:ext cx="20880" cy="417240"/>
            </a:xfrm>
            <a:custGeom>
              <a:avLst/>
              <a:gdLst>
                <a:gd name="textAreaLeft" fmla="*/ 0 w 20880"/>
                <a:gd name="textAreaRight" fmla="*/ 21240 w 20880"/>
                <a:gd name="textAreaTop" fmla="*/ 0 h 417240"/>
                <a:gd name="textAreaBottom" fmla="*/ 417600 h 417240"/>
              </a:gdLst>
              <a:ahLst/>
              <a:rect l="textAreaLeft" t="textAreaTop" r="textAreaRight" b="textAreaBottom"/>
              <a:pathLst>
                <a:path w="21084" h="416943">
                  <a:moveTo>
                    <a:pt x="0" y="0"/>
                  </a:moveTo>
                  <a:lnTo>
                    <a:pt x="21083" y="0"/>
                  </a:lnTo>
                  <a:lnTo>
                    <a:pt x="21083"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7" name="Freeform 22"/>
            <p:cNvSpPr/>
            <p:nvPr/>
          </p:nvSpPr>
          <p:spPr>
            <a:xfrm>
              <a:off x="7330680" y="4479480"/>
              <a:ext cx="20880" cy="417240"/>
            </a:xfrm>
            <a:custGeom>
              <a:avLst/>
              <a:gdLst>
                <a:gd name="textAreaLeft" fmla="*/ 0 w 20880"/>
                <a:gd name="textAreaRight" fmla="*/ 21240 w 20880"/>
                <a:gd name="textAreaTop" fmla="*/ 0 h 417240"/>
                <a:gd name="textAreaBottom" fmla="*/ 417600 h 417240"/>
              </a:gdLst>
              <a:ahLst/>
              <a:rect l="textAreaLeft" t="textAreaTop" r="textAreaRight" b="textAreaBottom"/>
              <a:pathLst>
                <a:path w="21084" h="416943">
                  <a:moveTo>
                    <a:pt x="0" y="0"/>
                  </a:moveTo>
                  <a:lnTo>
                    <a:pt x="21083" y="0"/>
                  </a:lnTo>
                  <a:lnTo>
                    <a:pt x="21083"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8" name="Freeform 23"/>
            <p:cNvSpPr/>
            <p:nvPr/>
          </p:nvSpPr>
          <p:spPr>
            <a:xfrm>
              <a:off x="6552360" y="4479480"/>
              <a:ext cx="20880" cy="417240"/>
            </a:xfrm>
            <a:custGeom>
              <a:avLst/>
              <a:gdLst>
                <a:gd name="textAreaLeft" fmla="*/ 0 w 20880"/>
                <a:gd name="textAreaRight" fmla="*/ 21240 w 20880"/>
                <a:gd name="textAreaTop" fmla="*/ 0 h 417240"/>
                <a:gd name="textAreaBottom" fmla="*/ 417600 h 417240"/>
              </a:gdLst>
              <a:ahLst/>
              <a:rect l="textAreaLeft" t="textAreaTop" r="textAreaRight" b="textAreaBottom"/>
              <a:pathLst>
                <a:path w="21084" h="416943">
                  <a:moveTo>
                    <a:pt x="0" y="0"/>
                  </a:moveTo>
                  <a:lnTo>
                    <a:pt x="21083" y="0"/>
                  </a:lnTo>
                  <a:lnTo>
                    <a:pt x="21083"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9" name="Freeform 24"/>
            <p:cNvSpPr/>
            <p:nvPr/>
          </p:nvSpPr>
          <p:spPr>
            <a:xfrm>
              <a:off x="5773680" y="4479480"/>
              <a:ext cx="20880" cy="417240"/>
            </a:xfrm>
            <a:custGeom>
              <a:avLst/>
              <a:gdLst>
                <a:gd name="textAreaLeft" fmla="*/ 0 w 20880"/>
                <a:gd name="textAreaRight" fmla="*/ 21240 w 20880"/>
                <a:gd name="textAreaTop" fmla="*/ 0 h 417240"/>
                <a:gd name="textAreaBottom" fmla="*/ 417600 h 417240"/>
              </a:gdLst>
              <a:ahLst/>
              <a:rect l="textAreaLeft" t="textAreaTop" r="textAreaRight" b="textAreaBottom"/>
              <a:pathLst>
                <a:path w="21211" h="416943">
                  <a:moveTo>
                    <a:pt x="0" y="0"/>
                  </a:moveTo>
                  <a:lnTo>
                    <a:pt x="21210" y="0"/>
                  </a:lnTo>
                  <a:lnTo>
                    <a:pt x="21210"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0" name="Freeform 25"/>
            <p:cNvSpPr/>
            <p:nvPr/>
          </p:nvSpPr>
          <p:spPr>
            <a:xfrm>
              <a:off x="4152960" y="4496760"/>
              <a:ext cx="20880" cy="417240"/>
            </a:xfrm>
            <a:custGeom>
              <a:avLst/>
              <a:gdLst>
                <a:gd name="textAreaLeft" fmla="*/ 0 w 20880"/>
                <a:gd name="textAreaRight" fmla="*/ 21240 w 20880"/>
                <a:gd name="textAreaTop" fmla="*/ 0 h 417240"/>
                <a:gd name="textAreaBottom" fmla="*/ 417600 h 417240"/>
              </a:gdLst>
              <a:ahLst/>
              <a:rect l="textAreaLeft" t="textAreaTop" r="textAreaRight" b="textAreaBottom"/>
              <a:pathLst>
                <a:path w="21209" h="416943">
                  <a:moveTo>
                    <a:pt x="0" y="0"/>
                  </a:moveTo>
                  <a:lnTo>
                    <a:pt x="21208" y="0"/>
                  </a:lnTo>
                  <a:lnTo>
                    <a:pt x="21208"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1" name="Freeform 26"/>
            <p:cNvSpPr/>
            <p:nvPr/>
          </p:nvSpPr>
          <p:spPr>
            <a:xfrm>
              <a:off x="3374280" y="4496760"/>
              <a:ext cx="20880" cy="417240"/>
            </a:xfrm>
            <a:custGeom>
              <a:avLst/>
              <a:gdLst>
                <a:gd name="textAreaLeft" fmla="*/ 0 w 20880"/>
                <a:gd name="textAreaRight" fmla="*/ 20880 w 20880"/>
                <a:gd name="textAreaTop" fmla="*/ 0 h 417240"/>
                <a:gd name="textAreaBottom" fmla="*/ 417600 h 417240"/>
              </a:gdLst>
              <a:ahLst/>
              <a:rect l="textAreaLeft" t="textAreaTop" r="textAreaRight" b="textAreaBottom"/>
              <a:pathLst>
                <a:path w="21083" h="416943">
                  <a:moveTo>
                    <a:pt x="0" y="0"/>
                  </a:moveTo>
                  <a:lnTo>
                    <a:pt x="21082" y="0"/>
                  </a:lnTo>
                  <a:lnTo>
                    <a:pt x="21082"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2" name="Freeform 27"/>
            <p:cNvSpPr/>
            <p:nvPr/>
          </p:nvSpPr>
          <p:spPr>
            <a:xfrm>
              <a:off x="2548080" y="4496760"/>
              <a:ext cx="20880" cy="417240"/>
            </a:xfrm>
            <a:custGeom>
              <a:avLst/>
              <a:gdLst>
                <a:gd name="textAreaLeft" fmla="*/ 0 w 20880"/>
                <a:gd name="textAreaRight" fmla="*/ 21240 w 20880"/>
                <a:gd name="textAreaTop" fmla="*/ 0 h 417240"/>
                <a:gd name="textAreaBottom" fmla="*/ 417600 h 417240"/>
              </a:gdLst>
              <a:ahLst/>
              <a:rect l="textAreaLeft" t="textAreaTop" r="textAreaRight" b="textAreaBottom"/>
              <a:pathLst>
                <a:path w="21211" h="416943">
                  <a:moveTo>
                    <a:pt x="0" y="0"/>
                  </a:moveTo>
                  <a:lnTo>
                    <a:pt x="21210" y="0"/>
                  </a:lnTo>
                  <a:lnTo>
                    <a:pt x="21210"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3" name="Freeform 28"/>
            <p:cNvSpPr/>
            <p:nvPr/>
          </p:nvSpPr>
          <p:spPr>
            <a:xfrm>
              <a:off x="1769760" y="4496760"/>
              <a:ext cx="20880" cy="417240"/>
            </a:xfrm>
            <a:custGeom>
              <a:avLst/>
              <a:gdLst>
                <a:gd name="textAreaLeft" fmla="*/ 0 w 20880"/>
                <a:gd name="textAreaRight" fmla="*/ 21240 w 20880"/>
                <a:gd name="textAreaTop" fmla="*/ 0 h 417240"/>
                <a:gd name="textAreaBottom" fmla="*/ 417600 h 417240"/>
              </a:gdLst>
              <a:ahLst/>
              <a:rect l="textAreaLeft" t="textAreaTop" r="textAreaRight" b="textAreaBottom"/>
              <a:pathLst>
                <a:path w="21082" h="416943">
                  <a:moveTo>
                    <a:pt x="0" y="0"/>
                  </a:moveTo>
                  <a:lnTo>
                    <a:pt x="21081" y="0"/>
                  </a:lnTo>
                  <a:lnTo>
                    <a:pt x="21081"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4" name="Freeform 29"/>
            <p:cNvSpPr/>
            <p:nvPr/>
          </p:nvSpPr>
          <p:spPr>
            <a:xfrm>
              <a:off x="991080" y="4496760"/>
              <a:ext cx="20880" cy="417240"/>
            </a:xfrm>
            <a:custGeom>
              <a:avLst/>
              <a:gdLst>
                <a:gd name="textAreaLeft" fmla="*/ 0 w 20880"/>
                <a:gd name="textAreaRight" fmla="*/ 21240 w 20880"/>
                <a:gd name="textAreaTop" fmla="*/ 0 h 417240"/>
                <a:gd name="textAreaBottom" fmla="*/ 417600 h 417240"/>
              </a:gdLst>
              <a:ahLst/>
              <a:rect l="textAreaLeft" t="textAreaTop" r="textAreaRight" b="textAreaBottom"/>
              <a:pathLst>
                <a:path w="21082" h="416943">
                  <a:moveTo>
                    <a:pt x="0" y="0"/>
                  </a:moveTo>
                  <a:lnTo>
                    <a:pt x="21081" y="0"/>
                  </a:lnTo>
                  <a:lnTo>
                    <a:pt x="21081"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5" name="Freeform 30"/>
            <p:cNvSpPr/>
            <p:nvPr/>
          </p:nvSpPr>
          <p:spPr>
            <a:xfrm>
              <a:off x="4963320" y="4479480"/>
              <a:ext cx="20880" cy="417240"/>
            </a:xfrm>
            <a:custGeom>
              <a:avLst/>
              <a:gdLst>
                <a:gd name="textAreaLeft" fmla="*/ 0 w 20880"/>
                <a:gd name="textAreaRight" fmla="*/ 20880 w 20880"/>
                <a:gd name="textAreaTop" fmla="*/ 0 h 417240"/>
                <a:gd name="textAreaBottom" fmla="*/ 417600 h 417240"/>
              </a:gdLst>
              <a:ahLst/>
              <a:rect l="textAreaLeft" t="textAreaTop" r="textAreaRight" b="textAreaBottom"/>
              <a:pathLst>
                <a:path w="21083" h="416943">
                  <a:moveTo>
                    <a:pt x="0" y="0"/>
                  </a:moveTo>
                  <a:lnTo>
                    <a:pt x="21082" y="0"/>
                  </a:lnTo>
                  <a:lnTo>
                    <a:pt x="21082"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6" name="Freeform 31"/>
            <p:cNvSpPr/>
            <p:nvPr/>
          </p:nvSpPr>
          <p:spPr>
            <a:xfrm>
              <a:off x="2993040" y="4496760"/>
              <a:ext cx="20880" cy="417240"/>
            </a:xfrm>
            <a:custGeom>
              <a:avLst/>
              <a:gdLst>
                <a:gd name="textAreaLeft" fmla="*/ 0 w 20880"/>
                <a:gd name="textAreaRight" fmla="*/ 21240 w 20880"/>
                <a:gd name="textAreaTop" fmla="*/ 0 h 417240"/>
                <a:gd name="textAreaBottom" fmla="*/ 417600 h 417240"/>
              </a:gdLst>
              <a:ahLst/>
              <a:rect l="textAreaLeft" t="textAreaTop" r="textAreaRight" b="textAreaBottom"/>
              <a:pathLst>
                <a:path w="21211" h="416943">
                  <a:moveTo>
                    <a:pt x="0" y="0"/>
                  </a:moveTo>
                  <a:lnTo>
                    <a:pt x="21210" y="0"/>
                  </a:lnTo>
                  <a:lnTo>
                    <a:pt x="21210"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7" name="Freeform 32"/>
            <p:cNvSpPr/>
            <p:nvPr/>
          </p:nvSpPr>
          <p:spPr>
            <a:xfrm>
              <a:off x="2166840" y="4496760"/>
              <a:ext cx="20880" cy="417240"/>
            </a:xfrm>
            <a:custGeom>
              <a:avLst/>
              <a:gdLst>
                <a:gd name="textAreaLeft" fmla="*/ 0 w 20880"/>
                <a:gd name="textAreaRight" fmla="*/ 21240 w 20880"/>
                <a:gd name="textAreaTop" fmla="*/ 0 h 417240"/>
                <a:gd name="textAreaBottom" fmla="*/ 417600 h 417240"/>
              </a:gdLst>
              <a:ahLst/>
              <a:rect l="textAreaLeft" t="textAreaTop" r="textAreaRight" b="textAreaBottom"/>
              <a:pathLst>
                <a:path w="21082" h="416943">
                  <a:moveTo>
                    <a:pt x="0" y="0"/>
                  </a:moveTo>
                  <a:lnTo>
                    <a:pt x="21081" y="0"/>
                  </a:lnTo>
                  <a:lnTo>
                    <a:pt x="21081"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8" name="Freeform 33"/>
            <p:cNvSpPr/>
            <p:nvPr/>
          </p:nvSpPr>
          <p:spPr>
            <a:xfrm>
              <a:off x="1388160" y="4496760"/>
              <a:ext cx="20880" cy="417240"/>
            </a:xfrm>
            <a:custGeom>
              <a:avLst/>
              <a:gdLst>
                <a:gd name="textAreaLeft" fmla="*/ 0 w 20880"/>
                <a:gd name="textAreaRight" fmla="*/ 21240 w 20880"/>
                <a:gd name="textAreaTop" fmla="*/ 0 h 417240"/>
                <a:gd name="textAreaBottom" fmla="*/ 417600 h 417240"/>
              </a:gdLst>
              <a:ahLst/>
              <a:rect l="textAreaLeft" t="textAreaTop" r="textAreaRight" b="textAreaBottom"/>
              <a:pathLst>
                <a:path w="21210" h="416943">
                  <a:moveTo>
                    <a:pt x="0" y="0"/>
                  </a:moveTo>
                  <a:lnTo>
                    <a:pt x="21209" y="0"/>
                  </a:lnTo>
                  <a:lnTo>
                    <a:pt x="21209"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9" name="Freeform 34"/>
            <p:cNvSpPr/>
            <p:nvPr/>
          </p:nvSpPr>
          <p:spPr>
            <a:xfrm>
              <a:off x="6139080" y="4479480"/>
              <a:ext cx="20880" cy="417240"/>
            </a:xfrm>
            <a:custGeom>
              <a:avLst/>
              <a:gdLst>
                <a:gd name="textAreaLeft" fmla="*/ 0 w 20880"/>
                <a:gd name="textAreaRight" fmla="*/ 20880 w 20880"/>
                <a:gd name="textAreaTop" fmla="*/ 0 h 417240"/>
                <a:gd name="textAreaBottom" fmla="*/ 417600 h 417240"/>
              </a:gdLst>
              <a:ahLst/>
              <a:rect l="textAreaLeft" t="textAreaTop" r="textAreaRight" b="textAreaBottom"/>
              <a:pathLst>
                <a:path w="21083" h="416943">
                  <a:moveTo>
                    <a:pt x="0" y="0"/>
                  </a:moveTo>
                  <a:lnTo>
                    <a:pt x="21082" y="0"/>
                  </a:lnTo>
                  <a:lnTo>
                    <a:pt x="21082"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0" name="Freeform 35"/>
            <p:cNvSpPr/>
            <p:nvPr/>
          </p:nvSpPr>
          <p:spPr>
            <a:xfrm>
              <a:off x="5360400" y="4479480"/>
              <a:ext cx="20880" cy="417240"/>
            </a:xfrm>
            <a:custGeom>
              <a:avLst/>
              <a:gdLst>
                <a:gd name="textAreaLeft" fmla="*/ 0 w 20880"/>
                <a:gd name="textAreaRight" fmla="*/ 20880 w 20880"/>
                <a:gd name="textAreaTop" fmla="*/ 0 h 417240"/>
                <a:gd name="textAreaBottom" fmla="*/ 417600 h 417240"/>
              </a:gdLst>
              <a:ahLst/>
              <a:rect l="textAreaLeft" t="textAreaTop" r="textAreaRight" b="textAreaBottom"/>
              <a:pathLst>
                <a:path w="21083" h="416943">
                  <a:moveTo>
                    <a:pt x="0" y="0"/>
                  </a:moveTo>
                  <a:lnTo>
                    <a:pt x="21082" y="0"/>
                  </a:lnTo>
                  <a:lnTo>
                    <a:pt x="21082"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1" name="Freeform 36"/>
            <p:cNvSpPr/>
            <p:nvPr/>
          </p:nvSpPr>
          <p:spPr>
            <a:xfrm>
              <a:off x="4534200" y="4479480"/>
              <a:ext cx="20880" cy="417240"/>
            </a:xfrm>
            <a:custGeom>
              <a:avLst/>
              <a:gdLst>
                <a:gd name="textAreaLeft" fmla="*/ 0 w 20880"/>
                <a:gd name="textAreaRight" fmla="*/ 20880 w 20880"/>
                <a:gd name="textAreaTop" fmla="*/ 0 h 417240"/>
                <a:gd name="textAreaBottom" fmla="*/ 417600 h 417240"/>
              </a:gdLst>
              <a:ahLst/>
              <a:rect l="textAreaLeft" t="textAreaTop" r="textAreaRight" b="textAreaBottom"/>
              <a:pathLst>
                <a:path w="21083" h="416943">
                  <a:moveTo>
                    <a:pt x="0" y="0"/>
                  </a:moveTo>
                  <a:lnTo>
                    <a:pt x="21082" y="0"/>
                  </a:lnTo>
                  <a:lnTo>
                    <a:pt x="21082"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2" name="Freeform 37"/>
            <p:cNvSpPr/>
            <p:nvPr/>
          </p:nvSpPr>
          <p:spPr>
            <a:xfrm>
              <a:off x="3755880" y="4479480"/>
              <a:ext cx="20880" cy="417240"/>
            </a:xfrm>
            <a:custGeom>
              <a:avLst/>
              <a:gdLst>
                <a:gd name="textAreaLeft" fmla="*/ 0 w 20880"/>
                <a:gd name="textAreaRight" fmla="*/ 20880 w 20880"/>
                <a:gd name="textAreaTop" fmla="*/ 0 h 417240"/>
                <a:gd name="textAreaBottom" fmla="*/ 417600 h 417240"/>
              </a:gdLst>
              <a:ahLst/>
              <a:rect l="textAreaLeft" t="textAreaTop" r="textAreaRight" b="textAreaBottom"/>
              <a:pathLst>
                <a:path w="21083" h="416943">
                  <a:moveTo>
                    <a:pt x="0" y="0"/>
                  </a:moveTo>
                  <a:lnTo>
                    <a:pt x="21082" y="0"/>
                  </a:lnTo>
                  <a:lnTo>
                    <a:pt x="21082"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3" name="Freeform 38"/>
            <p:cNvSpPr/>
            <p:nvPr/>
          </p:nvSpPr>
          <p:spPr>
            <a:xfrm>
              <a:off x="8506440" y="4496760"/>
              <a:ext cx="20880" cy="417240"/>
            </a:xfrm>
            <a:custGeom>
              <a:avLst/>
              <a:gdLst>
                <a:gd name="textAreaLeft" fmla="*/ 0 w 20880"/>
                <a:gd name="textAreaRight" fmla="*/ 21240 w 20880"/>
                <a:gd name="textAreaTop" fmla="*/ 0 h 417240"/>
                <a:gd name="textAreaBottom" fmla="*/ 417600 h 417240"/>
              </a:gdLst>
              <a:ahLst/>
              <a:rect l="textAreaLeft" t="textAreaTop" r="textAreaRight" b="textAreaBottom"/>
              <a:pathLst>
                <a:path w="21210" h="416943">
                  <a:moveTo>
                    <a:pt x="0" y="0"/>
                  </a:moveTo>
                  <a:lnTo>
                    <a:pt x="21209" y="0"/>
                  </a:lnTo>
                  <a:lnTo>
                    <a:pt x="21209"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4" name="Freeform 39"/>
            <p:cNvSpPr/>
            <p:nvPr/>
          </p:nvSpPr>
          <p:spPr>
            <a:xfrm>
              <a:off x="7728120" y="4496760"/>
              <a:ext cx="20880" cy="417240"/>
            </a:xfrm>
            <a:custGeom>
              <a:avLst/>
              <a:gdLst>
                <a:gd name="textAreaLeft" fmla="*/ 0 w 20880"/>
                <a:gd name="textAreaRight" fmla="*/ 21240 w 20880"/>
                <a:gd name="textAreaTop" fmla="*/ 0 h 417240"/>
                <a:gd name="textAreaBottom" fmla="*/ 417600 h 417240"/>
              </a:gdLst>
              <a:ahLst/>
              <a:rect l="textAreaLeft" t="textAreaTop" r="textAreaRight" b="textAreaBottom"/>
              <a:pathLst>
                <a:path w="21082" h="416943">
                  <a:moveTo>
                    <a:pt x="0" y="0"/>
                  </a:moveTo>
                  <a:lnTo>
                    <a:pt x="21081" y="0"/>
                  </a:lnTo>
                  <a:lnTo>
                    <a:pt x="21081"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5" name="Freeform 40"/>
            <p:cNvSpPr/>
            <p:nvPr/>
          </p:nvSpPr>
          <p:spPr>
            <a:xfrm>
              <a:off x="6949440" y="4496760"/>
              <a:ext cx="20880" cy="417240"/>
            </a:xfrm>
            <a:custGeom>
              <a:avLst/>
              <a:gdLst>
                <a:gd name="textAreaLeft" fmla="*/ 0 w 20880"/>
                <a:gd name="textAreaRight" fmla="*/ 21240 w 20880"/>
                <a:gd name="textAreaTop" fmla="*/ 0 h 417240"/>
                <a:gd name="textAreaBottom" fmla="*/ 417600 h 417240"/>
              </a:gdLst>
              <a:ahLst/>
              <a:rect l="textAreaLeft" t="textAreaTop" r="textAreaRight" b="textAreaBottom"/>
              <a:pathLst>
                <a:path w="21082" h="416943">
                  <a:moveTo>
                    <a:pt x="0" y="0"/>
                  </a:moveTo>
                  <a:lnTo>
                    <a:pt x="21081" y="0"/>
                  </a:lnTo>
                  <a:lnTo>
                    <a:pt x="21081"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6" name="TextBox 41"/>
            <p:cNvSpPr/>
            <p:nvPr/>
          </p:nvSpPr>
          <p:spPr>
            <a:xfrm>
              <a:off x="4343400" y="4966200"/>
              <a:ext cx="5079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1</a:t>
              </a:r>
              <a:endParaRPr b="0" lang="en-US" sz="1500" spc="-1" strike="noStrike">
                <a:solidFill>
                  <a:srgbClr val="000000"/>
                </a:solidFill>
                <a:latin typeface="Calibri"/>
              </a:endParaRPr>
            </a:p>
          </p:txBody>
        </p:sp>
        <p:sp>
          <p:nvSpPr>
            <p:cNvPr id="487" name="TextBox 42"/>
            <p:cNvSpPr/>
            <p:nvPr/>
          </p:nvSpPr>
          <p:spPr>
            <a:xfrm>
              <a:off x="3949560" y="4966200"/>
              <a:ext cx="3808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2</a:t>
              </a:r>
              <a:endParaRPr b="0" lang="en-US" sz="1500" spc="-1" strike="noStrike">
                <a:solidFill>
                  <a:srgbClr val="000000"/>
                </a:solidFill>
                <a:latin typeface="Calibri"/>
              </a:endParaRPr>
            </a:p>
          </p:txBody>
        </p:sp>
        <p:sp>
          <p:nvSpPr>
            <p:cNvPr id="488" name="TextBox 43"/>
            <p:cNvSpPr/>
            <p:nvPr/>
          </p:nvSpPr>
          <p:spPr>
            <a:xfrm>
              <a:off x="3543120" y="496620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3</a:t>
              </a:r>
              <a:endParaRPr b="0" lang="en-US" sz="1500" spc="-1" strike="noStrike">
                <a:solidFill>
                  <a:srgbClr val="000000"/>
                </a:solidFill>
                <a:latin typeface="Calibri"/>
              </a:endParaRPr>
            </a:p>
          </p:txBody>
        </p:sp>
        <p:sp>
          <p:nvSpPr>
            <p:cNvPr id="489" name="TextBox 44"/>
            <p:cNvSpPr/>
            <p:nvPr/>
          </p:nvSpPr>
          <p:spPr>
            <a:xfrm>
              <a:off x="3149640" y="496620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4</a:t>
              </a:r>
              <a:endParaRPr b="0" lang="en-US" sz="1500" spc="-1" strike="noStrike">
                <a:solidFill>
                  <a:srgbClr val="000000"/>
                </a:solidFill>
                <a:latin typeface="Calibri"/>
              </a:endParaRPr>
            </a:p>
          </p:txBody>
        </p:sp>
        <p:sp>
          <p:nvSpPr>
            <p:cNvPr id="490" name="TextBox 45"/>
            <p:cNvSpPr/>
            <p:nvPr/>
          </p:nvSpPr>
          <p:spPr>
            <a:xfrm>
              <a:off x="2781360" y="496620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5</a:t>
              </a:r>
              <a:endParaRPr b="0" lang="en-US" sz="1500" spc="-1" strike="noStrike">
                <a:solidFill>
                  <a:srgbClr val="000000"/>
                </a:solidFill>
                <a:latin typeface="Calibri"/>
              </a:endParaRPr>
            </a:p>
          </p:txBody>
        </p:sp>
        <p:sp>
          <p:nvSpPr>
            <p:cNvPr id="491" name="TextBox 46"/>
            <p:cNvSpPr/>
            <p:nvPr/>
          </p:nvSpPr>
          <p:spPr>
            <a:xfrm>
              <a:off x="2361960" y="496620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6</a:t>
              </a:r>
              <a:endParaRPr b="0" lang="en-US" sz="1500" spc="-1" strike="noStrike">
                <a:solidFill>
                  <a:srgbClr val="000000"/>
                </a:solidFill>
                <a:latin typeface="Calibri"/>
              </a:endParaRPr>
            </a:p>
          </p:txBody>
        </p:sp>
        <p:sp>
          <p:nvSpPr>
            <p:cNvPr id="492" name="TextBox 47"/>
            <p:cNvSpPr/>
            <p:nvPr/>
          </p:nvSpPr>
          <p:spPr>
            <a:xfrm>
              <a:off x="1955880" y="496620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7</a:t>
              </a:r>
              <a:endParaRPr b="0" lang="en-US" sz="1500" spc="-1" strike="noStrike">
                <a:solidFill>
                  <a:srgbClr val="000000"/>
                </a:solidFill>
                <a:latin typeface="Calibri"/>
              </a:endParaRPr>
            </a:p>
          </p:txBody>
        </p:sp>
        <p:sp>
          <p:nvSpPr>
            <p:cNvPr id="493" name="TextBox 48"/>
            <p:cNvSpPr/>
            <p:nvPr/>
          </p:nvSpPr>
          <p:spPr>
            <a:xfrm>
              <a:off x="1574640" y="496620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8</a:t>
              </a:r>
              <a:endParaRPr b="0" lang="en-US" sz="1500" spc="-1" strike="noStrike">
                <a:solidFill>
                  <a:srgbClr val="000000"/>
                </a:solidFill>
                <a:latin typeface="Calibri"/>
              </a:endParaRPr>
            </a:p>
          </p:txBody>
        </p:sp>
        <p:sp>
          <p:nvSpPr>
            <p:cNvPr id="494" name="TextBox 49"/>
            <p:cNvSpPr/>
            <p:nvPr/>
          </p:nvSpPr>
          <p:spPr>
            <a:xfrm>
              <a:off x="1181160" y="496620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9</a:t>
              </a:r>
              <a:endParaRPr b="0" lang="en-US" sz="1500" spc="-1" strike="noStrike">
                <a:solidFill>
                  <a:srgbClr val="000000"/>
                </a:solidFill>
                <a:latin typeface="Calibri"/>
              </a:endParaRPr>
            </a:p>
          </p:txBody>
        </p:sp>
        <p:sp>
          <p:nvSpPr>
            <p:cNvPr id="495" name="TextBox 50"/>
            <p:cNvSpPr/>
            <p:nvPr/>
          </p:nvSpPr>
          <p:spPr>
            <a:xfrm>
              <a:off x="711000" y="4966200"/>
              <a:ext cx="660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 12"/>
                </a:rPr>
                <a:t>-10</a:t>
              </a:r>
              <a:endParaRPr b="0" lang="en-US" sz="1400" spc="-1" strike="noStrike">
                <a:solidFill>
                  <a:srgbClr val="000000"/>
                </a:solidFill>
                <a:latin typeface="Calibri"/>
              </a:endParaRPr>
            </a:p>
          </p:txBody>
        </p:sp>
      </p:grpSp>
      <p:sp>
        <p:nvSpPr>
          <p:cNvPr id="496" name="Straight Connector 52"/>
          <p:cNvSpPr/>
          <p:nvPr/>
        </p:nvSpPr>
        <p:spPr>
          <a:xfrm>
            <a:off x="673200" y="5854680"/>
            <a:ext cx="571320" cy="0"/>
          </a:xfrm>
          <a:prstGeom prst="line">
            <a:avLst/>
          </a:prstGeom>
          <a:ln w="3816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7" name="Straight Connector 53"/>
          <p:cNvSpPr/>
          <p:nvPr/>
        </p:nvSpPr>
        <p:spPr>
          <a:xfrm flipH="1">
            <a:off x="685800" y="6235560"/>
            <a:ext cx="596880" cy="0"/>
          </a:xfrm>
          <a:prstGeom prst="line">
            <a:avLst/>
          </a:prstGeom>
          <a:ln w="3816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8" name="TextBox 54"/>
          <p:cNvSpPr/>
          <p:nvPr/>
        </p:nvSpPr>
        <p:spPr>
          <a:xfrm>
            <a:off x="2057400" y="6781680"/>
            <a:ext cx="485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ff"/>
                </a:solidFill>
                <a:latin typeface="Comic Sans MS - 24"/>
              </a:rPr>
              <a:t>Try "Show You Know" on p. 318</a:t>
            </a:r>
            <a:endParaRPr b="0" lang="en-US" sz="2400" spc="-1" strike="noStrike">
              <a:solidFill>
                <a:srgbClr val="000000"/>
              </a:solidFill>
              <a:latin typeface="Calibri"/>
            </a:endParaRPr>
          </a:p>
        </p:txBody>
      </p:sp>
      <p:sp>
        <p:nvSpPr>
          <p:cNvPr id="499" name="Straight Connector 55"/>
          <p:cNvSpPr/>
          <p:nvPr/>
        </p:nvSpPr>
        <p:spPr>
          <a:xfrm>
            <a:off x="2971800" y="3975120"/>
            <a:ext cx="1104840" cy="0"/>
          </a:xfrm>
          <a:prstGeom prst="line">
            <a:avLst/>
          </a:prstGeom>
          <a:ln w="3816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0" name="Straight Connector 56"/>
          <p:cNvSpPr/>
          <p:nvPr/>
        </p:nvSpPr>
        <p:spPr>
          <a:xfrm flipH="1">
            <a:off x="3009960" y="4280040"/>
            <a:ext cx="1968480" cy="0"/>
          </a:xfrm>
          <a:prstGeom prst="line">
            <a:avLst/>
          </a:prstGeom>
          <a:ln w="3816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TextBox 1"/>
          <p:cNvSpPr/>
          <p:nvPr/>
        </p:nvSpPr>
        <p:spPr>
          <a:xfrm>
            <a:off x="241200" y="317520"/>
            <a:ext cx="779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ff"/>
                </a:solidFill>
                <a:latin typeface="Comic Sans MS - 36"/>
              </a:rPr>
              <a:t>Example 2: Apply Integer Addition</a:t>
            </a:r>
            <a:endParaRPr b="0" lang="en-US" sz="3600" spc="-1" strike="noStrike">
              <a:solidFill>
                <a:srgbClr val="000000"/>
              </a:solidFill>
              <a:latin typeface="Calibri"/>
            </a:endParaRPr>
          </a:p>
        </p:txBody>
      </p:sp>
      <p:sp>
        <p:nvSpPr>
          <p:cNvPr id="502" name="TextBox 2"/>
          <p:cNvSpPr/>
          <p:nvPr/>
        </p:nvSpPr>
        <p:spPr>
          <a:xfrm>
            <a:off x="241200" y="1270080"/>
            <a:ext cx="3835440" cy="2896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The temperature in Yellowknife, NWT, one morning in October was </a:t>
            </a:r>
            <a:endParaRPr b="0" lang="en-US" sz="23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4</a:t>
            </a:r>
            <a:r>
              <a:rPr b="1" lang="en-US" sz="2300" spc="-1" strike="noStrike">
                <a:solidFill>
                  <a:srgbClr val="0000ff"/>
                </a:solidFill>
                <a:latin typeface="Calibri - 24"/>
              </a:rPr>
              <a:t>˚</a:t>
            </a:r>
            <a:r>
              <a:rPr b="0" lang="en-US" sz="2300" spc="-1" strike="noStrike">
                <a:solidFill>
                  <a:srgbClr val="0000ff"/>
                </a:solidFill>
                <a:latin typeface="Comic Sans MS - 24"/>
              </a:rPr>
              <a:t>C.  The temperature increased by 9</a:t>
            </a:r>
            <a:r>
              <a:rPr b="1" lang="en-US" sz="2300" spc="-1" strike="noStrike">
                <a:solidFill>
                  <a:srgbClr val="0000ff"/>
                </a:solidFill>
                <a:latin typeface="Calibri - 24"/>
              </a:rPr>
              <a:t>˚</a:t>
            </a:r>
            <a:r>
              <a:rPr b="0" lang="en-US" sz="2300" spc="-1" strike="noStrike">
                <a:solidFill>
                  <a:srgbClr val="0000ff"/>
                </a:solidFill>
                <a:latin typeface="Comic Sans MS - 24"/>
              </a:rPr>
              <a:t>C to reach the high temperature for </a:t>
            </a:r>
            <a:r>
              <a:rPr b="0" lang="en-CA" sz="2300" spc="-1" strike="noStrike">
                <a:solidFill>
                  <a:srgbClr val="0000ff"/>
                </a:solidFill>
                <a:latin typeface="Comic Sans MS - 24"/>
              </a:rPr>
              <a:t>that day.  What was the high temperature?</a:t>
            </a:r>
            <a:endParaRPr b="0" lang="en-US" sz="2300" spc="-1" strike="noStrike">
              <a:solidFill>
                <a:srgbClr val="000000"/>
              </a:solidFill>
              <a:latin typeface="Calibri"/>
            </a:endParaRPr>
          </a:p>
        </p:txBody>
      </p:sp>
      <p:grpSp>
        <p:nvGrpSpPr>
          <p:cNvPr id="503" name="Group 31"/>
          <p:cNvGrpSpPr/>
          <p:nvPr/>
        </p:nvGrpSpPr>
        <p:grpSpPr>
          <a:xfrm>
            <a:off x="5997600" y="1050480"/>
            <a:ext cx="618840" cy="5854680"/>
            <a:chOff x="5997600" y="1050480"/>
            <a:chExt cx="618840" cy="5854680"/>
          </a:xfrm>
        </p:grpSpPr>
        <p:sp>
          <p:nvSpPr>
            <p:cNvPr id="504" name="TextBox 3"/>
            <p:cNvSpPr/>
            <p:nvPr/>
          </p:nvSpPr>
          <p:spPr>
            <a:xfrm rot="16200000">
              <a:off x="6169680" y="437040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1</a:t>
              </a:r>
              <a:endParaRPr b="0" lang="en-US" sz="1000" spc="-1" strike="noStrike">
                <a:solidFill>
                  <a:srgbClr val="000000"/>
                </a:solidFill>
                <a:latin typeface="Calibri"/>
              </a:endParaRPr>
            </a:p>
          </p:txBody>
        </p:sp>
        <p:sp>
          <p:nvSpPr>
            <p:cNvPr id="505" name="TextBox 4"/>
            <p:cNvSpPr/>
            <p:nvPr/>
          </p:nvSpPr>
          <p:spPr>
            <a:xfrm rot="16200000">
              <a:off x="6204600" y="3814560"/>
              <a:ext cx="330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0</a:t>
              </a:r>
              <a:endParaRPr b="0" lang="en-US" sz="1000" spc="-1" strike="noStrike">
                <a:solidFill>
                  <a:srgbClr val="000000"/>
                </a:solidFill>
                <a:latin typeface="Calibri"/>
              </a:endParaRPr>
            </a:p>
          </p:txBody>
        </p:sp>
        <p:sp>
          <p:nvSpPr>
            <p:cNvPr id="506" name="TextBox 5"/>
            <p:cNvSpPr/>
            <p:nvPr/>
          </p:nvSpPr>
          <p:spPr>
            <a:xfrm rot="16200000">
              <a:off x="6292440" y="4780440"/>
              <a:ext cx="27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2</a:t>
              </a:r>
              <a:endParaRPr b="0" lang="en-US" sz="900" spc="-1" strike="noStrike">
                <a:solidFill>
                  <a:srgbClr val="000000"/>
                </a:solidFill>
                <a:latin typeface="Calibri"/>
              </a:endParaRPr>
            </a:p>
          </p:txBody>
        </p:sp>
        <p:sp>
          <p:nvSpPr>
            <p:cNvPr id="507" name="TextBox 6"/>
            <p:cNvSpPr/>
            <p:nvPr/>
          </p:nvSpPr>
          <p:spPr>
            <a:xfrm rot="16200000">
              <a:off x="6179400" y="531324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3</a:t>
              </a:r>
              <a:endParaRPr b="0" lang="en-US" sz="1000" spc="-1" strike="noStrike">
                <a:solidFill>
                  <a:srgbClr val="000000"/>
                </a:solidFill>
                <a:latin typeface="Calibri"/>
              </a:endParaRPr>
            </a:p>
          </p:txBody>
        </p:sp>
        <p:sp>
          <p:nvSpPr>
            <p:cNvPr id="508" name="TextBox 7"/>
            <p:cNvSpPr/>
            <p:nvPr/>
          </p:nvSpPr>
          <p:spPr>
            <a:xfrm rot="16200000">
              <a:off x="6179400" y="578304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4</a:t>
              </a:r>
              <a:endParaRPr b="0" lang="en-US" sz="1000" spc="-1" strike="noStrike">
                <a:solidFill>
                  <a:srgbClr val="000000"/>
                </a:solidFill>
                <a:latin typeface="Calibri"/>
              </a:endParaRPr>
            </a:p>
          </p:txBody>
        </p:sp>
        <p:sp>
          <p:nvSpPr>
            <p:cNvPr id="509" name="TextBox 8"/>
            <p:cNvSpPr/>
            <p:nvPr/>
          </p:nvSpPr>
          <p:spPr>
            <a:xfrm rot="16200000">
              <a:off x="6179400" y="625284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5</a:t>
              </a:r>
              <a:endParaRPr b="0" lang="en-US" sz="1000" spc="-1" strike="noStrike">
                <a:solidFill>
                  <a:srgbClr val="000000"/>
                </a:solidFill>
                <a:latin typeface="Calibri"/>
              </a:endParaRPr>
            </a:p>
          </p:txBody>
        </p:sp>
        <p:sp>
          <p:nvSpPr>
            <p:cNvPr id="510" name="TextBox 9"/>
            <p:cNvSpPr/>
            <p:nvPr/>
          </p:nvSpPr>
          <p:spPr>
            <a:xfrm rot="16200000">
              <a:off x="6169680" y="33037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1</a:t>
              </a:r>
              <a:endParaRPr b="0" lang="en-US" sz="1000" spc="-1" strike="noStrike">
                <a:solidFill>
                  <a:srgbClr val="000000"/>
                </a:solidFill>
                <a:latin typeface="Calibri"/>
              </a:endParaRPr>
            </a:p>
          </p:txBody>
        </p:sp>
        <p:sp>
          <p:nvSpPr>
            <p:cNvPr id="511" name="TextBox 10"/>
            <p:cNvSpPr/>
            <p:nvPr/>
          </p:nvSpPr>
          <p:spPr>
            <a:xfrm rot="16200000">
              <a:off x="6224040" y="2842920"/>
              <a:ext cx="279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2</a:t>
              </a:r>
              <a:endParaRPr b="0" lang="en-US" sz="900" spc="-1" strike="noStrike">
                <a:solidFill>
                  <a:srgbClr val="000000"/>
                </a:solidFill>
                <a:latin typeface="Calibri"/>
              </a:endParaRPr>
            </a:p>
          </p:txBody>
        </p:sp>
        <p:sp>
          <p:nvSpPr>
            <p:cNvPr id="512" name="TextBox 11"/>
            <p:cNvSpPr/>
            <p:nvPr/>
          </p:nvSpPr>
          <p:spPr>
            <a:xfrm rot="16200000">
              <a:off x="6192000" y="231624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3</a:t>
              </a:r>
              <a:endParaRPr b="0" lang="en-US" sz="1000" spc="-1" strike="noStrike">
                <a:solidFill>
                  <a:srgbClr val="000000"/>
                </a:solidFill>
                <a:latin typeface="Calibri"/>
              </a:endParaRPr>
            </a:p>
          </p:txBody>
        </p:sp>
        <p:sp>
          <p:nvSpPr>
            <p:cNvPr id="513" name="TextBox 12"/>
            <p:cNvSpPr/>
            <p:nvPr/>
          </p:nvSpPr>
          <p:spPr>
            <a:xfrm rot="16200000">
              <a:off x="6192000" y="183384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4</a:t>
              </a:r>
              <a:endParaRPr b="0" lang="en-US" sz="1000" spc="-1" strike="noStrike">
                <a:solidFill>
                  <a:srgbClr val="000000"/>
                </a:solidFill>
                <a:latin typeface="Calibri"/>
              </a:endParaRPr>
            </a:p>
          </p:txBody>
        </p:sp>
        <p:sp>
          <p:nvSpPr>
            <p:cNvPr id="514" name="TextBox 13"/>
            <p:cNvSpPr/>
            <p:nvPr/>
          </p:nvSpPr>
          <p:spPr>
            <a:xfrm rot="16200000">
              <a:off x="6179400" y="135144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5</a:t>
              </a:r>
              <a:endParaRPr b="0" lang="en-US" sz="1000" spc="-1" strike="noStrike">
                <a:solidFill>
                  <a:srgbClr val="000000"/>
                </a:solidFill>
                <a:latin typeface="Calibri"/>
              </a:endParaRPr>
            </a:p>
          </p:txBody>
        </p:sp>
        <p:grpSp>
          <p:nvGrpSpPr>
            <p:cNvPr id="515" name="Group 19"/>
            <p:cNvGrpSpPr/>
            <p:nvPr/>
          </p:nvGrpSpPr>
          <p:grpSpPr>
            <a:xfrm>
              <a:off x="5997600" y="1050480"/>
              <a:ext cx="262440" cy="5854680"/>
              <a:chOff x="5997600" y="1050480"/>
              <a:chExt cx="262440" cy="5854680"/>
            </a:xfrm>
          </p:grpSpPr>
          <p:sp>
            <p:nvSpPr>
              <p:cNvPr id="516" name="Freeform 14"/>
              <p:cNvSpPr/>
              <p:nvPr/>
            </p:nvSpPr>
            <p:spPr>
              <a:xfrm rot="16200000">
                <a:off x="3205080" y="3969720"/>
                <a:ext cx="5845320" cy="9720"/>
              </a:xfrm>
              <a:custGeom>
                <a:avLst/>
                <a:gdLst>
                  <a:gd name="textAreaLeft" fmla="*/ 0 w 5845320"/>
                  <a:gd name="textAreaRight" fmla="*/ 5845680 w 5845320"/>
                  <a:gd name="textAreaTop" fmla="*/ 0 h 9720"/>
                  <a:gd name="textAreaBottom" fmla="*/ 10080 h 9720"/>
                </a:gdLst>
                <a:ahLst/>
                <a:rect l="textAreaLeft" t="textAreaTop" r="textAreaRight" b="textAreaBottom"/>
                <a:pathLst>
                  <a:path w="5846318" h="9907">
                    <a:moveTo>
                      <a:pt x="0" y="9906"/>
                    </a:moveTo>
                    <a:lnTo>
                      <a:pt x="0" y="0"/>
                    </a:lnTo>
                    <a:lnTo>
                      <a:pt x="5846317" y="0"/>
                    </a:lnTo>
                    <a:lnTo>
                      <a:pt x="5846317" y="9906"/>
                    </a:lnTo>
                    <a:close/>
                  </a:path>
                </a:pathLst>
              </a:custGeom>
              <a:solidFill>
                <a:srgbClr val="000000"/>
              </a:solidFill>
              <a:ln w="0">
                <a:solidFill>
                  <a:srgbClr val="000000"/>
                </a:solidFill>
              </a:ln>
            </p:spPr>
            <p:style>
              <a:lnRef idx="0"/>
              <a:fillRef idx="0"/>
              <a:effectRef idx="0"/>
              <a:fontRef idx="minor"/>
            </p:style>
            <p:txBody>
              <a:bodyPr lIns="90000" rIns="90000" tIns="-36720" bIns="-36720" anchor="ctr">
                <a:noAutofit/>
              </a:bodyPr>
              <a:p>
                <a:endParaRPr b="0" lang="en-US" sz="1800" spc="-1" strike="noStrike">
                  <a:solidFill>
                    <a:srgbClr val="000000"/>
                  </a:solidFill>
                  <a:latin typeface="Calibri"/>
                </a:endParaRPr>
              </a:p>
            </p:txBody>
          </p:sp>
          <p:sp>
            <p:nvSpPr>
              <p:cNvPr id="517" name="Freeform 15"/>
              <p:cNvSpPr/>
              <p:nvPr/>
            </p:nvSpPr>
            <p:spPr>
              <a:xfrm rot="16200000">
                <a:off x="5981760" y="6752160"/>
                <a:ext cx="168840" cy="137160"/>
              </a:xfrm>
              <a:custGeom>
                <a:avLst/>
                <a:gdLst>
                  <a:gd name="textAreaLeft" fmla="*/ 0 w 168840"/>
                  <a:gd name="textAreaRight" fmla="*/ 169200 w 168840"/>
                  <a:gd name="textAreaTop" fmla="*/ 0 h 137160"/>
                  <a:gd name="textAreaBottom" fmla="*/ 137520 h 137160"/>
                </a:gdLst>
                <a:ahLst/>
                <a:rect l="textAreaLeft" t="textAreaTop" r="textAreaRight" b="textAreaBottom"/>
                <a:pathLst>
                  <a:path w="168911" h="137034">
                    <a:moveTo>
                      <a:pt x="8255" y="137033"/>
                    </a:moveTo>
                    <a:lnTo>
                      <a:pt x="0" y="130048"/>
                    </a:lnTo>
                    <a:lnTo>
                      <a:pt x="160655" y="0"/>
                    </a:lnTo>
                    <a:lnTo>
                      <a:pt x="168910" y="685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18" name="Freeform 16"/>
              <p:cNvSpPr/>
              <p:nvPr/>
            </p:nvSpPr>
            <p:spPr>
              <a:xfrm rot="16200000">
                <a:off x="6106680" y="6750000"/>
                <a:ext cx="168480" cy="137160"/>
              </a:xfrm>
              <a:custGeom>
                <a:avLst/>
                <a:gdLst>
                  <a:gd name="textAreaLeft" fmla="*/ 0 w 168480"/>
                  <a:gd name="textAreaRight" fmla="*/ 168840 w 168480"/>
                  <a:gd name="textAreaTop" fmla="*/ 0 h 137160"/>
                  <a:gd name="textAreaBottom" fmla="*/ 137520 h 137160"/>
                </a:gdLst>
                <a:ahLst/>
                <a:rect l="textAreaLeft" t="textAreaTop" r="textAreaRight" b="textAreaBottom"/>
                <a:pathLst>
                  <a:path w="168784" h="137034">
                    <a:moveTo>
                      <a:pt x="0" y="6858"/>
                    </a:moveTo>
                    <a:lnTo>
                      <a:pt x="8255" y="0"/>
                    </a:lnTo>
                    <a:lnTo>
                      <a:pt x="168783" y="130048"/>
                    </a:lnTo>
                    <a:lnTo>
                      <a:pt x="160782" y="1370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19" name="Freeform 17"/>
              <p:cNvSpPr/>
              <p:nvPr/>
            </p:nvSpPr>
            <p:spPr>
              <a:xfrm rot="16200000">
                <a:off x="5982120" y="1065960"/>
                <a:ext cx="168480" cy="137160"/>
              </a:xfrm>
              <a:custGeom>
                <a:avLst/>
                <a:gdLst>
                  <a:gd name="textAreaLeft" fmla="*/ 0 w 168480"/>
                  <a:gd name="textAreaRight" fmla="*/ 168840 w 168480"/>
                  <a:gd name="textAreaTop" fmla="*/ 0 h 137160"/>
                  <a:gd name="textAreaBottom" fmla="*/ 137520 h 137160"/>
                </a:gdLst>
                <a:ahLst/>
                <a:rect l="textAreaLeft" t="textAreaTop" r="textAreaRight" b="textAreaBottom"/>
                <a:pathLst>
                  <a:path w="168784" h="136907">
                    <a:moveTo>
                      <a:pt x="168783" y="130048"/>
                    </a:moveTo>
                    <a:lnTo>
                      <a:pt x="160655" y="136906"/>
                    </a:lnTo>
                    <a:lnTo>
                      <a:pt x="0" y="6985"/>
                    </a:lnTo>
                    <a:lnTo>
                      <a:pt x="8001"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0" name="Freeform 18"/>
              <p:cNvSpPr/>
              <p:nvPr/>
            </p:nvSpPr>
            <p:spPr>
              <a:xfrm rot="16200000">
                <a:off x="6107040" y="1068480"/>
                <a:ext cx="168840" cy="137160"/>
              </a:xfrm>
              <a:custGeom>
                <a:avLst/>
                <a:gdLst>
                  <a:gd name="textAreaLeft" fmla="*/ 0 w 168840"/>
                  <a:gd name="textAreaRight" fmla="*/ 169200 w 168840"/>
                  <a:gd name="textAreaTop" fmla="*/ 0 h 137160"/>
                  <a:gd name="textAreaBottom" fmla="*/ 137520 h 137160"/>
                </a:gdLst>
                <a:ahLst/>
                <a:rect l="textAreaLeft" t="textAreaTop" r="textAreaRight" b="textAreaBottom"/>
                <a:pathLst>
                  <a:path w="168912" h="136907">
                    <a:moveTo>
                      <a:pt x="160655" y="0"/>
                    </a:moveTo>
                    <a:lnTo>
                      <a:pt x="168911" y="6985"/>
                    </a:lnTo>
                    <a:lnTo>
                      <a:pt x="8255" y="136906"/>
                    </a:lnTo>
                    <a:lnTo>
                      <a:pt x="0" y="13004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521" name="Freeform 20"/>
            <p:cNvSpPr/>
            <p:nvPr/>
          </p:nvSpPr>
          <p:spPr>
            <a:xfrm rot="16200000">
              <a:off x="6115320" y="1465920"/>
              <a:ext cx="12960" cy="199440"/>
            </a:xfrm>
            <a:custGeom>
              <a:avLst/>
              <a:gdLst>
                <a:gd name="textAreaLeft" fmla="*/ 0 w 12960"/>
                <a:gd name="textAreaRight" fmla="*/ 13320 w 12960"/>
                <a:gd name="textAreaTop" fmla="*/ 0 h 199440"/>
                <a:gd name="textAreaBottom" fmla="*/ 199800 h 199440"/>
              </a:gdLst>
              <a:ahLst/>
              <a:rect l="textAreaLeft" t="textAreaTop" r="textAreaRight" b="textAreaBottom"/>
              <a:pathLst>
                <a:path w="13083" h="199010">
                  <a:moveTo>
                    <a:pt x="0" y="0"/>
                  </a:moveTo>
                  <a:lnTo>
                    <a:pt x="13082" y="0"/>
                  </a:lnTo>
                  <a:lnTo>
                    <a:pt x="13082" y="199009"/>
                  </a:lnTo>
                  <a:lnTo>
                    <a:pt x="0" y="19900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2" name="Freeform 21"/>
            <p:cNvSpPr/>
            <p:nvPr/>
          </p:nvSpPr>
          <p:spPr>
            <a:xfrm rot="16200000">
              <a:off x="6115320" y="1941120"/>
              <a:ext cx="12600" cy="199440"/>
            </a:xfrm>
            <a:custGeom>
              <a:avLst/>
              <a:gdLst>
                <a:gd name="textAreaLeft" fmla="*/ 0 w 12600"/>
                <a:gd name="textAreaRight" fmla="*/ 12960 w 12600"/>
                <a:gd name="textAreaTop" fmla="*/ 0 h 199440"/>
                <a:gd name="textAreaBottom" fmla="*/ 199800 h 199440"/>
              </a:gdLst>
              <a:ahLst/>
              <a:rect l="textAreaLeft" t="textAreaTop" r="textAreaRight" b="textAreaBottom"/>
              <a:pathLst>
                <a:path w="12828" h="199010">
                  <a:moveTo>
                    <a:pt x="0" y="0"/>
                  </a:moveTo>
                  <a:lnTo>
                    <a:pt x="12827" y="0"/>
                  </a:lnTo>
                  <a:lnTo>
                    <a:pt x="12827" y="199009"/>
                  </a:lnTo>
                  <a:lnTo>
                    <a:pt x="0" y="19900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3" name="Freeform 22"/>
            <p:cNvSpPr/>
            <p:nvPr/>
          </p:nvSpPr>
          <p:spPr>
            <a:xfrm rot="16200000">
              <a:off x="6115320" y="2445480"/>
              <a:ext cx="12960" cy="199440"/>
            </a:xfrm>
            <a:custGeom>
              <a:avLst/>
              <a:gdLst>
                <a:gd name="textAreaLeft" fmla="*/ 0 w 12960"/>
                <a:gd name="textAreaRight" fmla="*/ 13320 w 12960"/>
                <a:gd name="textAreaTop" fmla="*/ 0 h 199440"/>
                <a:gd name="textAreaBottom" fmla="*/ 199800 h 199440"/>
              </a:gdLst>
              <a:ahLst/>
              <a:rect l="textAreaLeft" t="textAreaTop" r="textAreaRight" b="textAreaBottom"/>
              <a:pathLst>
                <a:path w="13083" h="199010">
                  <a:moveTo>
                    <a:pt x="0" y="0"/>
                  </a:moveTo>
                  <a:lnTo>
                    <a:pt x="13082" y="0"/>
                  </a:lnTo>
                  <a:lnTo>
                    <a:pt x="13082" y="199009"/>
                  </a:lnTo>
                  <a:lnTo>
                    <a:pt x="0" y="19900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4" name="Freeform 23"/>
            <p:cNvSpPr/>
            <p:nvPr/>
          </p:nvSpPr>
          <p:spPr>
            <a:xfrm rot="16200000">
              <a:off x="6115320" y="2920680"/>
              <a:ext cx="12600" cy="199080"/>
            </a:xfrm>
            <a:custGeom>
              <a:avLst/>
              <a:gdLst>
                <a:gd name="textAreaLeft" fmla="*/ 0 w 12600"/>
                <a:gd name="textAreaRight" fmla="*/ 12960 w 12600"/>
                <a:gd name="textAreaTop" fmla="*/ 0 h 199080"/>
                <a:gd name="textAreaBottom" fmla="*/ 199440 h 199080"/>
              </a:gdLst>
              <a:ahLst/>
              <a:rect l="textAreaLeft" t="textAreaTop" r="textAreaRight" b="textAreaBottom"/>
              <a:pathLst>
                <a:path w="12829" h="198883">
                  <a:moveTo>
                    <a:pt x="0" y="0"/>
                  </a:moveTo>
                  <a:lnTo>
                    <a:pt x="12828" y="0"/>
                  </a:lnTo>
                  <a:lnTo>
                    <a:pt x="12828" y="198882"/>
                  </a:lnTo>
                  <a:lnTo>
                    <a:pt x="0" y="19888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5" name="Freeform 24"/>
            <p:cNvSpPr/>
            <p:nvPr/>
          </p:nvSpPr>
          <p:spPr>
            <a:xfrm rot="16200000">
              <a:off x="6115320" y="3395520"/>
              <a:ext cx="12600" cy="199440"/>
            </a:xfrm>
            <a:custGeom>
              <a:avLst/>
              <a:gdLst>
                <a:gd name="textAreaLeft" fmla="*/ 0 w 12600"/>
                <a:gd name="textAreaRight" fmla="*/ 12960 w 12600"/>
                <a:gd name="textAreaTop" fmla="*/ 0 h 199440"/>
                <a:gd name="textAreaBottom" fmla="*/ 199800 h 199440"/>
              </a:gdLst>
              <a:ahLst/>
              <a:rect l="textAreaLeft" t="textAreaTop" r="textAreaRight" b="textAreaBottom"/>
              <a:pathLst>
                <a:path w="12828" h="199010">
                  <a:moveTo>
                    <a:pt x="0" y="0"/>
                  </a:moveTo>
                  <a:lnTo>
                    <a:pt x="12827" y="0"/>
                  </a:lnTo>
                  <a:lnTo>
                    <a:pt x="12827" y="199009"/>
                  </a:lnTo>
                  <a:lnTo>
                    <a:pt x="0" y="19900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6" name="Freeform 25"/>
            <p:cNvSpPr/>
            <p:nvPr/>
          </p:nvSpPr>
          <p:spPr>
            <a:xfrm rot="16200000">
              <a:off x="6123600" y="4384800"/>
              <a:ext cx="12600" cy="199440"/>
            </a:xfrm>
            <a:custGeom>
              <a:avLst/>
              <a:gdLst>
                <a:gd name="textAreaLeft" fmla="*/ 0 w 12600"/>
                <a:gd name="textAreaRight" fmla="*/ 12960 w 12600"/>
                <a:gd name="textAreaTop" fmla="*/ 0 h 199440"/>
                <a:gd name="textAreaBottom" fmla="*/ 199800 h 199440"/>
              </a:gdLst>
              <a:ahLst/>
              <a:rect l="textAreaLeft" t="textAreaTop" r="textAreaRight" b="textAreaBottom"/>
              <a:pathLst>
                <a:path w="12955" h="199137">
                  <a:moveTo>
                    <a:pt x="0" y="0"/>
                  </a:moveTo>
                  <a:lnTo>
                    <a:pt x="12954" y="0"/>
                  </a:lnTo>
                  <a:lnTo>
                    <a:pt x="12954" y="199136"/>
                  </a:lnTo>
                  <a:lnTo>
                    <a:pt x="0" y="199136"/>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7" name="Freeform 26"/>
            <p:cNvSpPr/>
            <p:nvPr/>
          </p:nvSpPr>
          <p:spPr>
            <a:xfrm rot="16200000">
              <a:off x="6123600" y="4859640"/>
              <a:ext cx="12600" cy="199440"/>
            </a:xfrm>
            <a:custGeom>
              <a:avLst/>
              <a:gdLst>
                <a:gd name="textAreaLeft" fmla="*/ 0 w 12600"/>
                <a:gd name="textAreaRight" fmla="*/ 12960 w 12600"/>
                <a:gd name="textAreaTop" fmla="*/ 0 h 199440"/>
                <a:gd name="textAreaBottom" fmla="*/ 199800 h 199440"/>
              </a:gdLst>
              <a:ahLst/>
              <a:rect l="textAreaLeft" t="textAreaTop" r="textAreaRight" b="textAreaBottom"/>
              <a:pathLst>
                <a:path w="12828" h="199010">
                  <a:moveTo>
                    <a:pt x="0" y="0"/>
                  </a:moveTo>
                  <a:lnTo>
                    <a:pt x="12827" y="0"/>
                  </a:lnTo>
                  <a:lnTo>
                    <a:pt x="12827" y="199009"/>
                  </a:lnTo>
                  <a:lnTo>
                    <a:pt x="0" y="19900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8" name="Freeform 27"/>
            <p:cNvSpPr/>
            <p:nvPr/>
          </p:nvSpPr>
          <p:spPr>
            <a:xfrm rot="16200000">
              <a:off x="6123600" y="5364000"/>
              <a:ext cx="12600" cy="199440"/>
            </a:xfrm>
            <a:custGeom>
              <a:avLst/>
              <a:gdLst>
                <a:gd name="textAreaLeft" fmla="*/ 0 w 12600"/>
                <a:gd name="textAreaRight" fmla="*/ 12960 w 12600"/>
                <a:gd name="textAreaTop" fmla="*/ 0 h 199440"/>
                <a:gd name="textAreaBottom" fmla="*/ 199800 h 199440"/>
              </a:gdLst>
              <a:ahLst/>
              <a:rect l="textAreaLeft" t="textAreaTop" r="textAreaRight" b="textAreaBottom"/>
              <a:pathLst>
                <a:path w="12828" h="199136">
                  <a:moveTo>
                    <a:pt x="0" y="0"/>
                  </a:moveTo>
                  <a:lnTo>
                    <a:pt x="12827" y="0"/>
                  </a:lnTo>
                  <a:lnTo>
                    <a:pt x="12827" y="199135"/>
                  </a:lnTo>
                  <a:lnTo>
                    <a:pt x="0" y="199135"/>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9" name="Freeform 28"/>
            <p:cNvSpPr/>
            <p:nvPr/>
          </p:nvSpPr>
          <p:spPr>
            <a:xfrm rot="16200000">
              <a:off x="6123600" y="5839200"/>
              <a:ext cx="12960" cy="199440"/>
            </a:xfrm>
            <a:custGeom>
              <a:avLst/>
              <a:gdLst>
                <a:gd name="textAreaLeft" fmla="*/ 0 w 12960"/>
                <a:gd name="textAreaRight" fmla="*/ 13320 w 12960"/>
                <a:gd name="textAreaTop" fmla="*/ 0 h 199440"/>
                <a:gd name="textAreaBottom" fmla="*/ 199800 h 199440"/>
              </a:gdLst>
              <a:ahLst/>
              <a:rect l="textAreaLeft" t="textAreaTop" r="textAreaRight" b="textAreaBottom"/>
              <a:pathLst>
                <a:path w="13082" h="199010">
                  <a:moveTo>
                    <a:pt x="0" y="0"/>
                  </a:moveTo>
                  <a:lnTo>
                    <a:pt x="13081" y="0"/>
                  </a:lnTo>
                  <a:lnTo>
                    <a:pt x="13081" y="199009"/>
                  </a:lnTo>
                  <a:lnTo>
                    <a:pt x="0" y="19900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0" name="Freeform 29"/>
            <p:cNvSpPr/>
            <p:nvPr/>
          </p:nvSpPr>
          <p:spPr>
            <a:xfrm rot="16200000">
              <a:off x="6123600" y="6314400"/>
              <a:ext cx="12960" cy="199440"/>
            </a:xfrm>
            <a:custGeom>
              <a:avLst/>
              <a:gdLst>
                <a:gd name="textAreaLeft" fmla="*/ 0 w 12960"/>
                <a:gd name="textAreaRight" fmla="*/ 13320 w 12960"/>
                <a:gd name="textAreaTop" fmla="*/ 0 h 199440"/>
                <a:gd name="textAreaBottom" fmla="*/ 199800 h 199440"/>
              </a:gdLst>
              <a:ahLst/>
              <a:rect l="textAreaLeft" t="textAreaTop" r="textAreaRight" b="textAreaBottom"/>
              <a:pathLst>
                <a:path w="13082" h="199010">
                  <a:moveTo>
                    <a:pt x="0" y="0"/>
                  </a:moveTo>
                  <a:lnTo>
                    <a:pt x="13081" y="0"/>
                  </a:lnTo>
                  <a:lnTo>
                    <a:pt x="13081" y="199009"/>
                  </a:lnTo>
                  <a:lnTo>
                    <a:pt x="0" y="19900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1" name="Freeform 30"/>
            <p:cNvSpPr/>
            <p:nvPr/>
          </p:nvSpPr>
          <p:spPr>
            <a:xfrm rot="16200000">
              <a:off x="6115320" y="3890160"/>
              <a:ext cx="12600" cy="199440"/>
            </a:xfrm>
            <a:custGeom>
              <a:avLst/>
              <a:gdLst>
                <a:gd name="textAreaLeft" fmla="*/ 0 w 12600"/>
                <a:gd name="textAreaRight" fmla="*/ 12960 w 12600"/>
                <a:gd name="textAreaTop" fmla="*/ 0 h 199440"/>
                <a:gd name="textAreaBottom" fmla="*/ 199800 h 199440"/>
              </a:gdLst>
              <a:ahLst/>
              <a:rect l="textAreaLeft" t="textAreaTop" r="textAreaRight" b="textAreaBottom"/>
              <a:pathLst>
                <a:path w="12828" h="199010">
                  <a:moveTo>
                    <a:pt x="0" y="0"/>
                  </a:moveTo>
                  <a:lnTo>
                    <a:pt x="12827" y="0"/>
                  </a:lnTo>
                  <a:lnTo>
                    <a:pt x="12827" y="199009"/>
                  </a:lnTo>
                  <a:lnTo>
                    <a:pt x="0" y="19900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532" name="Straight Connector 32"/>
          <p:cNvSpPr/>
          <p:nvPr/>
        </p:nvSpPr>
        <p:spPr>
          <a:xfrm flipV="1">
            <a:off x="8267760" y="6019920"/>
            <a:ext cx="0" cy="596880"/>
          </a:xfrm>
          <a:prstGeom prst="line">
            <a:avLst/>
          </a:prstGeom>
          <a:ln w="3816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3" name="Straight Connector 33"/>
          <p:cNvSpPr/>
          <p:nvPr/>
        </p:nvSpPr>
        <p:spPr>
          <a:xfrm>
            <a:off x="8559720" y="6006960"/>
            <a:ext cx="0" cy="584280"/>
          </a:xfrm>
          <a:prstGeom prst="line">
            <a:avLst/>
          </a:prstGeom>
          <a:ln w="3816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TextBox 1"/>
          <p:cNvSpPr/>
          <p:nvPr/>
        </p:nvSpPr>
        <p:spPr>
          <a:xfrm>
            <a:off x="254160" y="1193760"/>
            <a:ext cx="9347040" cy="149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You can use an arrow on a horizontal or vertical number line to represent an integer.  The direction of the arrow shows the sign of the integer.  The length of the arrow shows the value of the numeral of the integer.</a:t>
            </a:r>
            <a:endParaRPr b="0" lang="en-US" sz="2300" spc="-1" strike="noStrike">
              <a:solidFill>
                <a:srgbClr val="000000"/>
              </a:solidFill>
              <a:latin typeface="Calibri"/>
            </a:endParaRPr>
          </a:p>
        </p:txBody>
      </p:sp>
      <p:grpSp>
        <p:nvGrpSpPr>
          <p:cNvPr id="535" name="Group 30"/>
          <p:cNvGrpSpPr/>
          <p:nvPr/>
        </p:nvGrpSpPr>
        <p:grpSpPr>
          <a:xfrm>
            <a:off x="351000" y="3672000"/>
            <a:ext cx="5682960" cy="607680"/>
            <a:chOff x="351000" y="3672000"/>
            <a:chExt cx="5682960" cy="607680"/>
          </a:xfrm>
        </p:grpSpPr>
        <p:sp>
          <p:nvSpPr>
            <p:cNvPr id="536" name="TextBox 2"/>
            <p:cNvSpPr/>
            <p:nvPr/>
          </p:nvSpPr>
          <p:spPr>
            <a:xfrm>
              <a:off x="2527200" y="391140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1</a:t>
              </a:r>
              <a:endParaRPr b="0" lang="en-US" sz="900" spc="-1" strike="noStrike">
                <a:solidFill>
                  <a:srgbClr val="000000"/>
                </a:solidFill>
                <a:latin typeface="Calibri"/>
              </a:endParaRPr>
            </a:p>
          </p:txBody>
        </p:sp>
        <p:sp>
          <p:nvSpPr>
            <p:cNvPr id="537" name="TextBox 3"/>
            <p:cNvSpPr/>
            <p:nvPr/>
          </p:nvSpPr>
          <p:spPr>
            <a:xfrm>
              <a:off x="3085920" y="3924360"/>
              <a:ext cx="3045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0</a:t>
              </a:r>
              <a:endParaRPr b="0" lang="en-US" sz="900" spc="-1" strike="noStrike">
                <a:solidFill>
                  <a:srgbClr val="000000"/>
                </a:solidFill>
                <a:latin typeface="Calibri"/>
              </a:endParaRPr>
            </a:p>
          </p:txBody>
        </p:sp>
        <p:sp>
          <p:nvSpPr>
            <p:cNvPr id="538" name="TextBox 4"/>
            <p:cNvSpPr/>
            <p:nvPr/>
          </p:nvSpPr>
          <p:spPr>
            <a:xfrm>
              <a:off x="2082600" y="3911400"/>
              <a:ext cx="27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2</a:t>
              </a:r>
              <a:endParaRPr b="0" lang="en-US" sz="900" spc="-1" strike="noStrike">
                <a:solidFill>
                  <a:srgbClr val="000000"/>
                </a:solidFill>
                <a:latin typeface="Calibri"/>
              </a:endParaRPr>
            </a:p>
          </p:txBody>
        </p:sp>
        <p:sp>
          <p:nvSpPr>
            <p:cNvPr id="539" name="TextBox 5"/>
            <p:cNvSpPr/>
            <p:nvPr/>
          </p:nvSpPr>
          <p:spPr>
            <a:xfrm>
              <a:off x="1587240" y="391140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3</a:t>
              </a:r>
              <a:endParaRPr b="0" lang="en-US" sz="1000" spc="-1" strike="noStrike">
                <a:solidFill>
                  <a:srgbClr val="000000"/>
                </a:solidFill>
                <a:latin typeface="Calibri"/>
              </a:endParaRPr>
            </a:p>
          </p:txBody>
        </p:sp>
        <p:sp>
          <p:nvSpPr>
            <p:cNvPr id="540" name="TextBox 6"/>
            <p:cNvSpPr/>
            <p:nvPr/>
          </p:nvSpPr>
          <p:spPr>
            <a:xfrm>
              <a:off x="1117080" y="391140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4</a:t>
              </a:r>
              <a:endParaRPr b="0" lang="en-US" sz="1000" spc="-1" strike="noStrike">
                <a:solidFill>
                  <a:srgbClr val="000000"/>
                </a:solidFill>
                <a:latin typeface="Calibri"/>
              </a:endParaRPr>
            </a:p>
          </p:txBody>
        </p:sp>
        <p:sp>
          <p:nvSpPr>
            <p:cNvPr id="541" name="TextBox 7"/>
            <p:cNvSpPr/>
            <p:nvPr/>
          </p:nvSpPr>
          <p:spPr>
            <a:xfrm>
              <a:off x="672480" y="391140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5</a:t>
              </a:r>
              <a:endParaRPr b="0" lang="en-US" sz="1000" spc="-1" strike="noStrike">
                <a:solidFill>
                  <a:srgbClr val="000000"/>
                </a:solidFill>
                <a:latin typeface="Calibri"/>
              </a:endParaRPr>
            </a:p>
          </p:txBody>
        </p:sp>
        <p:sp>
          <p:nvSpPr>
            <p:cNvPr id="542" name="TextBox 8"/>
            <p:cNvSpPr/>
            <p:nvPr/>
          </p:nvSpPr>
          <p:spPr>
            <a:xfrm>
              <a:off x="3555720" y="391140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1</a:t>
              </a:r>
              <a:endParaRPr b="0" lang="en-US" sz="900" spc="-1" strike="noStrike">
                <a:solidFill>
                  <a:srgbClr val="000000"/>
                </a:solidFill>
                <a:latin typeface="Calibri"/>
              </a:endParaRPr>
            </a:p>
          </p:txBody>
        </p:sp>
        <p:sp>
          <p:nvSpPr>
            <p:cNvPr id="543" name="TextBox 9"/>
            <p:cNvSpPr/>
            <p:nvPr/>
          </p:nvSpPr>
          <p:spPr>
            <a:xfrm>
              <a:off x="4038480" y="3911400"/>
              <a:ext cx="279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2</a:t>
              </a:r>
              <a:endParaRPr b="0" lang="en-US" sz="900" spc="-1" strike="noStrike">
                <a:solidFill>
                  <a:srgbClr val="000000"/>
                </a:solidFill>
                <a:latin typeface="Calibri"/>
              </a:endParaRPr>
            </a:p>
          </p:txBody>
        </p:sp>
        <p:sp>
          <p:nvSpPr>
            <p:cNvPr id="544" name="TextBox 10"/>
            <p:cNvSpPr/>
            <p:nvPr/>
          </p:nvSpPr>
          <p:spPr>
            <a:xfrm>
              <a:off x="4483080" y="392436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3</a:t>
              </a:r>
              <a:endParaRPr b="0" lang="en-US" sz="1000" spc="-1" strike="noStrike">
                <a:solidFill>
                  <a:srgbClr val="000000"/>
                </a:solidFill>
                <a:latin typeface="Calibri"/>
              </a:endParaRPr>
            </a:p>
          </p:txBody>
        </p:sp>
        <p:sp>
          <p:nvSpPr>
            <p:cNvPr id="545" name="TextBox 11"/>
            <p:cNvSpPr/>
            <p:nvPr/>
          </p:nvSpPr>
          <p:spPr>
            <a:xfrm>
              <a:off x="4953240" y="392436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4</a:t>
              </a:r>
              <a:endParaRPr b="0" lang="en-US" sz="1000" spc="-1" strike="noStrike">
                <a:solidFill>
                  <a:srgbClr val="000000"/>
                </a:solidFill>
                <a:latin typeface="Calibri"/>
              </a:endParaRPr>
            </a:p>
          </p:txBody>
        </p:sp>
        <p:sp>
          <p:nvSpPr>
            <p:cNvPr id="546" name="TextBox 12"/>
            <p:cNvSpPr/>
            <p:nvPr/>
          </p:nvSpPr>
          <p:spPr>
            <a:xfrm>
              <a:off x="5423040" y="391140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5</a:t>
              </a:r>
              <a:endParaRPr b="0" lang="en-US" sz="1000" spc="-1" strike="noStrike">
                <a:solidFill>
                  <a:srgbClr val="000000"/>
                </a:solidFill>
                <a:latin typeface="Calibri"/>
              </a:endParaRPr>
            </a:p>
          </p:txBody>
        </p:sp>
        <p:grpSp>
          <p:nvGrpSpPr>
            <p:cNvPr id="547" name="Group 18"/>
            <p:cNvGrpSpPr/>
            <p:nvPr/>
          </p:nvGrpSpPr>
          <p:grpSpPr>
            <a:xfrm>
              <a:off x="351000" y="3672000"/>
              <a:ext cx="5682960" cy="258120"/>
              <a:chOff x="351000" y="3672000"/>
              <a:chExt cx="5682960" cy="258120"/>
            </a:xfrm>
          </p:grpSpPr>
          <p:sp>
            <p:nvSpPr>
              <p:cNvPr id="548" name="Freeform 13"/>
              <p:cNvSpPr/>
              <p:nvPr/>
            </p:nvSpPr>
            <p:spPr>
              <a:xfrm>
                <a:off x="358560" y="3795120"/>
                <a:ext cx="5673960" cy="9720"/>
              </a:xfrm>
              <a:custGeom>
                <a:avLst/>
                <a:gdLst>
                  <a:gd name="textAreaLeft" fmla="*/ 0 w 5673960"/>
                  <a:gd name="textAreaRight" fmla="*/ 5673960 w 5673960"/>
                  <a:gd name="textAreaTop" fmla="*/ 0 h 9720"/>
                  <a:gd name="textAreaBottom" fmla="*/ 10080 h 9720"/>
                </a:gdLst>
                <a:ahLst/>
                <a:rect l="textAreaLeft" t="textAreaTop" r="textAreaRight" b="textAreaBottom"/>
                <a:pathLst>
                  <a:path w="5673471" h="9779">
                    <a:moveTo>
                      <a:pt x="0" y="9778"/>
                    </a:moveTo>
                    <a:lnTo>
                      <a:pt x="0" y="0"/>
                    </a:lnTo>
                    <a:lnTo>
                      <a:pt x="5673470" y="0"/>
                    </a:lnTo>
                    <a:lnTo>
                      <a:pt x="5673470" y="9778"/>
                    </a:lnTo>
                    <a:close/>
                  </a:path>
                </a:pathLst>
              </a:custGeom>
              <a:solidFill>
                <a:srgbClr val="000000"/>
              </a:solidFill>
              <a:ln w="0">
                <a:solidFill>
                  <a:srgbClr val="000000"/>
                </a:solidFill>
              </a:ln>
            </p:spPr>
            <p:style>
              <a:lnRef idx="0"/>
              <a:fillRef idx="0"/>
              <a:effectRef idx="0"/>
              <a:fontRef idx="minor"/>
            </p:style>
            <p:txBody>
              <a:bodyPr lIns="90000" rIns="90000" tIns="-36720" bIns="-36720" anchor="ctr">
                <a:noAutofit/>
              </a:bodyPr>
              <a:p>
                <a:endParaRPr b="0" lang="en-US" sz="1800" spc="-1" strike="noStrike">
                  <a:solidFill>
                    <a:srgbClr val="000000"/>
                  </a:solidFill>
                  <a:latin typeface="Calibri"/>
                </a:endParaRPr>
              </a:p>
            </p:txBody>
          </p:sp>
          <p:sp>
            <p:nvSpPr>
              <p:cNvPr id="549" name="Freeform 14"/>
              <p:cNvSpPr/>
              <p:nvPr/>
            </p:nvSpPr>
            <p:spPr>
              <a:xfrm>
                <a:off x="351000" y="367200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0" h="134747">
                    <a:moveTo>
                      <a:pt x="7874" y="134746"/>
                    </a:moveTo>
                    <a:lnTo>
                      <a:pt x="0" y="127889"/>
                    </a:lnTo>
                    <a:lnTo>
                      <a:pt x="155828" y="0"/>
                    </a:lnTo>
                    <a:lnTo>
                      <a:pt x="163829" y="673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0" name="Freeform 15"/>
              <p:cNvSpPr/>
              <p:nvPr/>
            </p:nvSpPr>
            <p:spPr>
              <a:xfrm>
                <a:off x="353160" y="379476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1" h="134749">
                    <a:moveTo>
                      <a:pt x="0" y="6731"/>
                    </a:moveTo>
                    <a:lnTo>
                      <a:pt x="8000" y="0"/>
                    </a:lnTo>
                    <a:lnTo>
                      <a:pt x="163830" y="127890"/>
                    </a:lnTo>
                    <a:lnTo>
                      <a:pt x="155956" y="13474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1" name="Freeform 16"/>
              <p:cNvSpPr/>
              <p:nvPr/>
            </p:nvSpPr>
            <p:spPr>
              <a:xfrm>
                <a:off x="5870160" y="367236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1" h="134620">
                    <a:moveTo>
                      <a:pt x="163830" y="127888"/>
                    </a:moveTo>
                    <a:lnTo>
                      <a:pt x="155956" y="134619"/>
                    </a:lnTo>
                    <a:lnTo>
                      <a:pt x="0" y="6857"/>
                    </a:lnTo>
                    <a:lnTo>
                      <a:pt x="7874"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2" name="Freeform 17"/>
              <p:cNvSpPr/>
              <p:nvPr/>
            </p:nvSpPr>
            <p:spPr>
              <a:xfrm>
                <a:off x="5868000" y="379512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1" h="134621">
                    <a:moveTo>
                      <a:pt x="155956" y="0"/>
                    </a:moveTo>
                    <a:lnTo>
                      <a:pt x="163830" y="6858"/>
                    </a:lnTo>
                    <a:lnTo>
                      <a:pt x="8002" y="134620"/>
                    </a:lnTo>
                    <a:lnTo>
                      <a:pt x="0" y="12788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553" name="Freeform 19"/>
            <p:cNvSpPr/>
            <p:nvPr/>
          </p:nvSpPr>
          <p:spPr>
            <a:xfrm>
              <a:off x="5527440" y="3696120"/>
              <a:ext cx="12240" cy="195840"/>
            </a:xfrm>
            <a:custGeom>
              <a:avLst/>
              <a:gdLst>
                <a:gd name="textAreaLeft" fmla="*/ 0 w 12240"/>
                <a:gd name="textAreaRight" fmla="*/ 12600 w 12240"/>
                <a:gd name="textAreaTop" fmla="*/ 0 h 195840"/>
                <a:gd name="textAreaBottom" fmla="*/ 196200 h 195840"/>
              </a:gdLst>
              <a:ahLst/>
              <a:rect l="textAreaLeft" t="textAreaTop" r="textAreaRight" b="textAreaBottom"/>
              <a:pathLst>
                <a:path w="12574" h="195709">
                  <a:moveTo>
                    <a:pt x="0" y="0"/>
                  </a:moveTo>
                  <a:lnTo>
                    <a:pt x="12573" y="0"/>
                  </a:lnTo>
                  <a:lnTo>
                    <a:pt x="12573"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4" name="Freeform 20"/>
            <p:cNvSpPr/>
            <p:nvPr/>
          </p:nvSpPr>
          <p:spPr>
            <a:xfrm>
              <a:off x="5066280" y="3696120"/>
              <a:ext cx="12240" cy="195840"/>
            </a:xfrm>
            <a:custGeom>
              <a:avLst/>
              <a:gdLst>
                <a:gd name="textAreaLeft" fmla="*/ 0 w 12240"/>
                <a:gd name="textAreaRight" fmla="*/ 12600 w 12240"/>
                <a:gd name="textAreaTop" fmla="*/ 0 h 195840"/>
                <a:gd name="textAreaBottom" fmla="*/ 196200 h 195840"/>
              </a:gdLst>
              <a:ahLst/>
              <a:rect l="textAreaLeft" t="textAreaTop" r="textAreaRight" b="textAreaBottom"/>
              <a:pathLst>
                <a:path w="12446" h="195709">
                  <a:moveTo>
                    <a:pt x="0" y="0"/>
                  </a:moveTo>
                  <a:lnTo>
                    <a:pt x="12445" y="0"/>
                  </a:lnTo>
                  <a:lnTo>
                    <a:pt x="12445"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5" name="Freeform 21"/>
            <p:cNvSpPr/>
            <p:nvPr/>
          </p:nvSpPr>
          <p:spPr>
            <a:xfrm>
              <a:off x="4577040" y="3696120"/>
              <a:ext cx="12240" cy="195840"/>
            </a:xfrm>
            <a:custGeom>
              <a:avLst/>
              <a:gdLst>
                <a:gd name="textAreaLeft" fmla="*/ 0 w 12240"/>
                <a:gd name="textAreaRight" fmla="*/ 12600 w 12240"/>
                <a:gd name="textAreaTop" fmla="*/ 0 h 195840"/>
                <a:gd name="textAreaBottom" fmla="*/ 196200 h 195840"/>
              </a:gdLst>
              <a:ahLst/>
              <a:rect l="textAreaLeft" t="textAreaTop" r="textAreaRight" b="textAreaBottom"/>
              <a:pathLst>
                <a:path w="12574" h="195709">
                  <a:moveTo>
                    <a:pt x="0" y="0"/>
                  </a:moveTo>
                  <a:lnTo>
                    <a:pt x="12573" y="0"/>
                  </a:lnTo>
                  <a:lnTo>
                    <a:pt x="12573"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6" name="Freeform 22"/>
            <p:cNvSpPr/>
            <p:nvPr/>
          </p:nvSpPr>
          <p:spPr>
            <a:xfrm>
              <a:off x="4115880" y="3696120"/>
              <a:ext cx="12240" cy="195840"/>
            </a:xfrm>
            <a:custGeom>
              <a:avLst/>
              <a:gdLst>
                <a:gd name="textAreaLeft" fmla="*/ 0 w 12240"/>
                <a:gd name="textAreaRight" fmla="*/ 12600 w 12240"/>
                <a:gd name="textAreaTop" fmla="*/ 0 h 195840"/>
                <a:gd name="textAreaBottom" fmla="*/ 196200 h 195840"/>
              </a:gdLst>
              <a:ahLst/>
              <a:rect l="textAreaLeft" t="textAreaTop" r="textAreaRight" b="textAreaBottom"/>
              <a:pathLst>
                <a:path w="12575" h="195709">
                  <a:moveTo>
                    <a:pt x="0" y="0"/>
                  </a:moveTo>
                  <a:lnTo>
                    <a:pt x="12574" y="0"/>
                  </a:lnTo>
                  <a:lnTo>
                    <a:pt x="12574"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7" name="Freeform 23"/>
            <p:cNvSpPr/>
            <p:nvPr/>
          </p:nvSpPr>
          <p:spPr>
            <a:xfrm>
              <a:off x="3654720" y="3696120"/>
              <a:ext cx="12240" cy="195840"/>
            </a:xfrm>
            <a:custGeom>
              <a:avLst/>
              <a:gdLst>
                <a:gd name="textAreaLeft" fmla="*/ 0 w 12240"/>
                <a:gd name="textAreaRight" fmla="*/ 12600 w 12240"/>
                <a:gd name="textAreaTop" fmla="*/ 0 h 195840"/>
                <a:gd name="textAreaBottom" fmla="*/ 196200 h 195840"/>
              </a:gdLst>
              <a:ahLst/>
              <a:rect l="textAreaLeft" t="textAreaTop" r="textAreaRight" b="textAreaBottom"/>
              <a:pathLst>
                <a:path w="12448" h="195709">
                  <a:moveTo>
                    <a:pt x="0" y="0"/>
                  </a:moveTo>
                  <a:lnTo>
                    <a:pt x="12447" y="0"/>
                  </a:lnTo>
                  <a:lnTo>
                    <a:pt x="12447"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8" name="Freeform 24"/>
            <p:cNvSpPr/>
            <p:nvPr/>
          </p:nvSpPr>
          <p:spPr>
            <a:xfrm>
              <a:off x="2694600" y="370404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4" h="195834">
                  <a:moveTo>
                    <a:pt x="0" y="0"/>
                  </a:moveTo>
                  <a:lnTo>
                    <a:pt x="12573" y="0"/>
                  </a:lnTo>
                  <a:lnTo>
                    <a:pt x="12573"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9" name="Freeform 25"/>
            <p:cNvSpPr/>
            <p:nvPr/>
          </p:nvSpPr>
          <p:spPr>
            <a:xfrm>
              <a:off x="2233080" y="370404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5" h="195834">
                  <a:moveTo>
                    <a:pt x="0" y="0"/>
                  </a:moveTo>
                  <a:lnTo>
                    <a:pt x="12574" y="0"/>
                  </a:lnTo>
                  <a:lnTo>
                    <a:pt x="12574"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0" name="Freeform 26"/>
            <p:cNvSpPr/>
            <p:nvPr/>
          </p:nvSpPr>
          <p:spPr>
            <a:xfrm>
              <a:off x="1743840" y="370404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5" h="195834">
                  <a:moveTo>
                    <a:pt x="0" y="0"/>
                  </a:moveTo>
                  <a:lnTo>
                    <a:pt x="12574" y="0"/>
                  </a:lnTo>
                  <a:lnTo>
                    <a:pt x="12574"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1" name="Freeform 27"/>
            <p:cNvSpPr/>
            <p:nvPr/>
          </p:nvSpPr>
          <p:spPr>
            <a:xfrm>
              <a:off x="1282680" y="370404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4" h="195834">
                  <a:moveTo>
                    <a:pt x="0" y="0"/>
                  </a:moveTo>
                  <a:lnTo>
                    <a:pt x="12573" y="0"/>
                  </a:lnTo>
                  <a:lnTo>
                    <a:pt x="12573"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2" name="Freeform 28"/>
            <p:cNvSpPr/>
            <p:nvPr/>
          </p:nvSpPr>
          <p:spPr>
            <a:xfrm>
              <a:off x="821520" y="370404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3" h="195834">
                  <a:moveTo>
                    <a:pt x="0" y="0"/>
                  </a:moveTo>
                  <a:lnTo>
                    <a:pt x="12572" y="0"/>
                  </a:lnTo>
                  <a:lnTo>
                    <a:pt x="12572"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3" name="Freeform 29"/>
            <p:cNvSpPr/>
            <p:nvPr/>
          </p:nvSpPr>
          <p:spPr>
            <a:xfrm>
              <a:off x="3174480" y="3696120"/>
              <a:ext cx="12240" cy="195840"/>
            </a:xfrm>
            <a:custGeom>
              <a:avLst/>
              <a:gdLst>
                <a:gd name="textAreaLeft" fmla="*/ 0 w 12240"/>
                <a:gd name="textAreaRight" fmla="*/ 12600 w 12240"/>
                <a:gd name="textAreaTop" fmla="*/ 0 h 195840"/>
                <a:gd name="textAreaBottom" fmla="*/ 196200 h 195840"/>
              </a:gdLst>
              <a:ahLst/>
              <a:rect l="textAreaLeft" t="textAreaTop" r="textAreaRight" b="textAreaBottom"/>
              <a:pathLst>
                <a:path w="12448" h="195709">
                  <a:moveTo>
                    <a:pt x="0" y="0"/>
                  </a:moveTo>
                  <a:lnTo>
                    <a:pt x="12447" y="0"/>
                  </a:lnTo>
                  <a:lnTo>
                    <a:pt x="12447"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564" name="Group 59"/>
          <p:cNvGrpSpPr/>
          <p:nvPr/>
        </p:nvGrpSpPr>
        <p:grpSpPr>
          <a:xfrm>
            <a:off x="325440" y="5259240"/>
            <a:ext cx="5683320" cy="608040"/>
            <a:chOff x="325440" y="5259240"/>
            <a:chExt cx="5683320" cy="608040"/>
          </a:xfrm>
        </p:grpSpPr>
        <p:sp>
          <p:nvSpPr>
            <p:cNvPr id="565" name="TextBox 31"/>
            <p:cNvSpPr/>
            <p:nvPr/>
          </p:nvSpPr>
          <p:spPr>
            <a:xfrm>
              <a:off x="2501640" y="549900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1</a:t>
              </a:r>
              <a:endParaRPr b="0" lang="en-US" sz="900" spc="-1" strike="noStrike">
                <a:solidFill>
                  <a:srgbClr val="000000"/>
                </a:solidFill>
                <a:latin typeface="Calibri"/>
              </a:endParaRPr>
            </a:p>
          </p:txBody>
        </p:sp>
        <p:sp>
          <p:nvSpPr>
            <p:cNvPr id="566" name="TextBox 32"/>
            <p:cNvSpPr/>
            <p:nvPr/>
          </p:nvSpPr>
          <p:spPr>
            <a:xfrm>
              <a:off x="3060360" y="5511600"/>
              <a:ext cx="3045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0</a:t>
              </a:r>
              <a:endParaRPr b="0" lang="en-US" sz="900" spc="-1" strike="noStrike">
                <a:solidFill>
                  <a:srgbClr val="000000"/>
                </a:solidFill>
                <a:latin typeface="Calibri"/>
              </a:endParaRPr>
            </a:p>
          </p:txBody>
        </p:sp>
        <p:sp>
          <p:nvSpPr>
            <p:cNvPr id="567" name="TextBox 33"/>
            <p:cNvSpPr/>
            <p:nvPr/>
          </p:nvSpPr>
          <p:spPr>
            <a:xfrm>
              <a:off x="2057040" y="5499000"/>
              <a:ext cx="27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2</a:t>
              </a:r>
              <a:endParaRPr b="0" lang="en-US" sz="900" spc="-1" strike="noStrike">
                <a:solidFill>
                  <a:srgbClr val="000000"/>
                </a:solidFill>
                <a:latin typeface="Calibri"/>
              </a:endParaRPr>
            </a:p>
          </p:txBody>
        </p:sp>
        <p:sp>
          <p:nvSpPr>
            <p:cNvPr id="568" name="TextBox 34"/>
            <p:cNvSpPr/>
            <p:nvPr/>
          </p:nvSpPr>
          <p:spPr>
            <a:xfrm>
              <a:off x="1561680" y="549900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3</a:t>
              </a:r>
              <a:endParaRPr b="0" lang="en-US" sz="1000" spc="-1" strike="noStrike">
                <a:solidFill>
                  <a:srgbClr val="000000"/>
                </a:solidFill>
                <a:latin typeface="Calibri"/>
              </a:endParaRPr>
            </a:p>
          </p:txBody>
        </p:sp>
        <p:sp>
          <p:nvSpPr>
            <p:cNvPr id="569" name="TextBox 35"/>
            <p:cNvSpPr/>
            <p:nvPr/>
          </p:nvSpPr>
          <p:spPr>
            <a:xfrm>
              <a:off x="1091520" y="549900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4</a:t>
              </a:r>
              <a:endParaRPr b="0" lang="en-US" sz="1000" spc="-1" strike="noStrike">
                <a:solidFill>
                  <a:srgbClr val="000000"/>
                </a:solidFill>
                <a:latin typeface="Calibri"/>
              </a:endParaRPr>
            </a:p>
          </p:txBody>
        </p:sp>
        <p:sp>
          <p:nvSpPr>
            <p:cNvPr id="570" name="TextBox 36"/>
            <p:cNvSpPr/>
            <p:nvPr/>
          </p:nvSpPr>
          <p:spPr>
            <a:xfrm>
              <a:off x="646920" y="549900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5</a:t>
              </a:r>
              <a:endParaRPr b="0" lang="en-US" sz="1000" spc="-1" strike="noStrike">
                <a:solidFill>
                  <a:srgbClr val="000000"/>
                </a:solidFill>
                <a:latin typeface="Calibri"/>
              </a:endParaRPr>
            </a:p>
          </p:txBody>
        </p:sp>
        <p:sp>
          <p:nvSpPr>
            <p:cNvPr id="571" name="TextBox 37"/>
            <p:cNvSpPr/>
            <p:nvPr/>
          </p:nvSpPr>
          <p:spPr>
            <a:xfrm>
              <a:off x="3530520" y="549900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1</a:t>
              </a:r>
              <a:endParaRPr b="0" lang="en-US" sz="900" spc="-1" strike="noStrike">
                <a:solidFill>
                  <a:srgbClr val="000000"/>
                </a:solidFill>
                <a:latin typeface="Calibri"/>
              </a:endParaRPr>
            </a:p>
          </p:txBody>
        </p:sp>
        <p:sp>
          <p:nvSpPr>
            <p:cNvPr id="572" name="TextBox 38"/>
            <p:cNvSpPr/>
            <p:nvPr/>
          </p:nvSpPr>
          <p:spPr>
            <a:xfrm>
              <a:off x="4013280" y="5499000"/>
              <a:ext cx="279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2</a:t>
              </a:r>
              <a:endParaRPr b="0" lang="en-US" sz="900" spc="-1" strike="noStrike">
                <a:solidFill>
                  <a:srgbClr val="000000"/>
                </a:solidFill>
                <a:latin typeface="Calibri"/>
              </a:endParaRPr>
            </a:p>
          </p:txBody>
        </p:sp>
        <p:sp>
          <p:nvSpPr>
            <p:cNvPr id="573" name="TextBox 39"/>
            <p:cNvSpPr/>
            <p:nvPr/>
          </p:nvSpPr>
          <p:spPr>
            <a:xfrm>
              <a:off x="4457880" y="551160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3</a:t>
              </a:r>
              <a:endParaRPr b="0" lang="en-US" sz="1000" spc="-1" strike="noStrike">
                <a:solidFill>
                  <a:srgbClr val="000000"/>
                </a:solidFill>
                <a:latin typeface="Calibri"/>
              </a:endParaRPr>
            </a:p>
          </p:txBody>
        </p:sp>
        <p:sp>
          <p:nvSpPr>
            <p:cNvPr id="574" name="TextBox 40"/>
            <p:cNvSpPr/>
            <p:nvPr/>
          </p:nvSpPr>
          <p:spPr>
            <a:xfrm>
              <a:off x="4927680" y="551160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4</a:t>
              </a:r>
              <a:endParaRPr b="0" lang="en-US" sz="1000" spc="-1" strike="noStrike">
                <a:solidFill>
                  <a:srgbClr val="000000"/>
                </a:solidFill>
                <a:latin typeface="Calibri"/>
              </a:endParaRPr>
            </a:p>
          </p:txBody>
        </p:sp>
        <p:sp>
          <p:nvSpPr>
            <p:cNvPr id="575" name="TextBox 41"/>
            <p:cNvSpPr/>
            <p:nvPr/>
          </p:nvSpPr>
          <p:spPr>
            <a:xfrm>
              <a:off x="5397840" y="549900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5</a:t>
              </a:r>
              <a:endParaRPr b="0" lang="en-US" sz="1000" spc="-1" strike="noStrike">
                <a:solidFill>
                  <a:srgbClr val="000000"/>
                </a:solidFill>
                <a:latin typeface="Calibri"/>
              </a:endParaRPr>
            </a:p>
          </p:txBody>
        </p:sp>
        <p:grpSp>
          <p:nvGrpSpPr>
            <p:cNvPr id="576" name="Group 47"/>
            <p:cNvGrpSpPr/>
            <p:nvPr/>
          </p:nvGrpSpPr>
          <p:grpSpPr>
            <a:xfrm>
              <a:off x="325440" y="5259240"/>
              <a:ext cx="5683320" cy="258120"/>
              <a:chOff x="325440" y="5259240"/>
              <a:chExt cx="5683320" cy="258120"/>
            </a:xfrm>
          </p:grpSpPr>
          <p:sp>
            <p:nvSpPr>
              <p:cNvPr id="577" name="Freeform 42"/>
              <p:cNvSpPr/>
              <p:nvPr/>
            </p:nvSpPr>
            <p:spPr>
              <a:xfrm>
                <a:off x="333000" y="5382360"/>
                <a:ext cx="5674320" cy="9720"/>
              </a:xfrm>
              <a:custGeom>
                <a:avLst/>
                <a:gdLst>
                  <a:gd name="textAreaLeft" fmla="*/ 0 w 5674320"/>
                  <a:gd name="textAreaRight" fmla="*/ 5674680 w 5674320"/>
                  <a:gd name="textAreaTop" fmla="*/ 0 h 9720"/>
                  <a:gd name="textAreaBottom" fmla="*/ 10080 h 9720"/>
                </a:gdLst>
                <a:ahLst/>
                <a:rect l="textAreaLeft" t="textAreaTop" r="textAreaRight" b="textAreaBottom"/>
                <a:pathLst>
                  <a:path w="5673471" h="9779">
                    <a:moveTo>
                      <a:pt x="0" y="9778"/>
                    </a:moveTo>
                    <a:lnTo>
                      <a:pt x="0" y="0"/>
                    </a:lnTo>
                    <a:lnTo>
                      <a:pt x="5673470" y="0"/>
                    </a:lnTo>
                    <a:lnTo>
                      <a:pt x="5673470" y="9778"/>
                    </a:lnTo>
                    <a:close/>
                  </a:path>
                </a:pathLst>
              </a:custGeom>
              <a:solidFill>
                <a:srgbClr val="000000"/>
              </a:solidFill>
              <a:ln w="0">
                <a:solidFill>
                  <a:srgbClr val="000000"/>
                </a:solidFill>
              </a:ln>
            </p:spPr>
            <p:style>
              <a:lnRef idx="0"/>
              <a:fillRef idx="0"/>
              <a:effectRef idx="0"/>
              <a:fontRef idx="minor"/>
            </p:style>
            <p:txBody>
              <a:bodyPr lIns="90000" rIns="90000" tIns="-36720" bIns="-36720" anchor="ctr">
                <a:noAutofit/>
              </a:bodyPr>
              <a:p>
                <a:endParaRPr b="0" lang="en-US" sz="1800" spc="-1" strike="noStrike">
                  <a:solidFill>
                    <a:srgbClr val="000000"/>
                  </a:solidFill>
                  <a:latin typeface="Calibri"/>
                </a:endParaRPr>
              </a:p>
            </p:txBody>
          </p:sp>
          <p:sp>
            <p:nvSpPr>
              <p:cNvPr id="578" name="Freeform 43"/>
              <p:cNvSpPr/>
              <p:nvPr/>
            </p:nvSpPr>
            <p:spPr>
              <a:xfrm>
                <a:off x="325440" y="525924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0" h="134747">
                    <a:moveTo>
                      <a:pt x="7874" y="134746"/>
                    </a:moveTo>
                    <a:lnTo>
                      <a:pt x="0" y="127889"/>
                    </a:lnTo>
                    <a:lnTo>
                      <a:pt x="155828" y="0"/>
                    </a:lnTo>
                    <a:lnTo>
                      <a:pt x="163829" y="673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9" name="Freeform 44"/>
              <p:cNvSpPr/>
              <p:nvPr/>
            </p:nvSpPr>
            <p:spPr>
              <a:xfrm>
                <a:off x="327600" y="538200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1" h="134749">
                    <a:moveTo>
                      <a:pt x="0" y="6731"/>
                    </a:moveTo>
                    <a:lnTo>
                      <a:pt x="8000" y="0"/>
                    </a:lnTo>
                    <a:lnTo>
                      <a:pt x="163830" y="127890"/>
                    </a:lnTo>
                    <a:lnTo>
                      <a:pt x="155956" y="13474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0" name="Freeform 45"/>
              <p:cNvSpPr/>
              <p:nvPr/>
            </p:nvSpPr>
            <p:spPr>
              <a:xfrm>
                <a:off x="5844960" y="525960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1" h="134620">
                    <a:moveTo>
                      <a:pt x="163830" y="127888"/>
                    </a:moveTo>
                    <a:lnTo>
                      <a:pt x="155956" y="134619"/>
                    </a:lnTo>
                    <a:lnTo>
                      <a:pt x="0" y="6857"/>
                    </a:lnTo>
                    <a:lnTo>
                      <a:pt x="7874"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1" name="Freeform 46"/>
              <p:cNvSpPr/>
              <p:nvPr/>
            </p:nvSpPr>
            <p:spPr>
              <a:xfrm>
                <a:off x="5842800" y="538236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1" h="134621">
                    <a:moveTo>
                      <a:pt x="155956" y="0"/>
                    </a:moveTo>
                    <a:lnTo>
                      <a:pt x="163830" y="6858"/>
                    </a:lnTo>
                    <a:lnTo>
                      <a:pt x="8002" y="134620"/>
                    </a:lnTo>
                    <a:lnTo>
                      <a:pt x="0" y="12788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582" name="Freeform 48"/>
            <p:cNvSpPr/>
            <p:nvPr/>
          </p:nvSpPr>
          <p:spPr>
            <a:xfrm>
              <a:off x="5502240" y="528336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4" h="195709">
                  <a:moveTo>
                    <a:pt x="0" y="0"/>
                  </a:moveTo>
                  <a:lnTo>
                    <a:pt x="12573" y="0"/>
                  </a:lnTo>
                  <a:lnTo>
                    <a:pt x="12573"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3" name="Freeform 49"/>
            <p:cNvSpPr/>
            <p:nvPr/>
          </p:nvSpPr>
          <p:spPr>
            <a:xfrm>
              <a:off x="5041080" y="528336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446" h="195709">
                  <a:moveTo>
                    <a:pt x="0" y="0"/>
                  </a:moveTo>
                  <a:lnTo>
                    <a:pt x="12445" y="0"/>
                  </a:lnTo>
                  <a:lnTo>
                    <a:pt x="12445"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4" name="Freeform 50"/>
            <p:cNvSpPr/>
            <p:nvPr/>
          </p:nvSpPr>
          <p:spPr>
            <a:xfrm>
              <a:off x="4551840" y="528336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4" h="195709">
                  <a:moveTo>
                    <a:pt x="0" y="0"/>
                  </a:moveTo>
                  <a:lnTo>
                    <a:pt x="12573" y="0"/>
                  </a:lnTo>
                  <a:lnTo>
                    <a:pt x="12573"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5" name="Freeform 51"/>
            <p:cNvSpPr/>
            <p:nvPr/>
          </p:nvSpPr>
          <p:spPr>
            <a:xfrm>
              <a:off x="4090320" y="528336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5" h="195709">
                  <a:moveTo>
                    <a:pt x="0" y="0"/>
                  </a:moveTo>
                  <a:lnTo>
                    <a:pt x="12574" y="0"/>
                  </a:lnTo>
                  <a:lnTo>
                    <a:pt x="12574"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6" name="Freeform 52"/>
            <p:cNvSpPr/>
            <p:nvPr/>
          </p:nvSpPr>
          <p:spPr>
            <a:xfrm>
              <a:off x="3629160" y="528336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448" h="195709">
                  <a:moveTo>
                    <a:pt x="0" y="0"/>
                  </a:moveTo>
                  <a:lnTo>
                    <a:pt x="12447" y="0"/>
                  </a:lnTo>
                  <a:lnTo>
                    <a:pt x="12447"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7" name="Freeform 53"/>
            <p:cNvSpPr/>
            <p:nvPr/>
          </p:nvSpPr>
          <p:spPr>
            <a:xfrm>
              <a:off x="2669040" y="529128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4" h="195834">
                  <a:moveTo>
                    <a:pt x="0" y="0"/>
                  </a:moveTo>
                  <a:lnTo>
                    <a:pt x="12573" y="0"/>
                  </a:lnTo>
                  <a:lnTo>
                    <a:pt x="12573"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8" name="Freeform 54"/>
            <p:cNvSpPr/>
            <p:nvPr/>
          </p:nvSpPr>
          <p:spPr>
            <a:xfrm>
              <a:off x="2207880" y="529128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5" h="195834">
                  <a:moveTo>
                    <a:pt x="0" y="0"/>
                  </a:moveTo>
                  <a:lnTo>
                    <a:pt x="12574" y="0"/>
                  </a:lnTo>
                  <a:lnTo>
                    <a:pt x="12574"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9" name="Freeform 55"/>
            <p:cNvSpPr/>
            <p:nvPr/>
          </p:nvSpPr>
          <p:spPr>
            <a:xfrm>
              <a:off x="1718280" y="529128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5" h="195834">
                  <a:moveTo>
                    <a:pt x="0" y="0"/>
                  </a:moveTo>
                  <a:lnTo>
                    <a:pt x="12574" y="0"/>
                  </a:lnTo>
                  <a:lnTo>
                    <a:pt x="12574"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90" name="Freeform 56"/>
            <p:cNvSpPr/>
            <p:nvPr/>
          </p:nvSpPr>
          <p:spPr>
            <a:xfrm>
              <a:off x="1257120" y="529128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4" h="195834">
                  <a:moveTo>
                    <a:pt x="0" y="0"/>
                  </a:moveTo>
                  <a:lnTo>
                    <a:pt x="12573" y="0"/>
                  </a:lnTo>
                  <a:lnTo>
                    <a:pt x="12573"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91" name="Freeform 57"/>
            <p:cNvSpPr/>
            <p:nvPr/>
          </p:nvSpPr>
          <p:spPr>
            <a:xfrm>
              <a:off x="795960" y="529128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3" h="195834">
                  <a:moveTo>
                    <a:pt x="0" y="0"/>
                  </a:moveTo>
                  <a:lnTo>
                    <a:pt x="12572" y="0"/>
                  </a:lnTo>
                  <a:lnTo>
                    <a:pt x="12572"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92" name="Freeform 58"/>
            <p:cNvSpPr/>
            <p:nvPr/>
          </p:nvSpPr>
          <p:spPr>
            <a:xfrm>
              <a:off x="3149280" y="528336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448" h="195709">
                  <a:moveTo>
                    <a:pt x="0" y="0"/>
                  </a:moveTo>
                  <a:lnTo>
                    <a:pt x="12447" y="0"/>
                  </a:lnTo>
                  <a:lnTo>
                    <a:pt x="12447"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593" name="Straight Connector 60"/>
          <p:cNvSpPr/>
          <p:nvPr/>
        </p:nvSpPr>
        <p:spPr>
          <a:xfrm>
            <a:off x="3162240" y="3429000"/>
            <a:ext cx="1371600" cy="0"/>
          </a:xfrm>
          <a:prstGeom prst="line">
            <a:avLst/>
          </a:prstGeom>
          <a:ln w="3816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4" name="Straight Connector 61"/>
          <p:cNvSpPr/>
          <p:nvPr/>
        </p:nvSpPr>
        <p:spPr>
          <a:xfrm flipH="1">
            <a:off x="825120" y="5079960"/>
            <a:ext cx="2311560" cy="0"/>
          </a:xfrm>
          <a:prstGeom prst="line">
            <a:avLst/>
          </a:prstGeom>
          <a:ln w="3816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5" name="TextBox 62"/>
          <p:cNvSpPr/>
          <p:nvPr/>
        </p:nvSpPr>
        <p:spPr>
          <a:xfrm>
            <a:off x="3594240" y="3086280"/>
            <a:ext cx="55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 16"/>
              </a:rPr>
              <a:t>+3</a:t>
            </a:r>
            <a:endParaRPr b="0" lang="en-US" sz="1600" spc="-1" strike="noStrike">
              <a:solidFill>
                <a:srgbClr val="000000"/>
              </a:solidFill>
              <a:latin typeface="Calibri"/>
            </a:endParaRPr>
          </a:p>
        </p:txBody>
      </p:sp>
      <p:sp>
        <p:nvSpPr>
          <p:cNvPr id="596" name="TextBox 63"/>
          <p:cNvSpPr/>
          <p:nvPr/>
        </p:nvSpPr>
        <p:spPr>
          <a:xfrm>
            <a:off x="1727280" y="469908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mic Sans MS - 16"/>
              </a:rPr>
              <a:t>-5</a:t>
            </a:r>
            <a:endParaRPr b="0" lang="en-US" sz="1500" spc="-1" strike="noStrike">
              <a:solidFill>
                <a:srgbClr val="000000"/>
              </a:solidFill>
              <a:latin typeface="Calibri"/>
            </a:endParaRPr>
          </a:p>
        </p:txBody>
      </p:sp>
      <p:grpSp>
        <p:nvGrpSpPr>
          <p:cNvPr id="597" name="Group 92"/>
          <p:cNvGrpSpPr/>
          <p:nvPr/>
        </p:nvGrpSpPr>
        <p:grpSpPr>
          <a:xfrm>
            <a:off x="7056360" y="2658960"/>
            <a:ext cx="405720" cy="3944880"/>
            <a:chOff x="7056360" y="2658960"/>
            <a:chExt cx="405720" cy="3944880"/>
          </a:xfrm>
        </p:grpSpPr>
        <p:sp>
          <p:nvSpPr>
            <p:cNvPr id="598" name="TextBox 64"/>
            <p:cNvSpPr/>
            <p:nvPr/>
          </p:nvSpPr>
          <p:spPr>
            <a:xfrm rot="16200000">
              <a:off x="7138080" y="4875840"/>
              <a:ext cx="2793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1</a:t>
              </a:r>
              <a:endParaRPr b="0" lang="en-US" sz="600" spc="-1" strike="noStrike">
                <a:solidFill>
                  <a:srgbClr val="000000"/>
                </a:solidFill>
                <a:latin typeface="Calibri"/>
              </a:endParaRPr>
            </a:p>
          </p:txBody>
        </p:sp>
        <p:sp>
          <p:nvSpPr>
            <p:cNvPr id="599" name="TextBox 65"/>
            <p:cNvSpPr/>
            <p:nvPr/>
          </p:nvSpPr>
          <p:spPr>
            <a:xfrm rot="16200000">
              <a:off x="7151040" y="4507920"/>
              <a:ext cx="25380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0</a:t>
              </a:r>
              <a:endParaRPr b="0" lang="en-US" sz="600" spc="-1" strike="noStrike">
                <a:solidFill>
                  <a:srgbClr val="000000"/>
                </a:solidFill>
                <a:latin typeface="Calibri"/>
              </a:endParaRPr>
            </a:p>
          </p:txBody>
        </p:sp>
        <p:sp>
          <p:nvSpPr>
            <p:cNvPr id="600" name="TextBox 66"/>
            <p:cNvSpPr/>
            <p:nvPr/>
          </p:nvSpPr>
          <p:spPr>
            <a:xfrm rot="16200000">
              <a:off x="7209360" y="5160240"/>
              <a:ext cx="22824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2</a:t>
              </a:r>
              <a:endParaRPr b="0" lang="en-US" sz="600" spc="-1" strike="noStrike">
                <a:solidFill>
                  <a:srgbClr val="000000"/>
                </a:solidFill>
                <a:latin typeface="Calibri"/>
              </a:endParaRPr>
            </a:p>
          </p:txBody>
        </p:sp>
        <p:sp>
          <p:nvSpPr>
            <p:cNvPr id="601" name="TextBox 67"/>
            <p:cNvSpPr/>
            <p:nvPr/>
          </p:nvSpPr>
          <p:spPr>
            <a:xfrm rot="16200000">
              <a:off x="7128360" y="552060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3</a:t>
              </a:r>
              <a:endParaRPr b="0" lang="en-US" sz="700" spc="-1" strike="noStrike">
                <a:solidFill>
                  <a:srgbClr val="000000"/>
                </a:solidFill>
                <a:latin typeface="Calibri"/>
              </a:endParaRPr>
            </a:p>
          </p:txBody>
        </p:sp>
        <p:sp>
          <p:nvSpPr>
            <p:cNvPr id="602" name="TextBox 68"/>
            <p:cNvSpPr/>
            <p:nvPr/>
          </p:nvSpPr>
          <p:spPr>
            <a:xfrm rot="16200000">
              <a:off x="7128360" y="583776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4</a:t>
              </a:r>
              <a:endParaRPr b="0" lang="en-US" sz="700" spc="-1" strike="noStrike">
                <a:solidFill>
                  <a:srgbClr val="000000"/>
                </a:solidFill>
                <a:latin typeface="Calibri"/>
              </a:endParaRPr>
            </a:p>
          </p:txBody>
        </p:sp>
        <p:sp>
          <p:nvSpPr>
            <p:cNvPr id="603" name="TextBox 69"/>
            <p:cNvSpPr/>
            <p:nvPr/>
          </p:nvSpPr>
          <p:spPr>
            <a:xfrm rot="16200000">
              <a:off x="7128360" y="615528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5</a:t>
              </a:r>
              <a:endParaRPr b="0" lang="en-US" sz="700" spc="-1" strike="noStrike">
                <a:solidFill>
                  <a:srgbClr val="000000"/>
                </a:solidFill>
                <a:latin typeface="Calibri"/>
              </a:endParaRPr>
            </a:p>
          </p:txBody>
        </p:sp>
        <p:sp>
          <p:nvSpPr>
            <p:cNvPr id="604" name="TextBox 70"/>
            <p:cNvSpPr/>
            <p:nvPr/>
          </p:nvSpPr>
          <p:spPr>
            <a:xfrm rot="16200000">
              <a:off x="7138080" y="4151880"/>
              <a:ext cx="2793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1</a:t>
              </a:r>
              <a:endParaRPr b="0" lang="en-US" sz="600" spc="-1" strike="noStrike">
                <a:solidFill>
                  <a:srgbClr val="000000"/>
                </a:solidFill>
                <a:latin typeface="Calibri"/>
              </a:endParaRPr>
            </a:p>
          </p:txBody>
        </p:sp>
        <p:sp>
          <p:nvSpPr>
            <p:cNvPr id="605" name="TextBox 71"/>
            <p:cNvSpPr/>
            <p:nvPr/>
          </p:nvSpPr>
          <p:spPr>
            <a:xfrm rot="16200000">
              <a:off x="7163640" y="3847320"/>
              <a:ext cx="2282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2</a:t>
              </a:r>
              <a:endParaRPr b="0" lang="en-US" sz="600" spc="-1" strike="noStrike">
                <a:solidFill>
                  <a:srgbClr val="000000"/>
                </a:solidFill>
                <a:latin typeface="Calibri"/>
              </a:endParaRPr>
            </a:p>
          </p:txBody>
        </p:sp>
        <p:sp>
          <p:nvSpPr>
            <p:cNvPr id="606" name="TextBox 72"/>
            <p:cNvSpPr/>
            <p:nvPr/>
          </p:nvSpPr>
          <p:spPr>
            <a:xfrm rot="16200000">
              <a:off x="7141320" y="350136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3</a:t>
              </a:r>
              <a:endParaRPr b="0" lang="en-US" sz="700" spc="-1" strike="noStrike">
                <a:solidFill>
                  <a:srgbClr val="000000"/>
                </a:solidFill>
                <a:latin typeface="Calibri"/>
              </a:endParaRPr>
            </a:p>
          </p:txBody>
        </p:sp>
        <p:sp>
          <p:nvSpPr>
            <p:cNvPr id="607" name="TextBox 73"/>
            <p:cNvSpPr/>
            <p:nvPr/>
          </p:nvSpPr>
          <p:spPr>
            <a:xfrm rot="16200000">
              <a:off x="7141320" y="318384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4</a:t>
              </a:r>
              <a:endParaRPr b="0" lang="en-US" sz="700" spc="-1" strike="noStrike">
                <a:solidFill>
                  <a:srgbClr val="000000"/>
                </a:solidFill>
                <a:latin typeface="Calibri"/>
              </a:endParaRPr>
            </a:p>
          </p:txBody>
        </p:sp>
        <p:sp>
          <p:nvSpPr>
            <p:cNvPr id="608" name="TextBox 74"/>
            <p:cNvSpPr/>
            <p:nvPr/>
          </p:nvSpPr>
          <p:spPr>
            <a:xfrm rot="16200000">
              <a:off x="7128360" y="285336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5</a:t>
              </a:r>
              <a:endParaRPr b="0" lang="en-US" sz="700" spc="-1" strike="noStrike">
                <a:solidFill>
                  <a:srgbClr val="000000"/>
                </a:solidFill>
                <a:latin typeface="Calibri"/>
              </a:endParaRPr>
            </a:p>
          </p:txBody>
        </p:sp>
        <p:grpSp>
          <p:nvGrpSpPr>
            <p:cNvPr id="609" name="Group 80"/>
            <p:cNvGrpSpPr/>
            <p:nvPr/>
          </p:nvGrpSpPr>
          <p:grpSpPr>
            <a:xfrm>
              <a:off x="7056360" y="2658960"/>
              <a:ext cx="139680" cy="3944880"/>
              <a:chOff x="7056360" y="2658960"/>
              <a:chExt cx="139680" cy="3944880"/>
            </a:xfrm>
          </p:grpSpPr>
          <p:sp>
            <p:nvSpPr>
              <p:cNvPr id="610" name="Freeform 75"/>
              <p:cNvSpPr/>
              <p:nvPr/>
            </p:nvSpPr>
            <p:spPr>
              <a:xfrm rot="16200000">
                <a:off x="5155920" y="4626360"/>
                <a:ext cx="3938760" cy="5040"/>
              </a:xfrm>
              <a:custGeom>
                <a:avLst/>
                <a:gdLst>
                  <a:gd name="textAreaLeft" fmla="*/ 0 w 3938760"/>
                  <a:gd name="textAreaRight" fmla="*/ 3939120 w 3938760"/>
                  <a:gd name="textAreaTop" fmla="*/ 0 h 5040"/>
                  <a:gd name="textAreaBottom" fmla="*/ 5400 h 5040"/>
                </a:gdLst>
                <a:ahLst/>
                <a:rect l="textAreaLeft" t="textAreaTop" r="textAreaRight" b="textAreaBottom"/>
                <a:pathLst>
                  <a:path w="3939161" h="5208">
                    <a:moveTo>
                      <a:pt x="0" y="5207"/>
                    </a:moveTo>
                    <a:lnTo>
                      <a:pt x="0" y="0"/>
                    </a:lnTo>
                    <a:lnTo>
                      <a:pt x="3939160" y="0"/>
                    </a:lnTo>
                    <a:lnTo>
                      <a:pt x="3939160" y="5207"/>
                    </a:lnTo>
                    <a:close/>
                  </a:path>
                </a:pathLst>
              </a:custGeom>
              <a:solidFill>
                <a:srgbClr val="000000"/>
              </a:solidFill>
              <a:ln w="0">
                <a:solidFill>
                  <a:srgbClr val="000000"/>
                </a:solidFill>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Calibri"/>
                </a:endParaRPr>
              </a:p>
            </p:txBody>
          </p:sp>
          <p:sp>
            <p:nvSpPr>
              <p:cNvPr id="611" name="Freeform 76"/>
              <p:cNvSpPr/>
              <p:nvPr/>
            </p:nvSpPr>
            <p:spPr>
              <a:xfrm rot="16200000">
                <a:off x="7035840" y="6510240"/>
                <a:ext cx="113760" cy="73080"/>
              </a:xfrm>
              <a:custGeom>
                <a:avLst/>
                <a:gdLst>
                  <a:gd name="textAreaLeft" fmla="*/ 0 w 113760"/>
                  <a:gd name="textAreaRight" fmla="*/ 114120 w 113760"/>
                  <a:gd name="textAreaTop" fmla="*/ 0 h 73080"/>
                  <a:gd name="textAreaBottom" fmla="*/ 73440 h 73080"/>
                </a:gdLst>
                <a:ahLst/>
                <a:rect l="textAreaLeft" t="textAreaTop" r="textAreaRight" b="textAreaBottom"/>
                <a:pathLst>
                  <a:path w="113793" h="72772">
                    <a:moveTo>
                      <a:pt x="5461" y="72771"/>
                    </a:moveTo>
                    <a:lnTo>
                      <a:pt x="0" y="69088"/>
                    </a:lnTo>
                    <a:lnTo>
                      <a:pt x="108204" y="0"/>
                    </a:lnTo>
                    <a:lnTo>
                      <a:pt x="113792" y="3556"/>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sp>
            <p:nvSpPr>
              <p:cNvPr id="612" name="Freeform 77"/>
              <p:cNvSpPr/>
              <p:nvPr/>
            </p:nvSpPr>
            <p:spPr>
              <a:xfrm rot="16200000">
                <a:off x="7102440" y="6509160"/>
                <a:ext cx="113400" cy="73080"/>
              </a:xfrm>
              <a:custGeom>
                <a:avLst/>
                <a:gdLst>
                  <a:gd name="textAreaLeft" fmla="*/ 0 w 113400"/>
                  <a:gd name="textAreaRight" fmla="*/ 113760 w 113400"/>
                  <a:gd name="textAreaTop" fmla="*/ 0 h 73080"/>
                  <a:gd name="textAreaBottom" fmla="*/ 73440 h 73080"/>
                </a:gdLst>
                <a:ahLst/>
                <a:rect l="textAreaLeft" t="textAreaTop" r="textAreaRight" b="textAreaBottom"/>
                <a:pathLst>
                  <a:path w="113665" h="72898">
                    <a:moveTo>
                      <a:pt x="0" y="3682"/>
                    </a:moveTo>
                    <a:lnTo>
                      <a:pt x="5460" y="0"/>
                    </a:lnTo>
                    <a:lnTo>
                      <a:pt x="113664" y="69214"/>
                    </a:lnTo>
                    <a:lnTo>
                      <a:pt x="108203" y="72897"/>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sp>
            <p:nvSpPr>
              <p:cNvPr id="613" name="Freeform 78"/>
              <p:cNvSpPr/>
              <p:nvPr/>
            </p:nvSpPr>
            <p:spPr>
              <a:xfrm rot="16200000">
                <a:off x="7035840" y="2679120"/>
                <a:ext cx="113760" cy="73080"/>
              </a:xfrm>
              <a:custGeom>
                <a:avLst/>
                <a:gdLst>
                  <a:gd name="textAreaLeft" fmla="*/ 0 w 113760"/>
                  <a:gd name="textAreaRight" fmla="*/ 114120 w 113760"/>
                  <a:gd name="textAreaTop" fmla="*/ 0 h 73080"/>
                  <a:gd name="textAreaBottom" fmla="*/ 73440 h 73080"/>
                </a:gdLst>
                <a:ahLst/>
                <a:rect l="textAreaLeft" t="textAreaTop" r="textAreaRight" b="textAreaBottom"/>
                <a:pathLst>
                  <a:path w="113793" h="72772">
                    <a:moveTo>
                      <a:pt x="113792" y="69088"/>
                    </a:moveTo>
                    <a:lnTo>
                      <a:pt x="108331" y="72771"/>
                    </a:lnTo>
                    <a:lnTo>
                      <a:pt x="0" y="3683"/>
                    </a:lnTo>
                    <a:lnTo>
                      <a:pt x="5461" y="0"/>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sp>
            <p:nvSpPr>
              <p:cNvPr id="614" name="Freeform 79"/>
              <p:cNvSpPr/>
              <p:nvPr/>
            </p:nvSpPr>
            <p:spPr>
              <a:xfrm rot="16200000">
                <a:off x="7102440" y="2680560"/>
                <a:ext cx="113760" cy="73080"/>
              </a:xfrm>
              <a:custGeom>
                <a:avLst/>
                <a:gdLst>
                  <a:gd name="textAreaLeft" fmla="*/ 0 w 113760"/>
                  <a:gd name="textAreaRight" fmla="*/ 114120 w 113760"/>
                  <a:gd name="textAreaTop" fmla="*/ 0 h 73080"/>
                  <a:gd name="textAreaBottom" fmla="*/ 73440 h 73080"/>
                </a:gdLst>
                <a:ahLst/>
                <a:rect l="textAreaLeft" t="textAreaTop" r="textAreaRight" b="textAreaBottom"/>
                <a:pathLst>
                  <a:path w="113793" h="72772">
                    <a:moveTo>
                      <a:pt x="108204" y="0"/>
                    </a:moveTo>
                    <a:lnTo>
                      <a:pt x="113792" y="3683"/>
                    </a:lnTo>
                    <a:lnTo>
                      <a:pt x="5588" y="72771"/>
                    </a:lnTo>
                    <a:lnTo>
                      <a:pt x="0" y="69088"/>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grpSp>
        <p:sp>
          <p:nvSpPr>
            <p:cNvPr id="615" name="Freeform 81"/>
            <p:cNvSpPr/>
            <p:nvPr/>
          </p:nvSpPr>
          <p:spPr>
            <a:xfrm rot="16200000">
              <a:off x="7117920" y="295272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6" name="Freeform 82"/>
            <p:cNvSpPr/>
            <p:nvPr/>
          </p:nvSpPr>
          <p:spPr>
            <a:xfrm rot="16200000">
              <a:off x="7118280" y="3273120"/>
              <a:ext cx="8280" cy="106200"/>
            </a:xfrm>
            <a:custGeom>
              <a:avLst/>
              <a:gdLst>
                <a:gd name="textAreaLeft" fmla="*/ 0 w 8280"/>
                <a:gd name="textAreaRight" fmla="*/ 8640 w 8280"/>
                <a:gd name="textAreaTop" fmla="*/ 0 h 106200"/>
                <a:gd name="textAreaBottom" fmla="*/ 106560 h 106200"/>
              </a:gdLst>
              <a:ahLst/>
              <a:rect l="textAreaLeft" t="textAreaTop" r="textAreaRight" b="textAreaBottom"/>
              <a:pathLst>
                <a:path w="8637" h="105919">
                  <a:moveTo>
                    <a:pt x="0" y="0"/>
                  </a:moveTo>
                  <a:lnTo>
                    <a:pt x="8636" y="0"/>
                  </a:lnTo>
                  <a:lnTo>
                    <a:pt x="8636"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7" name="Freeform 83"/>
            <p:cNvSpPr/>
            <p:nvPr/>
          </p:nvSpPr>
          <p:spPr>
            <a:xfrm rot="16200000">
              <a:off x="7117920" y="361260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8" name="Freeform 84"/>
            <p:cNvSpPr/>
            <p:nvPr/>
          </p:nvSpPr>
          <p:spPr>
            <a:xfrm rot="16200000">
              <a:off x="7117920" y="393300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9" name="Freeform 85"/>
            <p:cNvSpPr/>
            <p:nvPr/>
          </p:nvSpPr>
          <p:spPr>
            <a:xfrm rot="16200000">
              <a:off x="7117920" y="4253400"/>
              <a:ext cx="8280" cy="105840"/>
            </a:xfrm>
            <a:custGeom>
              <a:avLst/>
              <a:gdLst>
                <a:gd name="textAreaLeft" fmla="*/ 0 w 8280"/>
                <a:gd name="textAreaRight" fmla="*/ 8640 w 8280"/>
                <a:gd name="textAreaTop" fmla="*/ 0 h 105840"/>
                <a:gd name="textAreaBottom" fmla="*/ 106200 h 105840"/>
              </a:gdLst>
              <a:ahLst/>
              <a:rect l="textAreaLeft" t="textAreaTop" r="textAreaRight" b="textAreaBottom"/>
              <a:pathLst>
                <a:path w="8636" h="105792">
                  <a:moveTo>
                    <a:pt x="0" y="0"/>
                  </a:moveTo>
                  <a:lnTo>
                    <a:pt x="8635" y="0"/>
                  </a:lnTo>
                  <a:lnTo>
                    <a:pt x="8635" y="105791"/>
                  </a:lnTo>
                  <a:lnTo>
                    <a:pt x="0" y="1057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0" name="Freeform 86"/>
            <p:cNvSpPr/>
            <p:nvPr/>
          </p:nvSpPr>
          <p:spPr>
            <a:xfrm rot="16200000">
              <a:off x="7122600" y="4919760"/>
              <a:ext cx="8280" cy="106200"/>
            </a:xfrm>
            <a:custGeom>
              <a:avLst/>
              <a:gdLst>
                <a:gd name="textAreaLeft" fmla="*/ 0 w 8280"/>
                <a:gd name="textAreaRight" fmla="*/ 8640 w 8280"/>
                <a:gd name="textAreaTop" fmla="*/ 0 h 106200"/>
                <a:gd name="textAreaBottom" fmla="*/ 106560 h 106200"/>
              </a:gdLst>
              <a:ahLst/>
              <a:rect l="textAreaLeft" t="textAreaTop" r="textAreaRight" b="textAreaBottom"/>
              <a:pathLst>
                <a:path w="8637" h="105919">
                  <a:moveTo>
                    <a:pt x="0" y="0"/>
                  </a:moveTo>
                  <a:lnTo>
                    <a:pt x="8636" y="0"/>
                  </a:lnTo>
                  <a:lnTo>
                    <a:pt x="8636"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1" name="Freeform 87"/>
            <p:cNvSpPr/>
            <p:nvPr/>
          </p:nvSpPr>
          <p:spPr>
            <a:xfrm rot="16200000">
              <a:off x="7122600" y="5239800"/>
              <a:ext cx="8280" cy="106200"/>
            </a:xfrm>
            <a:custGeom>
              <a:avLst/>
              <a:gdLst>
                <a:gd name="textAreaLeft" fmla="*/ 0 w 8280"/>
                <a:gd name="textAreaRight" fmla="*/ 8640 w 8280"/>
                <a:gd name="textAreaTop" fmla="*/ 0 h 106200"/>
                <a:gd name="textAreaBottom" fmla="*/ 106560 h 106200"/>
              </a:gdLst>
              <a:ahLst/>
              <a:rect l="textAreaLeft" t="textAreaTop" r="textAreaRight" b="textAreaBottom"/>
              <a:pathLst>
                <a:path w="8637" h="105920">
                  <a:moveTo>
                    <a:pt x="0" y="0"/>
                  </a:moveTo>
                  <a:lnTo>
                    <a:pt x="8636" y="0"/>
                  </a:lnTo>
                  <a:lnTo>
                    <a:pt x="8636" y="105919"/>
                  </a:lnTo>
                  <a:lnTo>
                    <a:pt x="0" y="10591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2" name="Freeform 88"/>
            <p:cNvSpPr/>
            <p:nvPr/>
          </p:nvSpPr>
          <p:spPr>
            <a:xfrm rot="16200000">
              <a:off x="7122240" y="557928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3" name="Freeform 89"/>
            <p:cNvSpPr/>
            <p:nvPr/>
          </p:nvSpPr>
          <p:spPr>
            <a:xfrm rot="16200000">
              <a:off x="7122240" y="589968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5" h="105919">
                  <a:moveTo>
                    <a:pt x="0" y="0"/>
                  </a:moveTo>
                  <a:lnTo>
                    <a:pt x="8764" y="0"/>
                  </a:lnTo>
                  <a:lnTo>
                    <a:pt x="8764"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4" name="Freeform 90"/>
            <p:cNvSpPr/>
            <p:nvPr/>
          </p:nvSpPr>
          <p:spPr>
            <a:xfrm rot="16200000">
              <a:off x="7122240" y="621972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5" name="Freeform 91"/>
            <p:cNvSpPr/>
            <p:nvPr/>
          </p:nvSpPr>
          <p:spPr>
            <a:xfrm rot="16200000">
              <a:off x="7118280" y="4586400"/>
              <a:ext cx="8280" cy="106200"/>
            </a:xfrm>
            <a:custGeom>
              <a:avLst/>
              <a:gdLst>
                <a:gd name="textAreaLeft" fmla="*/ 0 w 8280"/>
                <a:gd name="textAreaRight" fmla="*/ 8640 w 8280"/>
                <a:gd name="textAreaTop" fmla="*/ 0 h 106200"/>
                <a:gd name="textAreaBottom" fmla="*/ 106560 h 106200"/>
              </a:gdLst>
              <a:ahLst/>
              <a:rect l="textAreaLeft" t="textAreaTop" r="textAreaRight" b="textAreaBottom"/>
              <a:pathLst>
                <a:path w="8637" h="105919">
                  <a:moveTo>
                    <a:pt x="0" y="0"/>
                  </a:moveTo>
                  <a:lnTo>
                    <a:pt x="8636" y="0"/>
                  </a:lnTo>
                  <a:lnTo>
                    <a:pt x="8636"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626" name="Group 121"/>
          <p:cNvGrpSpPr/>
          <p:nvPr/>
        </p:nvGrpSpPr>
        <p:grpSpPr>
          <a:xfrm>
            <a:off x="8505720" y="2684520"/>
            <a:ext cx="404640" cy="3944880"/>
            <a:chOff x="8505720" y="2684520"/>
            <a:chExt cx="404640" cy="3944880"/>
          </a:xfrm>
        </p:grpSpPr>
        <p:sp>
          <p:nvSpPr>
            <p:cNvPr id="627" name="TextBox 93"/>
            <p:cNvSpPr/>
            <p:nvPr/>
          </p:nvSpPr>
          <p:spPr>
            <a:xfrm rot="16200000">
              <a:off x="8586360" y="4901400"/>
              <a:ext cx="2793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1</a:t>
              </a:r>
              <a:endParaRPr b="0" lang="en-US" sz="600" spc="-1" strike="noStrike">
                <a:solidFill>
                  <a:srgbClr val="000000"/>
                </a:solidFill>
                <a:latin typeface="Calibri"/>
              </a:endParaRPr>
            </a:p>
          </p:txBody>
        </p:sp>
        <p:sp>
          <p:nvSpPr>
            <p:cNvPr id="628" name="TextBox 94"/>
            <p:cNvSpPr/>
            <p:nvPr/>
          </p:nvSpPr>
          <p:spPr>
            <a:xfrm rot="16200000">
              <a:off x="8599320" y="4533480"/>
              <a:ext cx="25380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0</a:t>
              </a:r>
              <a:endParaRPr b="0" lang="en-US" sz="600" spc="-1" strike="noStrike">
                <a:solidFill>
                  <a:srgbClr val="000000"/>
                </a:solidFill>
                <a:latin typeface="Calibri"/>
              </a:endParaRPr>
            </a:p>
          </p:txBody>
        </p:sp>
        <p:sp>
          <p:nvSpPr>
            <p:cNvPr id="629" name="TextBox 95"/>
            <p:cNvSpPr/>
            <p:nvPr/>
          </p:nvSpPr>
          <p:spPr>
            <a:xfrm rot="16200000">
              <a:off x="8657640" y="5185800"/>
              <a:ext cx="22824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2</a:t>
              </a:r>
              <a:endParaRPr b="0" lang="en-US" sz="600" spc="-1" strike="noStrike">
                <a:solidFill>
                  <a:srgbClr val="000000"/>
                </a:solidFill>
                <a:latin typeface="Calibri"/>
              </a:endParaRPr>
            </a:p>
          </p:txBody>
        </p:sp>
        <p:sp>
          <p:nvSpPr>
            <p:cNvPr id="630" name="TextBox 96"/>
            <p:cNvSpPr/>
            <p:nvPr/>
          </p:nvSpPr>
          <p:spPr>
            <a:xfrm rot="16200000">
              <a:off x="8577000" y="554616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3</a:t>
              </a:r>
              <a:endParaRPr b="0" lang="en-US" sz="700" spc="-1" strike="noStrike">
                <a:solidFill>
                  <a:srgbClr val="000000"/>
                </a:solidFill>
                <a:latin typeface="Calibri"/>
              </a:endParaRPr>
            </a:p>
          </p:txBody>
        </p:sp>
        <p:sp>
          <p:nvSpPr>
            <p:cNvPr id="631" name="TextBox 97"/>
            <p:cNvSpPr/>
            <p:nvPr/>
          </p:nvSpPr>
          <p:spPr>
            <a:xfrm rot="16200000">
              <a:off x="8577000" y="586332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4</a:t>
              </a:r>
              <a:endParaRPr b="0" lang="en-US" sz="700" spc="-1" strike="noStrike">
                <a:solidFill>
                  <a:srgbClr val="000000"/>
                </a:solidFill>
                <a:latin typeface="Calibri"/>
              </a:endParaRPr>
            </a:p>
          </p:txBody>
        </p:sp>
        <p:sp>
          <p:nvSpPr>
            <p:cNvPr id="632" name="TextBox 98"/>
            <p:cNvSpPr/>
            <p:nvPr/>
          </p:nvSpPr>
          <p:spPr>
            <a:xfrm rot="16200000">
              <a:off x="8577000" y="618084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5</a:t>
              </a:r>
              <a:endParaRPr b="0" lang="en-US" sz="700" spc="-1" strike="noStrike">
                <a:solidFill>
                  <a:srgbClr val="000000"/>
                </a:solidFill>
                <a:latin typeface="Calibri"/>
              </a:endParaRPr>
            </a:p>
          </p:txBody>
        </p:sp>
        <p:sp>
          <p:nvSpPr>
            <p:cNvPr id="633" name="TextBox 99"/>
            <p:cNvSpPr/>
            <p:nvPr/>
          </p:nvSpPr>
          <p:spPr>
            <a:xfrm rot="16200000">
              <a:off x="8586360" y="4177440"/>
              <a:ext cx="2793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1</a:t>
              </a:r>
              <a:endParaRPr b="0" lang="en-US" sz="600" spc="-1" strike="noStrike">
                <a:solidFill>
                  <a:srgbClr val="000000"/>
                </a:solidFill>
                <a:latin typeface="Calibri"/>
              </a:endParaRPr>
            </a:p>
          </p:txBody>
        </p:sp>
        <p:sp>
          <p:nvSpPr>
            <p:cNvPr id="634" name="TextBox 100"/>
            <p:cNvSpPr/>
            <p:nvPr/>
          </p:nvSpPr>
          <p:spPr>
            <a:xfrm rot="16200000">
              <a:off x="8611920" y="3872880"/>
              <a:ext cx="2282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2</a:t>
              </a:r>
              <a:endParaRPr b="0" lang="en-US" sz="600" spc="-1" strike="noStrike">
                <a:solidFill>
                  <a:srgbClr val="000000"/>
                </a:solidFill>
                <a:latin typeface="Calibri"/>
              </a:endParaRPr>
            </a:p>
          </p:txBody>
        </p:sp>
        <p:sp>
          <p:nvSpPr>
            <p:cNvPr id="635" name="TextBox 101"/>
            <p:cNvSpPr/>
            <p:nvPr/>
          </p:nvSpPr>
          <p:spPr>
            <a:xfrm rot="16200000">
              <a:off x="8589600" y="352692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3</a:t>
              </a:r>
              <a:endParaRPr b="0" lang="en-US" sz="700" spc="-1" strike="noStrike">
                <a:solidFill>
                  <a:srgbClr val="000000"/>
                </a:solidFill>
                <a:latin typeface="Calibri"/>
              </a:endParaRPr>
            </a:p>
          </p:txBody>
        </p:sp>
        <p:sp>
          <p:nvSpPr>
            <p:cNvPr id="636" name="TextBox 102"/>
            <p:cNvSpPr/>
            <p:nvPr/>
          </p:nvSpPr>
          <p:spPr>
            <a:xfrm rot="16200000">
              <a:off x="8589600" y="320940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4</a:t>
              </a:r>
              <a:endParaRPr b="0" lang="en-US" sz="700" spc="-1" strike="noStrike">
                <a:solidFill>
                  <a:srgbClr val="000000"/>
                </a:solidFill>
                <a:latin typeface="Calibri"/>
              </a:endParaRPr>
            </a:p>
          </p:txBody>
        </p:sp>
        <p:sp>
          <p:nvSpPr>
            <p:cNvPr id="637" name="TextBox 103"/>
            <p:cNvSpPr/>
            <p:nvPr/>
          </p:nvSpPr>
          <p:spPr>
            <a:xfrm rot="16200000">
              <a:off x="8577000" y="287892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5</a:t>
              </a:r>
              <a:endParaRPr b="0" lang="en-US" sz="700" spc="-1" strike="noStrike">
                <a:solidFill>
                  <a:srgbClr val="000000"/>
                </a:solidFill>
                <a:latin typeface="Calibri"/>
              </a:endParaRPr>
            </a:p>
          </p:txBody>
        </p:sp>
        <p:grpSp>
          <p:nvGrpSpPr>
            <p:cNvPr id="638" name="Group 109"/>
            <p:cNvGrpSpPr/>
            <p:nvPr/>
          </p:nvGrpSpPr>
          <p:grpSpPr>
            <a:xfrm>
              <a:off x="8505720" y="2684520"/>
              <a:ext cx="139320" cy="3944880"/>
              <a:chOff x="8505720" y="2684520"/>
              <a:chExt cx="139320" cy="3944880"/>
            </a:xfrm>
          </p:grpSpPr>
          <p:sp>
            <p:nvSpPr>
              <p:cNvPr id="639" name="Freeform 104"/>
              <p:cNvSpPr/>
              <p:nvPr/>
            </p:nvSpPr>
            <p:spPr>
              <a:xfrm rot="16200000">
                <a:off x="6605280" y="4651920"/>
                <a:ext cx="3938760" cy="5040"/>
              </a:xfrm>
              <a:custGeom>
                <a:avLst/>
                <a:gdLst>
                  <a:gd name="textAreaLeft" fmla="*/ 0 w 3938760"/>
                  <a:gd name="textAreaRight" fmla="*/ 3939120 w 3938760"/>
                  <a:gd name="textAreaTop" fmla="*/ 0 h 5040"/>
                  <a:gd name="textAreaBottom" fmla="*/ 5400 h 5040"/>
                </a:gdLst>
                <a:ahLst/>
                <a:rect l="textAreaLeft" t="textAreaTop" r="textAreaRight" b="textAreaBottom"/>
                <a:pathLst>
                  <a:path w="3939160" h="5208">
                    <a:moveTo>
                      <a:pt x="0" y="5207"/>
                    </a:moveTo>
                    <a:lnTo>
                      <a:pt x="0" y="0"/>
                    </a:lnTo>
                    <a:lnTo>
                      <a:pt x="3939159" y="0"/>
                    </a:lnTo>
                    <a:lnTo>
                      <a:pt x="3939159" y="5207"/>
                    </a:lnTo>
                    <a:close/>
                  </a:path>
                </a:pathLst>
              </a:custGeom>
              <a:solidFill>
                <a:srgbClr val="000000"/>
              </a:solidFill>
              <a:ln w="0">
                <a:solidFill>
                  <a:srgbClr val="000000"/>
                </a:solidFill>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Calibri"/>
                </a:endParaRPr>
              </a:p>
            </p:txBody>
          </p:sp>
          <p:sp>
            <p:nvSpPr>
              <p:cNvPr id="640" name="Freeform 105"/>
              <p:cNvSpPr/>
              <p:nvPr/>
            </p:nvSpPr>
            <p:spPr>
              <a:xfrm rot="16200000">
                <a:off x="8485200" y="6536160"/>
                <a:ext cx="113760" cy="72720"/>
              </a:xfrm>
              <a:custGeom>
                <a:avLst/>
                <a:gdLst>
                  <a:gd name="textAreaLeft" fmla="*/ 0 w 113760"/>
                  <a:gd name="textAreaRight" fmla="*/ 114120 w 113760"/>
                  <a:gd name="textAreaTop" fmla="*/ 0 h 72720"/>
                  <a:gd name="textAreaBottom" fmla="*/ 73080 h 72720"/>
                </a:gdLst>
                <a:ahLst/>
                <a:rect l="textAreaLeft" t="textAreaTop" r="textAreaRight" b="textAreaBottom"/>
                <a:pathLst>
                  <a:path w="113793" h="72772">
                    <a:moveTo>
                      <a:pt x="5461" y="72771"/>
                    </a:moveTo>
                    <a:lnTo>
                      <a:pt x="0" y="69088"/>
                    </a:lnTo>
                    <a:lnTo>
                      <a:pt x="108203" y="0"/>
                    </a:lnTo>
                    <a:lnTo>
                      <a:pt x="113792" y="3556"/>
                    </a:lnTo>
                    <a:close/>
                  </a:path>
                </a:pathLst>
              </a:custGeom>
              <a:solidFill>
                <a:srgbClr val="000000"/>
              </a:solidFill>
              <a:ln w="0">
                <a:solidFill>
                  <a:srgbClr val="000000"/>
                </a:solidFill>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Calibri"/>
                </a:endParaRPr>
              </a:p>
            </p:txBody>
          </p:sp>
          <p:sp>
            <p:nvSpPr>
              <p:cNvPr id="641" name="Freeform 106"/>
              <p:cNvSpPr/>
              <p:nvPr/>
            </p:nvSpPr>
            <p:spPr>
              <a:xfrm rot="16200000">
                <a:off x="8551800" y="6534720"/>
                <a:ext cx="113400" cy="73080"/>
              </a:xfrm>
              <a:custGeom>
                <a:avLst/>
                <a:gdLst>
                  <a:gd name="textAreaLeft" fmla="*/ 0 w 113400"/>
                  <a:gd name="textAreaRight" fmla="*/ 113760 w 113400"/>
                  <a:gd name="textAreaTop" fmla="*/ 0 h 73080"/>
                  <a:gd name="textAreaBottom" fmla="*/ 73440 h 73080"/>
                </a:gdLst>
                <a:ahLst/>
                <a:rect l="textAreaLeft" t="textAreaTop" r="textAreaRight" b="textAreaBottom"/>
                <a:pathLst>
                  <a:path w="113666" h="72899">
                    <a:moveTo>
                      <a:pt x="0" y="3682"/>
                    </a:moveTo>
                    <a:lnTo>
                      <a:pt x="5462" y="0"/>
                    </a:lnTo>
                    <a:lnTo>
                      <a:pt x="113665" y="69214"/>
                    </a:lnTo>
                    <a:lnTo>
                      <a:pt x="108205" y="72898"/>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sp>
            <p:nvSpPr>
              <p:cNvPr id="642" name="Freeform 107"/>
              <p:cNvSpPr/>
              <p:nvPr/>
            </p:nvSpPr>
            <p:spPr>
              <a:xfrm rot="16200000">
                <a:off x="8485200" y="2705040"/>
                <a:ext cx="113760" cy="72720"/>
              </a:xfrm>
              <a:custGeom>
                <a:avLst/>
                <a:gdLst>
                  <a:gd name="textAreaLeft" fmla="*/ 0 w 113760"/>
                  <a:gd name="textAreaRight" fmla="*/ 114120 w 113760"/>
                  <a:gd name="textAreaTop" fmla="*/ 0 h 72720"/>
                  <a:gd name="textAreaBottom" fmla="*/ 73080 h 72720"/>
                </a:gdLst>
                <a:ahLst/>
                <a:rect l="textAreaLeft" t="textAreaTop" r="textAreaRight" b="textAreaBottom"/>
                <a:pathLst>
                  <a:path w="113794" h="72772">
                    <a:moveTo>
                      <a:pt x="113793" y="69088"/>
                    </a:moveTo>
                    <a:lnTo>
                      <a:pt x="108332" y="72771"/>
                    </a:lnTo>
                    <a:lnTo>
                      <a:pt x="0" y="3683"/>
                    </a:lnTo>
                    <a:lnTo>
                      <a:pt x="5461" y="0"/>
                    </a:lnTo>
                    <a:close/>
                  </a:path>
                </a:pathLst>
              </a:custGeom>
              <a:solidFill>
                <a:srgbClr val="000000"/>
              </a:solidFill>
              <a:ln w="0">
                <a:solidFill>
                  <a:srgbClr val="000000"/>
                </a:solidFill>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Calibri"/>
                </a:endParaRPr>
              </a:p>
            </p:txBody>
          </p:sp>
          <p:sp>
            <p:nvSpPr>
              <p:cNvPr id="643" name="Freeform 108"/>
              <p:cNvSpPr/>
              <p:nvPr/>
            </p:nvSpPr>
            <p:spPr>
              <a:xfrm rot="16200000">
                <a:off x="8551800" y="2706480"/>
                <a:ext cx="113760" cy="72720"/>
              </a:xfrm>
              <a:custGeom>
                <a:avLst/>
                <a:gdLst>
                  <a:gd name="textAreaLeft" fmla="*/ 0 w 113760"/>
                  <a:gd name="textAreaRight" fmla="*/ 114120 w 113760"/>
                  <a:gd name="textAreaTop" fmla="*/ 0 h 72720"/>
                  <a:gd name="textAreaBottom" fmla="*/ 73080 h 72720"/>
                </a:gdLst>
                <a:ahLst/>
                <a:rect l="textAreaLeft" t="textAreaTop" r="textAreaRight" b="textAreaBottom"/>
                <a:pathLst>
                  <a:path w="113794" h="72772">
                    <a:moveTo>
                      <a:pt x="108332" y="0"/>
                    </a:moveTo>
                    <a:lnTo>
                      <a:pt x="113793" y="3683"/>
                    </a:lnTo>
                    <a:lnTo>
                      <a:pt x="5588" y="72771"/>
                    </a:lnTo>
                    <a:lnTo>
                      <a:pt x="0" y="69088"/>
                    </a:lnTo>
                    <a:close/>
                  </a:path>
                </a:pathLst>
              </a:custGeom>
              <a:solidFill>
                <a:srgbClr val="000000"/>
              </a:solidFill>
              <a:ln w="0">
                <a:solidFill>
                  <a:srgbClr val="000000"/>
                </a:solidFill>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Calibri"/>
                </a:endParaRPr>
              </a:p>
            </p:txBody>
          </p:sp>
        </p:grpSp>
        <p:sp>
          <p:nvSpPr>
            <p:cNvPr id="644" name="Freeform 110"/>
            <p:cNvSpPr/>
            <p:nvPr/>
          </p:nvSpPr>
          <p:spPr>
            <a:xfrm rot="16200000">
              <a:off x="8567280" y="2978640"/>
              <a:ext cx="8640" cy="105840"/>
            </a:xfrm>
            <a:custGeom>
              <a:avLst/>
              <a:gdLst>
                <a:gd name="textAreaLeft" fmla="*/ 0 w 8640"/>
                <a:gd name="textAreaRight" fmla="*/ 9000 w 8640"/>
                <a:gd name="textAreaTop" fmla="*/ 0 h 105840"/>
                <a:gd name="textAreaBottom" fmla="*/ 106200 h 10584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5" name="Freeform 111"/>
            <p:cNvSpPr/>
            <p:nvPr/>
          </p:nvSpPr>
          <p:spPr>
            <a:xfrm rot="16200000">
              <a:off x="8567280" y="3298680"/>
              <a:ext cx="8280" cy="105840"/>
            </a:xfrm>
            <a:custGeom>
              <a:avLst/>
              <a:gdLst>
                <a:gd name="textAreaLeft" fmla="*/ 0 w 8280"/>
                <a:gd name="textAreaRight" fmla="*/ 8640 w 8280"/>
                <a:gd name="textAreaTop" fmla="*/ 0 h 105840"/>
                <a:gd name="textAreaBottom" fmla="*/ 106200 h 105840"/>
              </a:gdLst>
              <a:ahLst/>
              <a:rect l="textAreaLeft" t="textAreaTop" r="textAreaRight" b="textAreaBottom"/>
              <a:pathLst>
                <a:path w="8637" h="105919">
                  <a:moveTo>
                    <a:pt x="0" y="0"/>
                  </a:moveTo>
                  <a:lnTo>
                    <a:pt x="8636" y="0"/>
                  </a:lnTo>
                  <a:lnTo>
                    <a:pt x="8636"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6" name="Freeform 112"/>
            <p:cNvSpPr/>
            <p:nvPr/>
          </p:nvSpPr>
          <p:spPr>
            <a:xfrm rot="16200000">
              <a:off x="8567280" y="3638520"/>
              <a:ext cx="8640" cy="105840"/>
            </a:xfrm>
            <a:custGeom>
              <a:avLst/>
              <a:gdLst>
                <a:gd name="textAreaLeft" fmla="*/ 0 w 8640"/>
                <a:gd name="textAreaRight" fmla="*/ 9000 w 8640"/>
                <a:gd name="textAreaTop" fmla="*/ 0 h 105840"/>
                <a:gd name="textAreaBottom" fmla="*/ 106200 h 105840"/>
              </a:gdLst>
              <a:ahLst/>
              <a:rect l="textAreaLeft" t="textAreaTop" r="textAreaRight" b="textAreaBottom"/>
              <a:pathLst>
                <a:path w="8763" h="105919">
                  <a:moveTo>
                    <a:pt x="0" y="0"/>
                  </a:moveTo>
                  <a:lnTo>
                    <a:pt x="8762" y="0"/>
                  </a:lnTo>
                  <a:lnTo>
                    <a:pt x="8762"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7" name="Freeform 113"/>
            <p:cNvSpPr/>
            <p:nvPr/>
          </p:nvSpPr>
          <p:spPr>
            <a:xfrm rot="16200000">
              <a:off x="8567280" y="3958920"/>
              <a:ext cx="8640" cy="105840"/>
            </a:xfrm>
            <a:custGeom>
              <a:avLst/>
              <a:gdLst>
                <a:gd name="textAreaLeft" fmla="*/ 0 w 8640"/>
                <a:gd name="textAreaRight" fmla="*/ 9000 w 8640"/>
                <a:gd name="textAreaTop" fmla="*/ 0 h 105840"/>
                <a:gd name="textAreaBottom" fmla="*/ 106200 h 105840"/>
              </a:gdLst>
              <a:ahLst/>
              <a:rect l="textAreaLeft" t="textAreaTop" r="textAreaRight" b="textAreaBottom"/>
              <a:pathLst>
                <a:path w="8763" h="105919">
                  <a:moveTo>
                    <a:pt x="0" y="0"/>
                  </a:moveTo>
                  <a:lnTo>
                    <a:pt x="8762" y="0"/>
                  </a:lnTo>
                  <a:lnTo>
                    <a:pt x="8762"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8" name="Freeform 114"/>
            <p:cNvSpPr/>
            <p:nvPr/>
          </p:nvSpPr>
          <p:spPr>
            <a:xfrm rot="16200000">
              <a:off x="8567280" y="4278960"/>
              <a:ext cx="8280" cy="105840"/>
            </a:xfrm>
            <a:custGeom>
              <a:avLst/>
              <a:gdLst>
                <a:gd name="textAreaLeft" fmla="*/ 0 w 8280"/>
                <a:gd name="textAreaRight" fmla="*/ 8640 w 8280"/>
                <a:gd name="textAreaTop" fmla="*/ 0 h 105840"/>
                <a:gd name="textAreaBottom" fmla="*/ 106200 h 105840"/>
              </a:gdLst>
              <a:ahLst/>
              <a:rect l="textAreaLeft" t="textAreaTop" r="textAreaRight" b="textAreaBottom"/>
              <a:pathLst>
                <a:path w="8636" h="105792">
                  <a:moveTo>
                    <a:pt x="0" y="0"/>
                  </a:moveTo>
                  <a:lnTo>
                    <a:pt x="8635" y="0"/>
                  </a:lnTo>
                  <a:lnTo>
                    <a:pt x="8635" y="105791"/>
                  </a:lnTo>
                  <a:lnTo>
                    <a:pt x="0" y="1057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9" name="Freeform 115"/>
            <p:cNvSpPr/>
            <p:nvPr/>
          </p:nvSpPr>
          <p:spPr>
            <a:xfrm rot="16200000">
              <a:off x="8571600" y="4945320"/>
              <a:ext cx="8640" cy="105840"/>
            </a:xfrm>
            <a:custGeom>
              <a:avLst/>
              <a:gdLst>
                <a:gd name="textAreaLeft" fmla="*/ 0 w 8640"/>
                <a:gd name="textAreaRight" fmla="*/ 9000 w 8640"/>
                <a:gd name="textAreaTop" fmla="*/ 0 h 105840"/>
                <a:gd name="textAreaBottom" fmla="*/ 106200 h 105840"/>
              </a:gdLst>
              <a:ahLst/>
              <a:rect l="textAreaLeft" t="textAreaTop" r="textAreaRight" b="textAreaBottom"/>
              <a:pathLst>
                <a:path w="8764" h="105918">
                  <a:moveTo>
                    <a:pt x="0" y="0"/>
                  </a:moveTo>
                  <a:lnTo>
                    <a:pt x="8763" y="0"/>
                  </a:lnTo>
                  <a:lnTo>
                    <a:pt x="8763" y="105917"/>
                  </a:lnTo>
                  <a:lnTo>
                    <a:pt x="0" y="10591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0" name="Freeform 116"/>
            <p:cNvSpPr/>
            <p:nvPr/>
          </p:nvSpPr>
          <p:spPr>
            <a:xfrm rot="16200000">
              <a:off x="8571600" y="5265720"/>
              <a:ext cx="8640" cy="105840"/>
            </a:xfrm>
            <a:custGeom>
              <a:avLst/>
              <a:gdLst>
                <a:gd name="textAreaLeft" fmla="*/ 0 w 8640"/>
                <a:gd name="textAreaRight" fmla="*/ 9000 w 8640"/>
                <a:gd name="textAreaTop" fmla="*/ 0 h 105840"/>
                <a:gd name="textAreaBottom" fmla="*/ 106200 h 10584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1" name="Freeform 117"/>
            <p:cNvSpPr/>
            <p:nvPr/>
          </p:nvSpPr>
          <p:spPr>
            <a:xfrm rot="16200000">
              <a:off x="8571600" y="5605200"/>
              <a:ext cx="8640" cy="105840"/>
            </a:xfrm>
            <a:custGeom>
              <a:avLst/>
              <a:gdLst>
                <a:gd name="textAreaLeft" fmla="*/ 0 w 8640"/>
                <a:gd name="textAreaRight" fmla="*/ 9000 w 8640"/>
                <a:gd name="textAreaTop" fmla="*/ 0 h 105840"/>
                <a:gd name="textAreaBottom" fmla="*/ 106200 h 10584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2" name="Freeform 118"/>
            <p:cNvSpPr/>
            <p:nvPr/>
          </p:nvSpPr>
          <p:spPr>
            <a:xfrm rot="16200000">
              <a:off x="8571600" y="5925600"/>
              <a:ext cx="8640" cy="105840"/>
            </a:xfrm>
            <a:custGeom>
              <a:avLst/>
              <a:gdLst>
                <a:gd name="textAreaLeft" fmla="*/ 0 w 8640"/>
                <a:gd name="textAreaRight" fmla="*/ 9000 w 8640"/>
                <a:gd name="textAreaTop" fmla="*/ 0 h 105840"/>
                <a:gd name="textAreaBottom" fmla="*/ 106200 h 105840"/>
              </a:gdLst>
              <a:ahLst/>
              <a:rect l="textAreaLeft" t="textAreaTop" r="textAreaRight" b="textAreaBottom"/>
              <a:pathLst>
                <a:path w="8764" h="105918">
                  <a:moveTo>
                    <a:pt x="0" y="0"/>
                  </a:moveTo>
                  <a:lnTo>
                    <a:pt x="8763" y="0"/>
                  </a:lnTo>
                  <a:lnTo>
                    <a:pt x="8763" y="105917"/>
                  </a:lnTo>
                  <a:lnTo>
                    <a:pt x="0" y="10591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3" name="Freeform 119"/>
            <p:cNvSpPr/>
            <p:nvPr/>
          </p:nvSpPr>
          <p:spPr>
            <a:xfrm rot="16200000">
              <a:off x="8571600" y="6245640"/>
              <a:ext cx="8640" cy="105840"/>
            </a:xfrm>
            <a:custGeom>
              <a:avLst/>
              <a:gdLst>
                <a:gd name="textAreaLeft" fmla="*/ 0 w 8640"/>
                <a:gd name="textAreaRight" fmla="*/ 9000 w 8640"/>
                <a:gd name="textAreaTop" fmla="*/ 0 h 105840"/>
                <a:gd name="textAreaBottom" fmla="*/ 106200 h 105840"/>
              </a:gdLst>
              <a:ahLst/>
              <a:rect l="textAreaLeft" t="textAreaTop" r="textAreaRight" b="textAreaBottom"/>
              <a:pathLst>
                <a:path w="8764" h="105918">
                  <a:moveTo>
                    <a:pt x="0" y="0"/>
                  </a:moveTo>
                  <a:lnTo>
                    <a:pt x="8763" y="0"/>
                  </a:lnTo>
                  <a:lnTo>
                    <a:pt x="8763" y="105917"/>
                  </a:lnTo>
                  <a:lnTo>
                    <a:pt x="0" y="10591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4" name="Freeform 120"/>
            <p:cNvSpPr/>
            <p:nvPr/>
          </p:nvSpPr>
          <p:spPr>
            <a:xfrm rot="16200000">
              <a:off x="8567280" y="4611960"/>
              <a:ext cx="8280" cy="105840"/>
            </a:xfrm>
            <a:custGeom>
              <a:avLst/>
              <a:gdLst>
                <a:gd name="textAreaLeft" fmla="*/ 0 w 8280"/>
                <a:gd name="textAreaRight" fmla="*/ 8640 w 8280"/>
                <a:gd name="textAreaTop" fmla="*/ 0 h 105840"/>
                <a:gd name="textAreaBottom" fmla="*/ 106200 h 105840"/>
              </a:gdLst>
              <a:ahLst/>
              <a:rect l="textAreaLeft" t="textAreaTop" r="textAreaRight" b="textAreaBottom"/>
              <a:pathLst>
                <a:path w="8637" h="105919">
                  <a:moveTo>
                    <a:pt x="0" y="0"/>
                  </a:moveTo>
                  <a:lnTo>
                    <a:pt x="8636" y="0"/>
                  </a:lnTo>
                  <a:lnTo>
                    <a:pt x="8636"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655" name="Straight Connector 122"/>
          <p:cNvSpPr/>
          <p:nvPr/>
        </p:nvSpPr>
        <p:spPr>
          <a:xfrm flipV="1">
            <a:off x="7429680" y="3403440"/>
            <a:ext cx="0" cy="1244880"/>
          </a:xfrm>
          <a:prstGeom prst="line">
            <a:avLst/>
          </a:prstGeom>
          <a:ln w="3816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6" name="Straight Connector 123"/>
          <p:cNvSpPr/>
          <p:nvPr/>
        </p:nvSpPr>
        <p:spPr>
          <a:xfrm>
            <a:off x="8953560" y="4673520"/>
            <a:ext cx="0" cy="609840"/>
          </a:xfrm>
          <a:prstGeom prst="line">
            <a:avLst/>
          </a:prstGeom>
          <a:ln w="3816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7" name="TextBox 124"/>
          <p:cNvSpPr/>
          <p:nvPr/>
        </p:nvSpPr>
        <p:spPr>
          <a:xfrm>
            <a:off x="8991720" y="481320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mic Sans MS - 16"/>
              </a:rPr>
              <a:t>-2</a:t>
            </a:r>
            <a:endParaRPr b="0" lang="en-US" sz="1500" spc="-1" strike="noStrike">
              <a:solidFill>
                <a:srgbClr val="000000"/>
              </a:solidFill>
              <a:latin typeface="Calibri"/>
            </a:endParaRPr>
          </a:p>
        </p:txBody>
      </p:sp>
      <p:sp>
        <p:nvSpPr>
          <p:cNvPr id="658" name="TextBox 125"/>
          <p:cNvSpPr/>
          <p:nvPr/>
        </p:nvSpPr>
        <p:spPr>
          <a:xfrm>
            <a:off x="7467480" y="3873600"/>
            <a:ext cx="55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 16"/>
              </a:rPr>
              <a:t>+4</a:t>
            </a:r>
            <a:endParaRPr b="0" lang="en-US" sz="1600" spc="-1" strike="noStrike">
              <a:solidFill>
                <a:srgbClr val="000000"/>
              </a:solidFill>
              <a:latin typeface="Calibri"/>
            </a:endParaRPr>
          </a:p>
        </p:txBody>
      </p:sp>
      <p:sp>
        <p:nvSpPr>
          <p:cNvPr id="659" name="TextBox 126"/>
          <p:cNvSpPr/>
          <p:nvPr/>
        </p:nvSpPr>
        <p:spPr>
          <a:xfrm>
            <a:off x="254160" y="216000"/>
            <a:ext cx="271764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omic Sans MS - 36"/>
              </a:rPr>
              <a:t>Key Ideas</a:t>
            </a:r>
            <a:endParaRPr b="0" lang="en-US" sz="3500" spc="-1" strike="noStrike">
              <a:solidFill>
                <a:srgbClr val="000000"/>
              </a:solidFill>
              <a:latin typeface="Calibri"/>
            </a:endParaRPr>
          </a:p>
        </p:txBody>
      </p:sp>
      <p:sp>
        <p:nvSpPr>
          <p:cNvPr id="660" name="Freeform 127"/>
          <p:cNvSpPr/>
          <p:nvPr/>
        </p:nvSpPr>
        <p:spPr>
          <a:xfrm>
            <a:off x="4788000" y="4165560"/>
            <a:ext cx="38160" cy="360"/>
          </a:xfrm>
          <a:custGeom>
            <a:avLst/>
            <a:gdLst>
              <a:gd name="textAreaLeft" fmla="*/ 0 w 38160"/>
              <a:gd name="textAreaRight" fmla="*/ 38520 w 38160"/>
              <a:gd name="textAreaTop" fmla="*/ 0 h 360"/>
              <a:gd name="textAreaBottom" fmla="*/ 720 h 360"/>
            </a:gdLst>
            <a:ahLst/>
            <a:rect l="textAreaLeft" t="textAreaTop" r="textAreaRight" b="textAreaBottom"/>
            <a:pathLst>
              <a:path w="38101" h="1">
                <a:moveTo>
                  <a:pt x="0" y="0"/>
                </a:moveTo>
                <a:lnTo>
                  <a:pt x="-27436" y="0"/>
                </a:lnTo>
              </a:path>
            </a:pathLst>
          </a:custGeom>
          <a:noFill/>
          <a:ln w="38160">
            <a:solidFill>
              <a:srgbClr val="ff0000"/>
            </a:solidFill>
            <a:round/>
          </a:ln>
        </p:spPr>
        <p:style>
          <a:lnRef idx="0"/>
          <a:fillRef idx="0"/>
          <a:effectRef idx="0"/>
          <a:fontRef idx="minor"/>
        </p:style>
        <p:txBody>
          <a:bodyPr lIns="90000" rIns="90000" tIns="-46080" bIns="-460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TextBox 1"/>
          <p:cNvSpPr/>
          <p:nvPr/>
        </p:nvSpPr>
        <p:spPr>
          <a:xfrm>
            <a:off x="304920" y="165240"/>
            <a:ext cx="10236240" cy="408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ff"/>
                </a:solidFill>
                <a:latin typeface="Comic Sans MS - 36"/>
              </a:rPr>
              <a:t>Assignment:</a:t>
            </a:r>
            <a:endParaRPr b="0" lang="en-US" sz="5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ff"/>
                </a:solidFill>
                <a:latin typeface="Comic Sans MS - 36"/>
              </a:rPr>
              <a:t>9</a:t>
            </a:r>
            <a:r>
              <a:rPr b="0" lang="en-US" sz="4000" spc="-1" strike="noStrike" u="sng">
                <a:solidFill>
                  <a:srgbClr val="ff0000"/>
                </a:solidFill>
                <a:uFillTx/>
                <a:latin typeface="Comic Sans MS - 28"/>
              </a:rPr>
              <a:t>.2 Add Integers</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u="sng">
                <a:solidFill>
                  <a:srgbClr val="ff0000"/>
                </a:solidFill>
                <a:uFillTx/>
                <a:latin typeface="Comic Sans MS - 28"/>
              </a:rPr>
              <a:t>p</a:t>
            </a:r>
            <a:r>
              <a:rPr b="0" lang="en-CA" sz="4000" spc="-1" strike="noStrike">
                <a:solidFill>
                  <a:srgbClr val="ff0000"/>
                </a:solidFill>
                <a:latin typeface="Calibri - 28"/>
              </a:rPr>
              <a:t>. 319, #1-4 (as a class), 5, 7, 9, 10, Math Link</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0000"/>
                </a:solidFill>
                <a:latin typeface="Calibri - 28"/>
              </a:rPr>
              <a:t>Still Good? #6, 8, 13–15, 17–19</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 28"/>
              </a:rPr>
              <a:t>Pro Star? #20–23</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TextBox 1"/>
          <p:cNvSpPr/>
          <p:nvPr/>
        </p:nvSpPr>
        <p:spPr>
          <a:xfrm>
            <a:off x="279360" y="165240"/>
            <a:ext cx="784872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omic Sans MS - 36"/>
              </a:rPr>
              <a:t>9.3 - Explore Integer Subtraction</a:t>
            </a:r>
            <a:endParaRPr b="0" lang="en-US" sz="3500" spc="-1" strike="noStrike">
              <a:solidFill>
                <a:srgbClr val="000000"/>
              </a:solidFill>
              <a:latin typeface="Calibri"/>
            </a:endParaRPr>
          </a:p>
        </p:txBody>
      </p:sp>
      <p:sp>
        <p:nvSpPr>
          <p:cNvPr id="663" name="TextBox 2"/>
          <p:cNvSpPr/>
          <p:nvPr/>
        </p:nvSpPr>
        <p:spPr>
          <a:xfrm>
            <a:off x="1295280" y="977760"/>
            <a:ext cx="6045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ff"/>
                </a:solidFill>
                <a:latin typeface="Comic Sans MS - 24"/>
              </a:rPr>
              <a:t>After this lesson, you will be able to...</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a:t>
            </a:r>
            <a:r>
              <a:rPr b="0" lang="en-CA" sz="2400" spc="-1" strike="noStrike">
                <a:solidFill>
                  <a:srgbClr val="0000ff"/>
                </a:solidFill>
                <a:latin typeface="Comic Sans MS - 24"/>
              </a:rPr>
              <a:t>Subtract integers using integer chips</a:t>
            </a:r>
            <a:endParaRPr b="0" lang="en-US" sz="2400" spc="-1" strike="noStrike">
              <a:solidFill>
                <a:srgbClr val="000000"/>
              </a:solidFill>
              <a:latin typeface="Calibri"/>
            </a:endParaRPr>
          </a:p>
        </p:txBody>
      </p:sp>
      <p:grpSp>
        <p:nvGrpSpPr>
          <p:cNvPr id="664" name="Group 15"/>
          <p:cNvGrpSpPr/>
          <p:nvPr/>
        </p:nvGrpSpPr>
        <p:grpSpPr>
          <a:xfrm>
            <a:off x="361800" y="1968480"/>
            <a:ext cx="6178680" cy="2279520"/>
            <a:chOff x="361800" y="1968480"/>
            <a:chExt cx="6178680" cy="2279520"/>
          </a:xfrm>
        </p:grpSpPr>
        <p:grpSp>
          <p:nvGrpSpPr>
            <p:cNvPr id="665" name="Group 7"/>
            <p:cNvGrpSpPr/>
            <p:nvPr/>
          </p:nvGrpSpPr>
          <p:grpSpPr>
            <a:xfrm>
              <a:off x="374400" y="2000160"/>
              <a:ext cx="965160" cy="952200"/>
              <a:chOff x="374400" y="2000160"/>
              <a:chExt cx="965160" cy="952200"/>
            </a:xfrm>
          </p:grpSpPr>
          <p:sp>
            <p:nvSpPr>
              <p:cNvPr id="666" name="Freeform 3"/>
              <p:cNvSpPr/>
              <p:nvPr/>
            </p:nvSpPr>
            <p:spPr>
              <a:xfrm>
                <a:off x="374400" y="2000160"/>
                <a:ext cx="965160" cy="952200"/>
              </a:xfrm>
              <a:custGeom>
                <a:avLst/>
                <a:gdLst>
                  <a:gd name="textAreaLeft" fmla="*/ 0 w 965160"/>
                  <a:gd name="textAreaRight" fmla="*/ 965520 w 965160"/>
                  <a:gd name="textAreaTop" fmla="*/ 0 h 952200"/>
                  <a:gd name="textAreaBottom" fmla="*/ 952560 h 952200"/>
                </a:gdLst>
                <a:ahLst/>
                <a:rect l="textAreaLeft" t="textAreaTop" r="textAreaRight" b="textAreaBottom"/>
                <a:pathLst>
                  <a:path w="965201" h="952501">
                    <a:moveTo>
                      <a:pt x="0" y="0"/>
                    </a:moveTo>
                    <a:lnTo>
                      <a:pt x="965200" y="0"/>
                    </a:lnTo>
                    <a:lnTo>
                      <a:pt x="965200" y="952500"/>
                    </a:lnTo>
                    <a:lnTo>
                      <a:pt x="0" y="952500"/>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667" name="Group 6"/>
              <p:cNvGrpSpPr/>
              <p:nvPr/>
            </p:nvGrpSpPr>
            <p:grpSpPr>
              <a:xfrm>
                <a:off x="653760" y="2253600"/>
                <a:ext cx="419040" cy="431640"/>
                <a:chOff x="653760" y="2253600"/>
                <a:chExt cx="419040" cy="431640"/>
              </a:xfrm>
            </p:grpSpPr>
            <p:sp>
              <p:nvSpPr>
                <p:cNvPr id="668" name="Straight Connector 4"/>
                <p:cNvSpPr/>
                <p:nvPr/>
              </p:nvSpPr>
              <p:spPr>
                <a:xfrm>
                  <a:off x="653760" y="2482560"/>
                  <a:ext cx="419040" cy="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9" name="Straight Connector 5"/>
                <p:cNvSpPr/>
                <p:nvPr/>
              </p:nvSpPr>
              <p:spPr>
                <a:xfrm flipV="1">
                  <a:off x="856800" y="2253600"/>
                  <a:ext cx="0" cy="43164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670" name="Group 10"/>
            <p:cNvGrpSpPr/>
            <p:nvPr/>
          </p:nvGrpSpPr>
          <p:grpSpPr>
            <a:xfrm>
              <a:off x="361800" y="3256920"/>
              <a:ext cx="965160" cy="952200"/>
              <a:chOff x="361800" y="3256920"/>
              <a:chExt cx="965160" cy="952200"/>
            </a:xfrm>
          </p:grpSpPr>
          <p:sp>
            <p:nvSpPr>
              <p:cNvPr id="671" name="Freeform 8"/>
              <p:cNvSpPr/>
              <p:nvPr/>
            </p:nvSpPr>
            <p:spPr>
              <a:xfrm>
                <a:off x="361800" y="3256920"/>
                <a:ext cx="965160" cy="952200"/>
              </a:xfrm>
              <a:custGeom>
                <a:avLst/>
                <a:gdLst>
                  <a:gd name="textAreaLeft" fmla="*/ 0 w 965160"/>
                  <a:gd name="textAreaRight" fmla="*/ 965520 w 965160"/>
                  <a:gd name="textAreaTop" fmla="*/ 0 h 952200"/>
                  <a:gd name="textAreaBottom" fmla="*/ 952560 h 952200"/>
                </a:gdLst>
                <a:ahLst/>
                <a:rect l="textAreaLeft" t="textAreaTop" r="textAreaRight" b="textAreaBottom"/>
                <a:pathLst>
                  <a:path w="965201" h="952501">
                    <a:moveTo>
                      <a:pt x="0" y="0"/>
                    </a:moveTo>
                    <a:lnTo>
                      <a:pt x="965200" y="0"/>
                    </a:lnTo>
                    <a:lnTo>
                      <a:pt x="965200" y="952500"/>
                    </a:lnTo>
                    <a:lnTo>
                      <a:pt x="0" y="952500"/>
                    </a:ln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72" name="Straight Connector 9"/>
              <p:cNvSpPr/>
              <p:nvPr/>
            </p:nvSpPr>
            <p:spPr>
              <a:xfrm>
                <a:off x="628560" y="3739320"/>
                <a:ext cx="41904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73" name="Oval 11"/>
            <p:cNvSpPr/>
            <p:nvPr/>
          </p:nvSpPr>
          <p:spPr>
            <a:xfrm>
              <a:off x="2539800" y="1968480"/>
              <a:ext cx="1045440" cy="1004040"/>
            </a:xfrm>
            <a:prstGeom prst="ellipse">
              <a:avLst/>
            </a:prstGeom>
            <a:solidFill>
              <a:srgbClr val="ff0000"/>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4" name="Oval 12"/>
            <p:cNvSpPr/>
            <p:nvPr/>
          </p:nvSpPr>
          <p:spPr>
            <a:xfrm>
              <a:off x="2539800" y="3225240"/>
              <a:ext cx="1064520" cy="1022760"/>
            </a:xfrm>
            <a:prstGeom prst="ellipse">
              <a:avLst/>
            </a:prstGeom>
            <a:solidFill>
              <a:srgbClr val="0000ff"/>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5" name="TextBox 13"/>
            <p:cNvSpPr/>
            <p:nvPr/>
          </p:nvSpPr>
          <p:spPr>
            <a:xfrm>
              <a:off x="1676160" y="2273040"/>
              <a:ext cx="474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and                 mean "positive."</a:t>
              </a:r>
              <a:endParaRPr b="0" lang="en-US" sz="2400" spc="-1" strike="noStrike">
                <a:solidFill>
                  <a:srgbClr val="000000"/>
                </a:solidFill>
                <a:latin typeface="Calibri"/>
              </a:endParaRPr>
            </a:p>
          </p:txBody>
        </p:sp>
        <p:sp>
          <p:nvSpPr>
            <p:cNvPr id="676" name="TextBox 14"/>
            <p:cNvSpPr/>
            <p:nvPr/>
          </p:nvSpPr>
          <p:spPr>
            <a:xfrm>
              <a:off x="1688760" y="3453840"/>
              <a:ext cx="485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and                 mean "negative."</a:t>
              </a:r>
              <a:endParaRPr b="0" lang="en-US" sz="2400" spc="-1" strike="noStrike">
                <a:solidFill>
                  <a:srgbClr val="000000"/>
                </a:solidFill>
                <a:latin typeface="Calibri"/>
              </a:endParaRPr>
            </a:p>
          </p:txBody>
        </p:sp>
      </p:grpSp>
      <p:sp>
        <p:nvSpPr>
          <p:cNvPr id="677" name="TextBox 16"/>
          <p:cNvSpPr/>
          <p:nvPr/>
        </p:nvSpPr>
        <p:spPr>
          <a:xfrm>
            <a:off x="266760" y="4788000"/>
            <a:ext cx="500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our chips</a:t>
            </a:r>
            <a:r>
              <a:rPr b="0" lang="en-US" sz="2400" spc="-1" strike="noStrike">
                <a:solidFill>
                  <a:srgbClr val="0000ff"/>
                </a:solidFill>
                <a:latin typeface="Comic Sans MS - 24"/>
              </a:rPr>
              <a:t>	</a:t>
            </a:r>
            <a:r>
              <a:rPr b="0" lang="en-US" sz="2400" spc="-1" strike="noStrike">
                <a:solidFill>
                  <a:srgbClr val="0000ff"/>
                </a:solidFill>
                <a:latin typeface="Comic Sans MS - 24"/>
              </a:rPr>
              <a:t>	</a:t>
            </a:r>
            <a:r>
              <a:rPr b="0" lang="en-US" sz="2400" spc="-1" strike="noStrike">
                <a:solidFill>
                  <a:srgbClr val="0000ff"/>
                </a:solidFill>
                <a:latin typeface="Comic Sans MS - 24"/>
              </a:rPr>
              <a:t>textbook chips</a:t>
            </a:r>
            <a:endParaRPr b="0" lang="en-US" sz="2400" spc="-1" strike="noStrike">
              <a:solidFill>
                <a:srgbClr val="000000"/>
              </a:solidFill>
              <a:latin typeface="Calibri"/>
            </a:endParaRPr>
          </a:p>
        </p:txBody>
      </p:sp>
      <p:sp>
        <p:nvSpPr>
          <p:cNvPr id="678" name="Straight Connector 17"/>
          <p:cNvSpPr/>
          <p:nvPr/>
        </p:nvSpPr>
        <p:spPr>
          <a:xfrm flipH="1" flipV="1">
            <a:off x="888480" y="4368600"/>
            <a:ext cx="25560" cy="431640"/>
          </a:xfrm>
          <a:prstGeom prst="line">
            <a:avLst/>
          </a:prstGeom>
          <a:ln w="381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9" name="Straight Connector 18"/>
          <p:cNvSpPr/>
          <p:nvPr/>
        </p:nvSpPr>
        <p:spPr>
          <a:xfrm flipH="1" flipV="1">
            <a:off x="3250800" y="4381200"/>
            <a:ext cx="152280" cy="444600"/>
          </a:xfrm>
          <a:prstGeom prst="line">
            <a:avLst/>
          </a:prstGeom>
          <a:ln w="381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TextBox 1"/>
          <p:cNvSpPr/>
          <p:nvPr/>
        </p:nvSpPr>
        <p:spPr>
          <a:xfrm>
            <a:off x="165240" y="101520"/>
            <a:ext cx="4317840" cy="449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omic Sans MS - 36"/>
              </a:rPr>
              <a:t>Key Terms:</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omic Sans MS - 36"/>
              </a:rPr>
              <a:t>ze</a:t>
            </a:r>
            <a:r>
              <a:rPr b="0" lang="en-US" sz="2300" spc="-1" strike="noStrike">
                <a:solidFill>
                  <a:srgbClr val="ff0000"/>
                </a:solidFill>
                <a:latin typeface="Comic Sans MS - 24"/>
              </a:rPr>
              <a:t>ro pair</a:t>
            </a:r>
            <a:r>
              <a:rPr b="0" lang="en-US" sz="2300" spc="-1" strike="noStrike">
                <a:solidFill>
                  <a:srgbClr val="0000ff"/>
                </a:solidFill>
                <a:latin typeface="Comic Sans MS - 24"/>
              </a:rPr>
              <a:t>:</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a pair of integer chips, with one chip representing +1 and one chip representing -1</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the pair represents zero because (+1) + (-1) = 0</a:t>
            </a:r>
            <a:endParaRPr b="0" lang="en-US" sz="2300" spc="-1" strike="noStrike">
              <a:solidFill>
                <a:srgbClr val="000000"/>
              </a:solidFill>
              <a:latin typeface="Calibri"/>
            </a:endParaRPr>
          </a:p>
        </p:txBody>
      </p:sp>
      <p:grpSp>
        <p:nvGrpSpPr>
          <p:cNvPr id="681" name="Group 11"/>
          <p:cNvGrpSpPr/>
          <p:nvPr/>
        </p:nvGrpSpPr>
        <p:grpSpPr>
          <a:xfrm>
            <a:off x="406440" y="2629080"/>
            <a:ext cx="2832120" cy="1371600"/>
            <a:chOff x="406440" y="2629080"/>
            <a:chExt cx="2832120" cy="1371600"/>
          </a:xfrm>
        </p:grpSpPr>
        <p:grpSp>
          <p:nvGrpSpPr>
            <p:cNvPr id="682" name="Group 6"/>
            <p:cNvGrpSpPr/>
            <p:nvPr/>
          </p:nvGrpSpPr>
          <p:grpSpPr>
            <a:xfrm>
              <a:off x="768240" y="2825640"/>
              <a:ext cx="965160" cy="952560"/>
              <a:chOff x="768240" y="2825640"/>
              <a:chExt cx="965160" cy="952560"/>
            </a:xfrm>
          </p:grpSpPr>
          <p:sp>
            <p:nvSpPr>
              <p:cNvPr id="683" name="Freeform 2"/>
              <p:cNvSpPr/>
              <p:nvPr/>
            </p:nvSpPr>
            <p:spPr>
              <a:xfrm>
                <a:off x="768240" y="2825640"/>
                <a:ext cx="965160" cy="952560"/>
              </a:xfrm>
              <a:custGeom>
                <a:avLst/>
                <a:gdLst>
                  <a:gd name="textAreaLeft" fmla="*/ 0 w 965160"/>
                  <a:gd name="textAreaRight" fmla="*/ 965520 w 965160"/>
                  <a:gd name="textAreaTop" fmla="*/ 0 h 952560"/>
                  <a:gd name="textAreaBottom" fmla="*/ 952920 h 952560"/>
                </a:gdLst>
                <a:ahLst/>
                <a:rect l="textAreaLeft" t="textAreaTop" r="textAreaRight" b="textAreaBottom"/>
                <a:pathLst>
                  <a:path w="965201" h="952501">
                    <a:moveTo>
                      <a:pt x="0" y="0"/>
                    </a:moveTo>
                    <a:lnTo>
                      <a:pt x="965200" y="0"/>
                    </a:lnTo>
                    <a:lnTo>
                      <a:pt x="965200" y="952500"/>
                    </a:lnTo>
                    <a:lnTo>
                      <a:pt x="0" y="952500"/>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684" name="Group 5"/>
              <p:cNvGrpSpPr/>
              <p:nvPr/>
            </p:nvGrpSpPr>
            <p:grpSpPr>
              <a:xfrm>
                <a:off x="1047600" y="3079080"/>
                <a:ext cx="419040" cy="431640"/>
                <a:chOff x="1047600" y="3079080"/>
                <a:chExt cx="419040" cy="431640"/>
              </a:xfrm>
            </p:grpSpPr>
            <p:sp>
              <p:nvSpPr>
                <p:cNvPr id="685" name="Straight Connector 3"/>
                <p:cNvSpPr/>
                <p:nvPr/>
              </p:nvSpPr>
              <p:spPr>
                <a:xfrm>
                  <a:off x="1047600" y="3308040"/>
                  <a:ext cx="419040" cy="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6" name="Straight Connector 4"/>
                <p:cNvSpPr/>
                <p:nvPr/>
              </p:nvSpPr>
              <p:spPr>
                <a:xfrm flipV="1">
                  <a:off x="1250640" y="3079080"/>
                  <a:ext cx="0" cy="43164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687" name="Group 9"/>
            <p:cNvGrpSpPr/>
            <p:nvPr/>
          </p:nvGrpSpPr>
          <p:grpSpPr>
            <a:xfrm>
              <a:off x="1835280" y="2825640"/>
              <a:ext cx="965160" cy="952560"/>
              <a:chOff x="1835280" y="2825640"/>
              <a:chExt cx="965160" cy="952560"/>
            </a:xfrm>
          </p:grpSpPr>
          <p:sp>
            <p:nvSpPr>
              <p:cNvPr id="688" name="Freeform 7"/>
              <p:cNvSpPr/>
              <p:nvPr/>
            </p:nvSpPr>
            <p:spPr>
              <a:xfrm>
                <a:off x="1835280" y="2825640"/>
                <a:ext cx="965160" cy="952560"/>
              </a:xfrm>
              <a:custGeom>
                <a:avLst/>
                <a:gdLst>
                  <a:gd name="textAreaLeft" fmla="*/ 0 w 965160"/>
                  <a:gd name="textAreaRight" fmla="*/ 965520 w 965160"/>
                  <a:gd name="textAreaTop" fmla="*/ 0 h 952560"/>
                  <a:gd name="textAreaBottom" fmla="*/ 952920 h 952560"/>
                </a:gdLst>
                <a:ahLst/>
                <a:rect l="textAreaLeft" t="textAreaTop" r="textAreaRight" b="textAreaBottom"/>
                <a:pathLst>
                  <a:path w="965201" h="952501">
                    <a:moveTo>
                      <a:pt x="0" y="0"/>
                    </a:moveTo>
                    <a:lnTo>
                      <a:pt x="965200" y="0"/>
                    </a:lnTo>
                    <a:lnTo>
                      <a:pt x="965200" y="952500"/>
                    </a:lnTo>
                    <a:lnTo>
                      <a:pt x="0" y="952500"/>
                    </a:ln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89" name="Straight Connector 8"/>
              <p:cNvSpPr/>
              <p:nvPr/>
            </p:nvSpPr>
            <p:spPr>
              <a:xfrm>
                <a:off x="2102040" y="3308400"/>
                <a:ext cx="41904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90" name="Freeform 10"/>
            <p:cNvSpPr/>
            <p:nvPr/>
          </p:nvSpPr>
          <p:spPr>
            <a:xfrm>
              <a:off x="406440" y="2629080"/>
              <a:ext cx="2832120" cy="1371600"/>
            </a:xfrm>
            <a:custGeom>
              <a:avLst/>
              <a:gdLst>
                <a:gd name="textAreaLeft" fmla="*/ 0 w 2832120"/>
                <a:gd name="textAreaRight" fmla="*/ 2832480 w 2832120"/>
                <a:gd name="textAreaTop" fmla="*/ 0 h 1371600"/>
                <a:gd name="textAreaBottom" fmla="*/ 1371960 h 1371600"/>
              </a:gdLst>
              <a:ahLst/>
              <a:rect l="textAreaLeft" t="textAreaTop" r="textAreaRight" b="textAreaBottom"/>
              <a:pathLst>
                <a:path w="2832101" h="1371601">
                  <a:moveTo>
                    <a:pt x="1549400" y="50800"/>
                  </a:moveTo>
                  <a:lnTo>
                    <a:pt x="1096010" y="50800"/>
                  </a:lnTo>
                  <a:lnTo>
                    <a:pt x="1016000" y="62229"/>
                  </a:lnTo>
                  <a:lnTo>
                    <a:pt x="929639" y="63500"/>
                  </a:lnTo>
                  <a:lnTo>
                    <a:pt x="350519" y="63500"/>
                  </a:lnTo>
                  <a:lnTo>
                    <a:pt x="278130" y="76200"/>
                  </a:lnTo>
                  <a:lnTo>
                    <a:pt x="259080" y="85089"/>
                  </a:lnTo>
                  <a:lnTo>
                    <a:pt x="227330" y="91439"/>
                  </a:lnTo>
                  <a:lnTo>
                    <a:pt x="181609" y="110489"/>
                  </a:lnTo>
                  <a:lnTo>
                    <a:pt x="176530" y="111760"/>
                  </a:lnTo>
                  <a:lnTo>
                    <a:pt x="171450" y="115570"/>
                  </a:lnTo>
                  <a:lnTo>
                    <a:pt x="161290" y="127000"/>
                  </a:lnTo>
                  <a:lnTo>
                    <a:pt x="156209" y="130810"/>
                  </a:lnTo>
                  <a:lnTo>
                    <a:pt x="142240" y="135889"/>
                  </a:lnTo>
                  <a:lnTo>
                    <a:pt x="137159" y="139700"/>
                  </a:lnTo>
                  <a:lnTo>
                    <a:pt x="133350" y="146050"/>
                  </a:lnTo>
                  <a:lnTo>
                    <a:pt x="128269" y="157479"/>
                  </a:lnTo>
                  <a:lnTo>
                    <a:pt x="118109" y="172720"/>
                  </a:lnTo>
                  <a:lnTo>
                    <a:pt x="105409" y="187960"/>
                  </a:lnTo>
                  <a:lnTo>
                    <a:pt x="85090" y="224789"/>
                  </a:lnTo>
                  <a:lnTo>
                    <a:pt x="80009" y="241300"/>
                  </a:lnTo>
                  <a:lnTo>
                    <a:pt x="78740" y="250189"/>
                  </a:lnTo>
                  <a:lnTo>
                    <a:pt x="74930" y="257810"/>
                  </a:lnTo>
                  <a:lnTo>
                    <a:pt x="52069" y="288289"/>
                  </a:lnTo>
                  <a:lnTo>
                    <a:pt x="48259" y="293370"/>
                  </a:lnTo>
                  <a:lnTo>
                    <a:pt x="41909" y="303529"/>
                  </a:lnTo>
                  <a:lnTo>
                    <a:pt x="40640" y="313689"/>
                  </a:lnTo>
                  <a:lnTo>
                    <a:pt x="38100" y="351789"/>
                  </a:lnTo>
                  <a:lnTo>
                    <a:pt x="35559" y="359410"/>
                  </a:lnTo>
                  <a:lnTo>
                    <a:pt x="30480" y="364489"/>
                  </a:lnTo>
                  <a:lnTo>
                    <a:pt x="8890" y="384810"/>
                  </a:lnTo>
                  <a:lnTo>
                    <a:pt x="6350" y="389889"/>
                  </a:lnTo>
                  <a:lnTo>
                    <a:pt x="2540" y="403860"/>
                  </a:lnTo>
                  <a:lnTo>
                    <a:pt x="0" y="444500"/>
                  </a:lnTo>
                  <a:lnTo>
                    <a:pt x="0" y="514350"/>
                  </a:lnTo>
                  <a:lnTo>
                    <a:pt x="0" y="831850"/>
                  </a:lnTo>
                  <a:lnTo>
                    <a:pt x="1269" y="839470"/>
                  </a:lnTo>
                  <a:lnTo>
                    <a:pt x="8890" y="858520"/>
                  </a:lnTo>
                  <a:lnTo>
                    <a:pt x="11430" y="890270"/>
                  </a:lnTo>
                  <a:lnTo>
                    <a:pt x="12700" y="929640"/>
                  </a:lnTo>
                  <a:lnTo>
                    <a:pt x="16509" y="949959"/>
                  </a:lnTo>
                  <a:lnTo>
                    <a:pt x="22859" y="966470"/>
                  </a:lnTo>
                  <a:lnTo>
                    <a:pt x="45719" y="1007109"/>
                  </a:lnTo>
                  <a:lnTo>
                    <a:pt x="57150" y="1038859"/>
                  </a:lnTo>
                  <a:lnTo>
                    <a:pt x="72390" y="1055370"/>
                  </a:lnTo>
                  <a:lnTo>
                    <a:pt x="118109" y="1093470"/>
                  </a:lnTo>
                  <a:lnTo>
                    <a:pt x="134619" y="1099820"/>
                  </a:lnTo>
                  <a:lnTo>
                    <a:pt x="142240" y="1104900"/>
                  </a:lnTo>
                  <a:lnTo>
                    <a:pt x="167640" y="1127759"/>
                  </a:lnTo>
                  <a:lnTo>
                    <a:pt x="191769" y="1145540"/>
                  </a:lnTo>
                  <a:lnTo>
                    <a:pt x="199390" y="1153159"/>
                  </a:lnTo>
                  <a:lnTo>
                    <a:pt x="219709" y="1165859"/>
                  </a:lnTo>
                  <a:lnTo>
                    <a:pt x="241300" y="1174750"/>
                  </a:lnTo>
                  <a:lnTo>
                    <a:pt x="271780" y="1182370"/>
                  </a:lnTo>
                  <a:lnTo>
                    <a:pt x="306069" y="1197609"/>
                  </a:lnTo>
                  <a:lnTo>
                    <a:pt x="351790" y="1205229"/>
                  </a:lnTo>
                  <a:lnTo>
                    <a:pt x="361950" y="1205229"/>
                  </a:lnTo>
                  <a:lnTo>
                    <a:pt x="383540" y="1214120"/>
                  </a:lnTo>
                  <a:lnTo>
                    <a:pt x="406400" y="1226820"/>
                  </a:lnTo>
                  <a:lnTo>
                    <a:pt x="452119" y="1259840"/>
                  </a:lnTo>
                  <a:lnTo>
                    <a:pt x="477519" y="1264920"/>
                  </a:lnTo>
                  <a:lnTo>
                    <a:pt x="502919" y="1268729"/>
                  </a:lnTo>
                  <a:lnTo>
                    <a:pt x="534669" y="1280159"/>
                  </a:lnTo>
                  <a:lnTo>
                    <a:pt x="621030" y="1292859"/>
                  </a:lnTo>
                  <a:lnTo>
                    <a:pt x="631189" y="1296670"/>
                  </a:lnTo>
                  <a:lnTo>
                    <a:pt x="640080" y="1301750"/>
                  </a:lnTo>
                  <a:lnTo>
                    <a:pt x="646430" y="1308100"/>
                  </a:lnTo>
                  <a:lnTo>
                    <a:pt x="654050" y="1311909"/>
                  </a:lnTo>
                  <a:lnTo>
                    <a:pt x="669289" y="1316990"/>
                  </a:lnTo>
                  <a:lnTo>
                    <a:pt x="755650" y="1320800"/>
                  </a:lnTo>
                  <a:lnTo>
                    <a:pt x="1018539" y="1320800"/>
                  </a:lnTo>
                  <a:lnTo>
                    <a:pt x="1038860" y="1324609"/>
                  </a:lnTo>
                  <a:lnTo>
                    <a:pt x="1056639" y="1329690"/>
                  </a:lnTo>
                  <a:lnTo>
                    <a:pt x="1083310" y="1333500"/>
                  </a:lnTo>
                  <a:lnTo>
                    <a:pt x="1111250" y="1342390"/>
                  </a:lnTo>
                  <a:lnTo>
                    <a:pt x="1192530" y="1346200"/>
                  </a:lnTo>
                  <a:lnTo>
                    <a:pt x="2009139" y="1346200"/>
                  </a:lnTo>
                  <a:lnTo>
                    <a:pt x="2029460" y="1350009"/>
                  </a:lnTo>
                  <a:lnTo>
                    <a:pt x="2047239" y="1355090"/>
                  </a:lnTo>
                  <a:lnTo>
                    <a:pt x="2132329" y="1358900"/>
                  </a:lnTo>
                  <a:lnTo>
                    <a:pt x="2222500" y="1358900"/>
                  </a:lnTo>
                  <a:lnTo>
                    <a:pt x="2244089" y="1362709"/>
                  </a:lnTo>
                  <a:lnTo>
                    <a:pt x="2263139" y="1367790"/>
                  </a:lnTo>
                  <a:lnTo>
                    <a:pt x="2350770" y="1371600"/>
                  </a:lnTo>
                  <a:lnTo>
                    <a:pt x="2630170" y="1371600"/>
                  </a:lnTo>
                  <a:lnTo>
                    <a:pt x="2651760" y="1367790"/>
                  </a:lnTo>
                  <a:lnTo>
                    <a:pt x="2668270" y="1361440"/>
                  </a:lnTo>
                  <a:lnTo>
                    <a:pt x="2680970" y="1353820"/>
                  </a:lnTo>
                  <a:lnTo>
                    <a:pt x="2691129" y="1342390"/>
                  </a:lnTo>
                  <a:lnTo>
                    <a:pt x="2696210" y="1334770"/>
                  </a:lnTo>
                  <a:lnTo>
                    <a:pt x="2708910" y="1323340"/>
                  </a:lnTo>
                  <a:lnTo>
                    <a:pt x="2715260" y="1318259"/>
                  </a:lnTo>
                  <a:lnTo>
                    <a:pt x="2720339" y="1311909"/>
                  </a:lnTo>
                  <a:lnTo>
                    <a:pt x="2724150" y="1305559"/>
                  </a:lnTo>
                  <a:lnTo>
                    <a:pt x="2726689" y="1297940"/>
                  </a:lnTo>
                  <a:lnTo>
                    <a:pt x="2730500" y="1291590"/>
                  </a:lnTo>
                  <a:lnTo>
                    <a:pt x="2747010" y="1275079"/>
                  </a:lnTo>
                  <a:lnTo>
                    <a:pt x="2749550" y="1271270"/>
                  </a:lnTo>
                  <a:lnTo>
                    <a:pt x="2752089" y="1266190"/>
                  </a:lnTo>
                  <a:lnTo>
                    <a:pt x="2772410" y="1238250"/>
                  </a:lnTo>
                  <a:lnTo>
                    <a:pt x="2786379" y="1197609"/>
                  </a:lnTo>
                  <a:lnTo>
                    <a:pt x="2801620" y="1164590"/>
                  </a:lnTo>
                  <a:lnTo>
                    <a:pt x="2805429" y="1129029"/>
                  </a:lnTo>
                  <a:lnTo>
                    <a:pt x="2807970" y="1098550"/>
                  </a:lnTo>
                  <a:lnTo>
                    <a:pt x="2816860" y="1068070"/>
                  </a:lnTo>
                  <a:lnTo>
                    <a:pt x="2827020" y="1046479"/>
                  </a:lnTo>
                  <a:lnTo>
                    <a:pt x="2829560" y="1031240"/>
                  </a:lnTo>
                  <a:lnTo>
                    <a:pt x="2830829" y="993140"/>
                  </a:lnTo>
                  <a:lnTo>
                    <a:pt x="2832100" y="941070"/>
                  </a:lnTo>
                  <a:lnTo>
                    <a:pt x="2832100" y="683259"/>
                  </a:lnTo>
                  <a:lnTo>
                    <a:pt x="2824479" y="659129"/>
                  </a:lnTo>
                  <a:lnTo>
                    <a:pt x="2814320" y="636270"/>
                  </a:lnTo>
                  <a:lnTo>
                    <a:pt x="2809239" y="607060"/>
                  </a:lnTo>
                  <a:lnTo>
                    <a:pt x="2802889" y="567689"/>
                  </a:lnTo>
                  <a:lnTo>
                    <a:pt x="2796539" y="535939"/>
                  </a:lnTo>
                  <a:lnTo>
                    <a:pt x="2794000" y="500379"/>
                  </a:lnTo>
                  <a:lnTo>
                    <a:pt x="2794000" y="457200"/>
                  </a:lnTo>
                  <a:lnTo>
                    <a:pt x="2794000" y="448310"/>
                  </a:lnTo>
                  <a:lnTo>
                    <a:pt x="2790189" y="431800"/>
                  </a:lnTo>
                  <a:lnTo>
                    <a:pt x="2773679" y="389889"/>
                  </a:lnTo>
                  <a:lnTo>
                    <a:pt x="2766060" y="355600"/>
                  </a:lnTo>
                  <a:lnTo>
                    <a:pt x="2759710" y="339089"/>
                  </a:lnTo>
                  <a:lnTo>
                    <a:pt x="2758439" y="321310"/>
                  </a:lnTo>
                  <a:lnTo>
                    <a:pt x="2754629" y="314960"/>
                  </a:lnTo>
                  <a:lnTo>
                    <a:pt x="2749550" y="308610"/>
                  </a:lnTo>
                  <a:lnTo>
                    <a:pt x="2743200" y="303529"/>
                  </a:lnTo>
                  <a:lnTo>
                    <a:pt x="2739389" y="297179"/>
                  </a:lnTo>
                  <a:lnTo>
                    <a:pt x="2731770" y="276860"/>
                  </a:lnTo>
                  <a:lnTo>
                    <a:pt x="2727960" y="273050"/>
                  </a:lnTo>
                  <a:lnTo>
                    <a:pt x="2725420" y="271779"/>
                  </a:lnTo>
                  <a:lnTo>
                    <a:pt x="2722879" y="265429"/>
                  </a:lnTo>
                  <a:lnTo>
                    <a:pt x="2717800" y="240029"/>
                  </a:lnTo>
                  <a:lnTo>
                    <a:pt x="2696210" y="198120"/>
                  </a:lnTo>
                  <a:lnTo>
                    <a:pt x="2688589" y="181610"/>
                  </a:lnTo>
                  <a:lnTo>
                    <a:pt x="2675889" y="168910"/>
                  </a:lnTo>
                  <a:lnTo>
                    <a:pt x="2651760" y="148589"/>
                  </a:lnTo>
                  <a:lnTo>
                    <a:pt x="2633979" y="124460"/>
                  </a:lnTo>
                  <a:lnTo>
                    <a:pt x="2628900" y="120650"/>
                  </a:lnTo>
                  <a:lnTo>
                    <a:pt x="2625089" y="118110"/>
                  </a:lnTo>
                  <a:lnTo>
                    <a:pt x="2616200" y="109220"/>
                  </a:lnTo>
                  <a:lnTo>
                    <a:pt x="2599689" y="86360"/>
                  </a:lnTo>
                  <a:lnTo>
                    <a:pt x="2575560" y="68579"/>
                  </a:lnTo>
                  <a:lnTo>
                    <a:pt x="2571750" y="63500"/>
                  </a:lnTo>
                  <a:lnTo>
                    <a:pt x="2569210" y="59689"/>
                  </a:lnTo>
                  <a:lnTo>
                    <a:pt x="2565400" y="57150"/>
                  </a:lnTo>
                  <a:lnTo>
                    <a:pt x="2546350" y="49529"/>
                  </a:lnTo>
                  <a:lnTo>
                    <a:pt x="2522220" y="34289"/>
                  </a:lnTo>
                  <a:lnTo>
                    <a:pt x="2500629" y="26670"/>
                  </a:lnTo>
                  <a:lnTo>
                    <a:pt x="2496820" y="22860"/>
                  </a:lnTo>
                  <a:lnTo>
                    <a:pt x="2494279" y="20320"/>
                  </a:lnTo>
                  <a:lnTo>
                    <a:pt x="2487929" y="17779"/>
                  </a:lnTo>
                  <a:lnTo>
                    <a:pt x="2452370" y="13970"/>
                  </a:lnTo>
                  <a:lnTo>
                    <a:pt x="2409189" y="11429"/>
                  </a:lnTo>
                  <a:lnTo>
                    <a:pt x="2379979" y="3810"/>
                  </a:lnTo>
                  <a:lnTo>
                    <a:pt x="2299970" y="0"/>
                  </a:lnTo>
                  <a:lnTo>
                    <a:pt x="1717039" y="0"/>
                  </a:lnTo>
                  <a:lnTo>
                    <a:pt x="1701800" y="3810"/>
                  </a:lnTo>
                  <a:lnTo>
                    <a:pt x="1684020" y="8889"/>
                  </a:lnTo>
                  <a:lnTo>
                    <a:pt x="1659889" y="12700"/>
                  </a:lnTo>
                  <a:lnTo>
                    <a:pt x="1625600" y="22860"/>
                  </a:lnTo>
                  <a:lnTo>
                    <a:pt x="1545589" y="26670"/>
                  </a:lnTo>
                  <a:lnTo>
                    <a:pt x="1524000" y="38100"/>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691" name="TextBox 12"/>
          <p:cNvSpPr/>
          <p:nvPr/>
        </p:nvSpPr>
        <p:spPr>
          <a:xfrm>
            <a:off x="4559400" y="914400"/>
            <a:ext cx="5460840" cy="324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Comic Sans MS - 24"/>
              </a:rPr>
              <a:t>opposite integers</a:t>
            </a:r>
            <a:r>
              <a:rPr b="0" lang="en-US" sz="2300" spc="-1" strike="noStrike">
                <a:solidFill>
                  <a:srgbClr val="0000ff"/>
                </a:solidFill>
                <a:latin typeface="Comic Sans MS - 24"/>
              </a:rPr>
              <a:t>:</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two integers with the same "numeral", but different signs.  For example,</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two integers represented  by points that are the same distance in opposite directions from zero on a number line</a:t>
            </a:r>
            <a:endParaRPr b="0" lang="en-US" sz="2300" spc="-1" strike="noStrike">
              <a:solidFill>
                <a:srgbClr val="000000"/>
              </a:solidFill>
              <a:latin typeface="Calibri"/>
            </a:endParaRPr>
          </a:p>
        </p:txBody>
      </p:sp>
      <p:grpSp>
        <p:nvGrpSpPr>
          <p:cNvPr id="692" name="Group 31"/>
          <p:cNvGrpSpPr/>
          <p:nvPr/>
        </p:nvGrpSpPr>
        <p:grpSpPr>
          <a:xfrm>
            <a:off x="6176880" y="2336760"/>
            <a:ext cx="3390840" cy="1833840"/>
            <a:chOff x="6176880" y="2336760"/>
            <a:chExt cx="3390840" cy="1833840"/>
          </a:xfrm>
        </p:grpSpPr>
        <p:grpSp>
          <p:nvGrpSpPr>
            <p:cNvPr id="693" name="Group 29"/>
            <p:cNvGrpSpPr/>
            <p:nvPr/>
          </p:nvGrpSpPr>
          <p:grpSpPr>
            <a:xfrm>
              <a:off x="6176880" y="2336760"/>
              <a:ext cx="3390840" cy="668520"/>
              <a:chOff x="6176880" y="2336760"/>
              <a:chExt cx="3390840" cy="668520"/>
            </a:xfrm>
          </p:grpSpPr>
          <p:grpSp>
            <p:nvGrpSpPr>
              <p:cNvPr id="694" name="Group 17"/>
              <p:cNvGrpSpPr/>
              <p:nvPr/>
            </p:nvGrpSpPr>
            <p:grpSpPr>
              <a:xfrm>
                <a:off x="6176880" y="2336760"/>
                <a:ext cx="740520" cy="668520"/>
                <a:chOff x="6176880" y="2336760"/>
                <a:chExt cx="740520" cy="668520"/>
              </a:xfrm>
            </p:grpSpPr>
            <p:sp>
              <p:nvSpPr>
                <p:cNvPr id="695" name="Freeform 13"/>
                <p:cNvSpPr/>
                <p:nvPr/>
              </p:nvSpPr>
              <p:spPr>
                <a:xfrm>
                  <a:off x="6176880" y="2336760"/>
                  <a:ext cx="740520" cy="668520"/>
                </a:xfrm>
                <a:custGeom>
                  <a:avLst/>
                  <a:gdLst>
                    <a:gd name="textAreaLeft" fmla="*/ 0 w 740520"/>
                    <a:gd name="textAreaRight" fmla="*/ 740880 w 740520"/>
                    <a:gd name="textAreaTop" fmla="*/ 0 h 668520"/>
                    <a:gd name="textAreaBottom" fmla="*/ 668880 h 668520"/>
                  </a:gdLst>
                  <a:ahLst/>
                  <a:rect l="textAreaLeft" t="textAreaTop" r="textAreaRight" b="textAreaBottom"/>
                  <a:pathLst>
                    <a:path w="740792" h="668402">
                      <a:moveTo>
                        <a:pt x="0" y="0"/>
                      </a:moveTo>
                      <a:lnTo>
                        <a:pt x="740791" y="0"/>
                      </a:lnTo>
                      <a:lnTo>
                        <a:pt x="740791" y="668401"/>
                      </a:lnTo>
                      <a:lnTo>
                        <a:pt x="0" y="668401"/>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696" name="Group 16"/>
                <p:cNvGrpSpPr/>
                <p:nvPr/>
              </p:nvGrpSpPr>
              <p:grpSpPr>
                <a:xfrm>
                  <a:off x="6391080" y="2514960"/>
                  <a:ext cx="321480" cy="303120"/>
                  <a:chOff x="6391080" y="2514960"/>
                  <a:chExt cx="321480" cy="303120"/>
                </a:xfrm>
              </p:grpSpPr>
              <p:sp>
                <p:nvSpPr>
                  <p:cNvPr id="697" name="Straight Connector 14"/>
                  <p:cNvSpPr/>
                  <p:nvPr/>
                </p:nvSpPr>
                <p:spPr>
                  <a:xfrm>
                    <a:off x="6391080" y="2675520"/>
                    <a:ext cx="321480" cy="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8" name="Straight Connector 15"/>
                  <p:cNvSpPr/>
                  <p:nvPr/>
                </p:nvSpPr>
                <p:spPr>
                  <a:xfrm flipV="1">
                    <a:off x="6546960" y="2514960"/>
                    <a:ext cx="0" cy="30312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699" name="Group 20"/>
              <p:cNvGrpSpPr/>
              <p:nvPr/>
            </p:nvGrpSpPr>
            <p:grpSpPr>
              <a:xfrm>
                <a:off x="8028000" y="2336760"/>
                <a:ext cx="740520" cy="668520"/>
                <a:chOff x="8028000" y="2336760"/>
                <a:chExt cx="740520" cy="668520"/>
              </a:xfrm>
            </p:grpSpPr>
            <p:sp>
              <p:nvSpPr>
                <p:cNvPr id="700" name="Freeform 18"/>
                <p:cNvSpPr/>
                <p:nvPr/>
              </p:nvSpPr>
              <p:spPr>
                <a:xfrm>
                  <a:off x="8028000" y="2336760"/>
                  <a:ext cx="740520" cy="668520"/>
                </a:xfrm>
                <a:custGeom>
                  <a:avLst/>
                  <a:gdLst>
                    <a:gd name="textAreaLeft" fmla="*/ 0 w 740520"/>
                    <a:gd name="textAreaRight" fmla="*/ 740880 w 740520"/>
                    <a:gd name="textAreaTop" fmla="*/ 0 h 668520"/>
                    <a:gd name="textAreaBottom" fmla="*/ 668880 h 668520"/>
                  </a:gdLst>
                  <a:ahLst/>
                  <a:rect l="textAreaLeft" t="textAreaTop" r="textAreaRight" b="textAreaBottom"/>
                  <a:pathLst>
                    <a:path w="740792" h="668402">
                      <a:moveTo>
                        <a:pt x="0" y="0"/>
                      </a:moveTo>
                      <a:lnTo>
                        <a:pt x="740791" y="0"/>
                      </a:lnTo>
                      <a:lnTo>
                        <a:pt x="740791" y="668401"/>
                      </a:lnTo>
                      <a:lnTo>
                        <a:pt x="0" y="668401"/>
                      </a:ln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01" name="Straight Connector 19"/>
                <p:cNvSpPr/>
                <p:nvPr/>
              </p:nvSpPr>
              <p:spPr>
                <a:xfrm>
                  <a:off x="8232480" y="2675520"/>
                  <a:ext cx="32148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02" name="Group 25"/>
              <p:cNvGrpSpPr/>
              <p:nvPr/>
            </p:nvGrpSpPr>
            <p:grpSpPr>
              <a:xfrm>
                <a:off x="6975720" y="2336760"/>
                <a:ext cx="740520" cy="668520"/>
                <a:chOff x="6975720" y="2336760"/>
                <a:chExt cx="740520" cy="668520"/>
              </a:xfrm>
            </p:grpSpPr>
            <p:sp>
              <p:nvSpPr>
                <p:cNvPr id="703" name="Freeform 21"/>
                <p:cNvSpPr/>
                <p:nvPr/>
              </p:nvSpPr>
              <p:spPr>
                <a:xfrm>
                  <a:off x="6975720" y="2336760"/>
                  <a:ext cx="740520" cy="668520"/>
                </a:xfrm>
                <a:custGeom>
                  <a:avLst/>
                  <a:gdLst>
                    <a:gd name="textAreaLeft" fmla="*/ 0 w 740520"/>
                    <a:gd name="textAreaRight" fmla="*/ 740880 w 740520"/>
                    <a:gd name="textAreaTop" fmla="*/ 0 h 668520"/>
                    <a:gd name="textAreaBottom" fmla="*/ 668880 h 668520"/>
                  </a:gdLst>
                  <a:ahLst/>
                  <a:rect l="textAreaLeft" t="textAreaTop" r="textAreaRight" b="textAreaBottom"/>
                  <a:pathLst>
                    <a:path w="740791" h="668402">
                      <a:moveTo>
                        <a:pt x="0" y="0"/>
                      </a:moveTo>
                      <a:lnTo>
                        <a:pt x="740790" y="0"/>
                      </a:lnTo>
                      <a:lnTo>
                        <a:pt x="740790" y="668401"/>
                      </a:lnTo>
                      <a:lnTo>
                        <a:pt x="0" y="668401"/>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704" name="Group 24"/>
                <p:cNvGrpSpPr/>
                <p:nvPr/>
              </p:nvGrpSpPr>
              <p:grpSpPr>
                <a:xfrm>
                  <a:off x="7189920" y="2514960"/>
                  <a:ext cx="321480" cy="303120"/>
                  <a:chOff x="7189920" y="2514960"/>
                  <a:chExt cx="321480" cy="303120"/>
                </a:xfrm>
              </p:grpSpPr>
              <p:sp>
                <p:nvSpPr>
                  <p:cNvPr id="705" name="Straight Connector 22"/>
                  <p:cNvSpPr/>
                  <p:nvPr/>
                </p:nvSpPr>
                <p:spPr>
                  <a:xfrm>
                    <a:off x="7189920" y="2675520"/>
                    <a:ext cx="321480" cy="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6" name="Straight Connector 23"/>
                  <p:cNvSpPr/>
                  <p:nvPr/>
                </p:nvSpPr>
                <p:spPr>
                  <a:xfrm flipV="1">
                    <a:off x="7345800" y="2514960"/>
                    <a:ext cx="0" cy="30312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707" name="Group 28"/>
              <p:cNvGrpSpPr/>
              <p:nvPr/>
            </p:nvGrpSpPr>
            <p:grpSpPr>
              <a:xfrm>
                <a:off x="8827200" y="2336760"/>
                <a:ext cx="740520" cy="668520"/>
                <a:chOff x="8827200" y="2336760"/>
                <a:chExt cx="740520" cy="668520"/>
              </a:xfrm>
            </p:grpSpPr>
            <p:sp>
              <p:nvSpPr>
                <p:cNvPr id="708" name="Freeform 26"/>
                <p:cNvSpPr/>
                <p:nvPr/>
              </p:nvSpPr>
              <p:spPr>
                <a:xfrm>
                  <a:off x="8827200" y="2336760"/>
                  <a:ext cx="740520" cy="668520"/>
                </a:xfrm>
                <a:custGeom>
                  <a:avLst/>
                  <a:gdLst>
                    <a:gd name="textAreaLeft" fmla="*/ 0 w 740520"/>
                    <a:gd name="textAreaRight" fmla="*/ 740880 w 740520"/>
                    <a:gd name="textAreaTop" fmla="*/ 0 h 668520"/>
                    <a:gd name="textAreaBottom" fmla="*/ 668880 h 668520"/>
                  </a:gdLst>
                  <a:ahLst/>
                  <a:rect l="textAreaLeft" t="textAreaTop" r="textAreaRight" b="textAreaBottom"/>
                  <a:pathLst>
                    <a:path w="740792" h="668402">
                      <a:moveTo>
                        <a:pt x="0" y="0"/>
                      </a:moveTo>
                      <a:lnTo>
                        <a:pt x="740791" y="0"/>
                      </a:lnTo>
                      <a:lnTo>
                        <a:pt x="740791" y="668401"/>
                      </a:lnTo>
                      <a:lnTo>
                        <a:pt x="0" y="668401"/>
                      </a:ln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09" name="Straight Connector 27"/>
                <p:cNvSpPr/>
                <p:nvPr/>
              </p:nvSpPr>
              <p:spPr>
                <a:xfrm>
                  <a:off x="9031680" y="2675520"/>
                  <a:ext cx="32148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710" name="TextBox 30"/>
            <p:cNvSpPr/>
            <p:nvPr/>
          </p:nvSpPr>
          <p:spPr>
            <a:xfrm>
              <a:off x="6616800" y="3009600"/>
              <a:ext cx="2818440" cy="116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 36"/>
                </a:rPr>
                <a:t>+2</a:t>
              </a:r>
              <a:r>
                <a:rPr b="0" lang="en-US" sz="3500" spc="-1" strike="noStrike">
                  <a:solidFill>
                    <a:srgbClr val="000000"/>
                  </a:solidFill>
                  <a:latin typeface="Arial - 36"/>
                </a:rPr>
                <a:t>	</a:t>
              </a:r>
              <a:r>
                <a:rPr b="0" lang="en-US" sz="3500" spc="-1" strike="noStrike">
                  <a:solidFill>
                    <a:srgbClr val="000000"/>
                  </a:solidFill>
                  <a:latin typeface="Arial - 36"/>
                </a:rPr>
                <a:t>	</a:t>
              </a:r>
              <a:r>
                <a:rPr b="0" lang="en-US" sz="3500" spc="-1" strike="noStrike">
                  <a:solidFill>
                    <a:srgbClr val="000000"/>
                  </a:solidFill>
                  <a:latin typeface="Arial - 36"/>
                </a:rPr>
                <a:t>	</a:t>
              </a:r>
              <a:r>
                <a:rPr b="0" lang="en-US" sz="3500" spc="-1" strike="noStrike">
                  <a:solidFill>
                    <a:srgbClr val="000000"/>
                  </a:solidFill>
                  <a:latin typeface="Arial - 36"/>
                </a:rPr>
                <a:t>-2</a:t>
              </a:r>
              <a:endParaRPr b="0" lang="en-US" sz="3500" spc="-1" strike="noStrike">
                <a:solidFill>
                  <a:srgbClr val="000000"/>
                </a:solidFill>
                <a:latin typeface="Calibri"/>
              </a:endParaRPr>
            </a:p>
          </p:txBody>
        </p:sp>
      </p:grpSp>
      <p:grpSp>
        <p:nvGrpSpPr>
          <p:cNvPr id="711" name="Group 60"/>
          <p:cNvGrpSpPr/>
          <p:nvPr/>
        </p:nvGrpSpPr>
        <p:grpSpPr>
          <a:xfrm>
            <a:off x="4718160" y="5568840"/>
            <a:ext cx="5010120" cy="533880"/>
            <a:chOff x="4718160" y="5568840"/>
            <a:chExt cx="5010120" cy="533880"/>
          </a:xfrm>
        </p:grpSpPr>
        <p:sp>
          <p:nvSpPr>
            <p:cNvPr id="712" name="TextBox 32"/>
            <p:cNvSpPr/>
            <p:nvPr/>
          </p:nvSpPr>
          <p:spPr>
            <a:xfrm>
              <a:off x="6629760" y="5765400"/>
              <a:ext cx="330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1</a:t>
              </a:r>
              <a:endParaRPr b="0" lang="en-US" sz="900" spc="-1" strike="noStrike">
                <a:solidFill>
                  <a:srgbClr val="000000"/>
                </a:solidFill>
                <a:latin typeface="Calibri"/>
              </a:endParaRPr>
            </a:p>
          </p:txBody>
        </p:sp>
        <p:sp>
          <p:nvSpPr>
            <p:cNvPr id="713" name="TextBox 33"/>
            <p:cNvSpPr/>
            <p:nvPr/>
          </p:nvSpPr>
          <p:spPr>
            <a:xfrm>
              <a:off x="7112160" y="5778000"/>
              <a:ext cx="279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 12"/>
                </a:rPr>
                <a:t>0</a:t>
              </a:r>
              <a:endParaRPr b="0" lang="en-US" sz="800" spc="-1" strike="noStrike">
                <a:solidFill>
                  <a:srgbClr val="000000"/>
                </a:solidFill>
                <a:latin typeface="Calibri"/>
              </a:endParaRPr>
            </a:p>
          </p:txBody>
        </p:sp>
        <p:sp>
          <p:nvSpPr>
            <p:cNvPr id="714" name="TextBox 34"/>
            <p:cNvSpPr/>
            <p:nvPr/>
          </p:nvSpPr>
          <p:spPr>
            <a:xfrm>
              <a:off x="6235920" y="5765400"/>
              <a:ext cx="25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 12"/>
                </a:rPr>
                <a:t>-2</a:t>
              </a:r>
              <a:endParaRPr b="0" lang="en-US" sz="800" spc="-1" strike="noStrike">
                <a:solidFill>
                  <a:srgbClr val="000000"/>
                </a:solidFill>
                <a:latin typeface="Calibri"/>
              </a:endParaRPr>
            </a:p>
          </p:txBody>
        </p:sp>
        <p:sp>
          <p:nvSpPr>
            <p:cNvPr id="715" name="TextBox 35"/>
            <p:cNvSpPr/>
            <p:nvPr/>
          </p:nvSpPr>
          <p:spPr>
            <a:xfrm>
              <a:off x="5803920" y="576540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3</a:t>
              </a:r>
              <a:endParaRPr b="0" lang="en-US" sz="900" spc="-1" strike="noStrike">
                <a:solidFill>
                  <a:srgbClr val="000000"/>
                </a:solidFill>
                <a:latin typeface="Calibri"/>
              </a:endParaRPr>
            </a:p>
          </p:txBody>
        </p:sp>
        <p:sp>
          <p:nvSpPr>
            <p:cNvPr id="716" name="TextBox 36"/>
            <p:cNvSpPr/>
            <p:nvPr/>
          </p:nvSpPr>
          <p:spPr>
            <a:xfrm>
              <a:off x="5384880" y="576540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4</a:t>
              </a:r>
              <a:endParaRPr b="0" lang="en-US" sz="900" spc="-1" strike="noStrike">
                <a:solidFill>
                  <a:srgbClr val="000000"/>
                </a:solidFill>
                <a:latin typeface="Calibri"/>
              </a:endParaRPr>
            </a:p>
          </p:txBody>
        </p:sp>
        <p:sp>
          <p:nvSpPr>
            <p:cNvPr id="717" name="TextBox 37"/>
            <p:cNvSpPr/>
            <p:nvPr/>
          </p:nvSpPr>
          <p:spPr>
            <a:xfrm>
              <a:off x="4991040" y="576540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5</a:t>
              </a:r>
              <a:endParaRPr b="0" lang="en-US" sz="900" spc="-1" strike="noStrike">
                <a:solidFill>
                  <a:srgbClr val="000000"/>
                </a:solidFill>
                <a:latin typeface="Calibri"/>
              </a:endParaRPr>
            </a:p>
          </p:txBody>
        </p:sp>
        <p:sp>
          <p:nvSpPr>
            <p:cNvPr id="718" name="TextBox 38"/>
            <p:cNvSpPr/>
            <p:nvPr/>
          </p:nvSpPr>
          <p:spPr>
            <a:xfrm>
              <a:off x="7531560" y="5765400"/>
              <a:ext cx="330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1</a:t>
              </a:r>
              <a:endParaRPr b="0" lang="en-US" sz="900" spc="-1" strike="noStrike">
                <a:solidFill>
                  <a:srgbClr val="000000"/>
                </a:solidFill>
                <a:latin typeface="Calibri"/>
              </a:endParaRPr>
            </a:p>
          </p:txBody>
        </p:sp>
        <p:sp>
          <p:nvSpPr>
            <p:cNvPr id="719" name="TextBox 39"/>
            <p:cNvSpPr/>
            <p:nvPr/>
          </p:nvSpPr>
          <p:spPr>
            <a:xfrm>
              <a:off x="7963200" y="5765400"/>
              <a:ext cx="253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 12"/>
                </a:rPr>
                <a:t>2</a:t>
              </a:r>
              <a:endParaRPr b="0" lang="en-US" sz="800" spc="-1" strike="noStrike">
                <a:solidFill>
                  <a:srgbClr val="000000"/>
                </a:solidFill>
                <a:latin typeface="Calibri"/>
              </a:endParaRPr>
            </a:p>
          </p:txBody>
        </p:sp>
        <p:sp>
          <p:nvSpPr>
            <p:cNvPr id="720" name="TextBox 40"/>
            <p:cNvSpPr/>
            <p:nvPr/>
          </p:nvSpPr>
          <p:spPr>
            <a:xfrm>
              <a:off x="8344440" y="577800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3</a:t>
              </a:r>
              <a:endParaRPr b="0" lang="en-US" sz="900" spc="-1" strike="noStrike">
                <a:solidFill>
                  <a:srgbClr val="000000"/>
                </a:solidFill>
                <a:latin typeface="Calibri"/>
              </a:endParaRPr>
            </a:p>
          </p:txBody>
        </p:sp>
        <p:sp>
          <p:nvSpPr>
            <p:cNvPr id="721" name="TextBox 41"/>
            <p:cNvSpPr/>
            <p:nvPr/>
          </p:nvSpPr>
          <p:spPr>
            <a:xfrm>
              <a:off x="8763480" y="577800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4</a:t>
              </a:r>
              <a:endParaRPr b="0" lang="en-US" sz="900" spc="-1" strike="noStrike">
                <a:solidFill>
                  <a:srgbClr val="000000"/>
                </a:solidFill>
                <a:latin typeface="Calibri"/>
              </a:endParaRPr>
            </a:p>
          </p:txBody>
        </p:sp>
        <p:sp>
          <p:nvSpPr>
            <p:cNvPr id="722" name="TextBox 42"/>
            <p:cNvSpPr/>
            <p:nvPr/>
          </p:nvSpPr>
          <p:spPr>
            <a:xfrm>
              <a:off x="9182520" y="576540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5</a:t>
              </a:r>
              <a:endParaRPr b="0" lang="en-US" sz="900" spc="-1" strike="noStrike">
                <a:solidFill>
                  <a:srgbClr val="000000"/>
                </a:solidFill>
                <a:latin typeface="Calibri"/>
              </a:endParaRPr>
            </a:p>
          </p:txBody>
        </p:sp>
        <p:grpSp>
          <p:nvGrpSpPr>
            <p:cNvPr id="723" name="Group 48"/>
            <p:cNvGrpSpPr/>
            <p:nvPr/>
          </p:nvGrpSpPr>
          <p:grpSpPr>
            <a:xfrm>
              <a:off x="4718160" y="5568840"/>
              <a:ext cx="5010120" cy="212040"/>
              <a:chOff x="4718160" y="5568840"/>
              <a:chExt cx="5010120" cy="212040"/>
            </a:xfrm>
          </p:grpSpPr>
          <p:sp>
            <p:nvSpPr>
              <p:cNvPr id="724" name="Freeform 43"/>
              <p:cNvSpPr/>
              <p:nvPr/>
            </p:nvSpPr>
            <p:spPr>
              <a:xfrm>
                <a:off x="4725000" y="5670000"/>
                <a:ext cx="5002200" cy="7920"/>
              </a:xfrm>
              <a:custGeom>
                <a:avLst/>
                <a:gdLst>
                  <a:gd name="textAreaLeft" fmla="*/ 0 w 5002200"/>
                  <a:gd name="textAreaRight" fmla="*/ 5002560 w 5002200"/>
                  <a:gd name="textAreaTop" fmla="*/ 0 h 7920"/>
                  <a:gd name="textAreaBottom" fmla="*/ 8280 h 7920"/>
                </a:gdLst>
                <a:ahLst/>
                <a:rect l="textAreaLeft" t="textAreaTop" r="textAreaRight" b="textAreaBottom"/>
                <a:pathLst>
                  <a:path w="5001770" h="8002">
                    <a:moveTo>
                      <a:pt x="0" y="8001"/>
                    </a:moveTo>
                    <a:lnTo>
                      <a:pt x="0" y="0"/>
                    </a:lnTo>
                    <a:lnTo>
                      <a:pt x="5001769" y="0"/>
                    </a:lnTo>
                    <a:lnTo>
                      <a:pt x="5001769" y="8001"/>
                    </a:lnTo>
                    <a:close/>
                  </a:path>
                </a:pathLst>
              </a:custGeom>
              <a:solidFill>
                <a:srgbClr val="000000"/>
              </a:solidFill>
              <a:ln w="0">
                <a:solidFill>
                  <a:srgbClr val="000000"/>
                </a:solidFill>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Calibri"/>
                </a:endParaRPr>
              </a:p>
            </p:txBody>
          </p:sp>
          <p:sp>
            <p:nvSpPr>
              <p:cNvPr id="725" name="Freeform 44"/>
              <p:cNvSpPr/>
              <p:nvPr/>
            </p:nvSpPr>
            <p:spPr>
              <a:xfrm>
                <a:off x="4718160" y="5568840"/>
                <a:ext cx="144360" cy="110880"/>
              </a:xfrm>
              <a:custGeom>
                <a:avLst/>
                <a:gdLst>
                  <a:gd name="textAreaLeft" fmla="*/ 0 w 144360"/>
                  <a:gd name="textAreaRight" fmla="*/ 144720 w 144360"/>
                  <a:gd name="textAreaTop" fmla="*/ 0 h 110880"/>
                  <a:gd name="textAreaBottom" fmla="*/ 111240 h 110880"/>
                </a:gdLst>
                <a:ahLst/>
                <a:rect l="textAreaLeft" t="textAreaTop" r="textAreaRight" b="textAreaBottom"/>
                <a:pathLst>
                  <a:path w="144399" h="110873">
                    <a:moveTo>
                      <a:pt x="6984" y="110872"/>
                    </a:moveTo>
                    <a:lnTo>
                      <a:pt x="0" y="105284"/>
                    </a:lnTo>
                    <a:lnTo>
                      <a:pt x="137414" y="0"/>
                    </a:lnTo>
                    <a:lnTo>
                      <a:pt x="144398" y="546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26" name="Freeform 45"/>
              <p:cNvSpPr/>
              <p:nvPr/>
            </p:nvSpPr>
            <p:spPr>
              <a:xfrm>
                <a:off x="4719960" y="5669640"/>
                <a:ext cx="144360" cy="110880"/>
              </a:xfrm>
              <a:custGeom>
                <a:avLst/>
                <a:gdLst>
                  <a:gd name="textAreaLeft" fmla="*/ 0 w 144360"/>
                  <a:gd name="textAreaRight" fmla="*/ 144720 w 144360"/>
                  <a:gd name="textAreaTop" fmla="*/ 0 h 110880"/>
                  <a:gd name="textAreaBottom" fmla="*/ 111240 h 110880"/>
                </a:gdLst>
                <a:ahLst/>
                <a:rect l="textAreaLeft" t="textAreaTop" r="textAreaRight" b="textAreaBottom"/>
                <a:pathLst>
                  <a:path w="144527" h="110999">
                    <a:moveTo>
                      <a:pt x="0" y="5588"/>
                    </a:moveTo>
                    <a:lnTo>
                      <a:pt x="7112" y="0"/>
                    </a:lnTo>
                    <a:lnTo>
                      <a:pt x="144526" y="105282"/>
                    </a:lnTo>
                    <a:lnTo>
                      <a:pt x="137542" y="11099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27" name="Freeform 46"/>
              <p:cNvSpPr/>
              <p:nvPr/>
            </p:nvSpPr>
            <p:spPr>
              <a:xfrm>
                <a:off x="9583920" y="5569200"/>
                <a:ext cx="144360" cy="110880"/>
              </a:xfrm>
              <a:custGeom>
                <a:avLst/>
                <a:gdLst>
                  <a:gd name="textAreaLeft" fmla="*/ 0 w 144360"/>
                  <a:gd name="textAreaRight" fmla="*/ 144720 w 144360"/>
                  <a:gd name="textAreaTop" fmla="*/ 0 h 110880"/>
                  <a:gd name="textAreaBottom" fmla="*/ 111240 h 110880"/>
                </a:gdLst>
                <a:ahLst/>
                <a:rect l="textAreaLeft" t="textAreaTop" r="textAreaRight" b="textAreaBottom"/>
                <a:pathLst>
                  <a:path w="144526" h="110999">
                    <a:moveTo>
                      <a:pt x="144525" y="105284"/>
                    </a:moveTo>
                    <a:lnTo>
                      <a:pt x="137540" y="110998"/>
                    </a:lnTo>
                    <a:lnTo>
                      <a:pt x="0" y="5589"/>
                    </a:lnTo>
                    <a:lnTo>
                      <a:pt x="7112"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28" name="Freeform 47"/>
              <p:cNvSpPr/>
              <p:nvPr/>
            </p:nvSpPr>
            <p:spPr>
              <a:xfrm>
                <a:off x="9581760" y="5670000"/>
                <a:ext cx="144360" cy="110880"/>
              </a:xfrm>
              <a:custGeom>
                <a:avLst/>
                <a:gdLst>
                  <a:gd name="textAreaLeft" fmla="*/ 0 w 144360"/>
                  <a:gd name="textAreaRight" fmla="*/ 144720 w 144360"/>
                  <a:gd name="textAreaTop" fmla="*/ 0 h 110880"/>
                  <a:gd name="textAreaBottom" fmla="*/ 111240 h 110880"/>
                </a:gdLst>
                <a:ahLst/>
                <a:rect l="textAreaLeft" t="textAreaTop" r="textAreaRight" b="textAreaBottom"/>
                <a:pathLst>
                  <a:path w="144527" h="110871">
                    <a:moveTo>
                      <a:pt x="137542" y="0"/>
                    </a:moveTo>
                    <a:lnTo>
                      <a:pt x="144526" y="5588"/>
                    </a:lnTo>
                    <a:lnTo>
                      <a:pt x="7112" y="110870"/>
                    </a:lnTo>
                    <a:lnTo>
                      <a:pt x="0" y="10528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729" name="Freeform 49"/>
            <p:cNvSpPr/>
            <p:nvPr/>
          </p:nvSpPr>
          <p:spPr>
            <a:xfrm>
              <a:off x="9281880" y="558864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1050" h="161292">
                  <a:moveTo>
                    <a:pt x="0" y="0"/>
                  </a:moveTo>
                  <a:lnTo>
                    <a:pt x="11049" y="0"/>
                  </a:lnTo>
                  <a:lnTo>
                    <a:pt x="11049" y="161291"/>
                  </a:lnTo>
                  <a:lnTo>
                    <a:pt x="0" y="1612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0" name="Freeform 50"/>
            <p:cNvSpPr/>
            <p:nvPr/>
          </p:nvSpPr>
          <p:spPr>
            <a:xfrm>
              <a:off x="8875440" y="558864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1050" h="161292">
                  <a:moveTo>
                    <a:pt x="0" y="0"/>
                  </a:moveTo>
                  <a:lnTo>
                    <a:pt x="11049" y="0"/>
                  </a:lnTo>
                  <a:lnTo>
                    <a:pt x="11049" y="161291"/>
                  </a:lnTo>
                  <a:lnTo>
                    <a:pt x="0" y="1612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1" name="Freeform 51"/>
            <p:cNvSpPr/>
            <p:nvPr/>
          </p:nvSpPr>
          <p:spPr>
            <a:xfrm>
              <a:off x="8443800" y="558864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1050" h="161292">
                  <a:moveTo>
                    <a:pt x="0" y="0"/>
                  </a:moveTo>
                  <a:lnTo>
                    <a:pt x="11049" y="0"/>
                  </a:lnTo>
                  <a:lnTo>
                    <a:pt x="11049" y="161291"/>
                  </a:lnTo>
                  <a:lnTo>
                    <a:pt x="0" y="1612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2" name="Freeform 52"/>
            <p:cNvSpPr/>
            <p:nvPr/>
          </p:nvSpPr>
          <p:spPr>
            <a:xfrm>
              <a:off x="8037360" y="558864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1050" h="161292">
                  <a:moveTo>
                    <a:pt x="0" y="0"/>
                  </a:moveTo>
                  <a:lnTo>
                    <a:pt x="11049" y="0"/>
                  </a:lnTo>
                  <a:lnTo>
                    <a:pt x="11049" y="161291"/>
                  </a:lnTo>
                  <a:lnTo>
                    <a:pt x="0" y="1612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3" name="Freeform 53"/>
            <p:cNvSpPr/>
            <p:nvPr/>
          </p:nvSpPr>
          <p:spPr>
            <a:xfrm>
              <a:off x="7630560" y="558864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0923" h="161292">
                  <a:moveTo>
                    <a:pt x="0" y="0"/>
                  </a:moveTo>
                  <a:lnTo>
                    <a:pt x="10922" y="0"/>
                  </a:lnTo>
                  <a:lnTo>
                    <a:pt x="10922" y="161291"/>
                  </a:lnTo>
                  <a:lnTo>
                    <a:pt x="0" y="1612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4" name="Freeform 54"/>
            <p:cNvSpPr/>
            <p:nvPr/>
          </p:nvSpPr>
          <p:spPr>
            <a:xfrm>
              <a:off x="6784200" y="559512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1050" h="161291">
                  <a:moveTo>
                    <a:pt x="0" y="0"/>
                  </a:moveTo>
                  <a:lnTo>
                    <a:pt x="11049" y="0"/>
                  </a:lnTo>
                  <a:lnTo>
                    <a:pt x="11049" y="161290"/>
                  </a:lnTo>
                  <a:lnTo>
                    <a:pt x="0" y="16129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5" name="Freeform 55"/>
            <p:cNvSpPr/>
            <p:nvPr/>
          </p:nvSpPr>
          <p:spPr>
            <a:xfrm>
              <a:off x="6377760" y="559512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1049" h="161291">
                  <a:moveTo>
                    <a:pt x="0" y="0"/>
                  </a:moveTo>
                  <a:lnTo>
                    <a:pt x="11048" y="0"/>
                  </a:lnTo>
                  <a:lnTo>
                    <a:pt x="11048" y="161290"/>
                  </a:lnTo>
                  <a:lnTo>
                    <a:pt x="0" y="16129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6" name="Freeform 56"/>
            <p:cNvSpPr/>
            <p:nvPr/>
          </p:nvSpPr>
          <p:spPr>
            <a:xfrm>
              <a:off x="5946120" y="5595120"/>
              <a:ext cx="11160" cy="161280"/>
            </a:xfrm>
            <a:custGeom>
              <a:avLst/>
              <a:gdLst>
                <a:gd name="textAreaLeft" fmla="*/ 0 w 11160"/>
                <a:gd name="textAreaRight" fmla="*/ 11520 w 11160"/>
                <a:gd name="textAreaTop" fmla="*/ 0 h 161280"/>
                <a:gd name="textAreaBottom" fmla="*/ 161640 h 161280"/>
              </a:gdLst>
              <a:ahLst/>
              <a:rect l="textAreaLeft" t="textAreaTop" r="textAreaRight" b="textAreaBottom"/>
              <a:pathLst>
                <a:path w="11177" h="161291">
                  <a:moveTo>
                    <a:pt x="0" y="0"/>
                  </a:moveTo>
                  <a:lnTo>
                    <a:pt x="11176" y="0"/>
                  </a:lnTo>
                  <a:lnTo>
                    <a:pt x="11176" y="161290"/>
                  </a:lnTo>
                  <a:lnTo>
                    <a:pt x="0" y="16129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7" name="Freeform 57"/>
            <p:cNvSpPr/>
            <p:nvPr/>
          </p:nvSpPr>
          <p:spPr>
            <a:xfrm>
              <a:off x="5539680" y="5595120"/>
              <a:ext cx="10800" cy="161280"/>
            </a:xfrm>
            <a:custGeom>
              <a:avLst/>
              <a:gdLst>
                <a:gd name="textAreaLeft" fmla="*/ 0 w 10800"/>
                <a:gd name="textAreaRight" fmla="*/ 10800 w 10800"/>
                <a:gd name="textAreaTop" fmla="*/ 0 h 161280"/>
                <a:gd name="textAreaBottom" fmla="*/ 161640 h 161280"/>
              </a:gdLst>
              <a:ahLst/>
              <a:rect l="textAreaLeft" t="textAreaTop" r="textAreaRight" b="textAreaBottom"/>
              <a:pathLst>
                <a:path w="10924" h="161291">
                  <a:moveTo>
                    <a:pt x="0" y="0"/>
                  </a:moveTo>
                  <a:lnTo>
                    <a:pt x="10923" y="0"/>
                  </a:lnTo>
                  <a:lnTo>
                    <a:pt x="10923" y="161290"/>
                  </a:lnTo>
                  <a:lnTo>
                    <a:pt x="0" y="16129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8" name="Freeform 58"/>
            <p:cNvSpPr/>
            <p:nvPr/>
          </p:nvSpPr>
          <p:spPr>
            <a:xfrm>
              <a:off x="5132880" y="559512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1049" h="161291">
                  <a:moveTo>
                    <a:pt x="0" y="0"/>
                  </a:moveTo>
                  <a:lnTo>
                    <a:pt x="11048" y="0"/>
                  </a:lnTo>
                  <a:lnTo>
                    <a:pt x="11048" y="161290"/>
                  </a:lnTo>
                  <a:lnTo>
                    <a:pt x="0" y="16129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9" name="Freeform 59"/>
            <p:cNvSpPr/>
            <p:nvPr/>
          </p:nvSpPr>
          <p:spPr>
            <a:xfrm>
              <a:off x="7207560" y="558864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0923" h="161292">
                  <a:moveTo>
                    <a:pt x="0" y="0"/>
                  </a:moveTo>
                  <a:lnTo>
                    <a:pt x="10922" y="0"/>
                  </a:lnTo>
                  <a:lnTo>
                    <a:pt x="10922" y="161291"/>
                  </a:lnTo>
                  <a:lnTo>
                    <a:pt x="0" y="1612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740" name="TextBox 61"/>
          <p:cNvSpPr/>
          <p:nvPr/>
        </p:nvSpPr>
        <p:spPr>
          <a:xfrm>
            <a:off x="1181160" y="511812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 24"/>
              </a:rPr>
              <a:t>use brackets!</a:t>
            </a:r>
            <a:endParaRPr b="0" lang="en-US" sz="2400" spc="-1" strike="noStrike">
              <a:solidFill>
                <a:srgbClr val="000000"/>
              </a:solidFill>
              <a:latin typeface="Calibri"/>
            </a:endParaRPr>
          </a:p>
        </p:txBody>
      </p:sp>
      <p:sp>
        <p:nvSpPr>
          <p:cNvPr id="741" name="Straight Connector 62"/>
          <p:cNvSpPr/>
          <p:nvPr/>
        </p:nvSpPr>
        <p:spPr>
          <a:xfrm flipV="1">
            <a:off x="2641680" y="4787640"/>
            <a:ext cx="38160" cy="266760"/>
          </a:xfrm>
          <a:prstGeom prst="line">
            <a:avLst/>
          </a:prstGeom>
          <a:ln w="381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2" name="Straight Connector 63"/>
          <p:cNvSpPr/>
          <p:nvPr/>
        </p:nvSpPr>
        <p:spPr>
          <a:xfrm flipH="1" flipV="1">
            <a:off x="1536480" y="4826160"/>
            <a:ext cx="37800" cy="304560"/>
          </a:xfrm>
          <a:prstGeom prst="line">
            <a:avLst/>
          </a:prstGeom>
          <a:ln w="381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3" name="Straight Connector 64"/>
          <p:cNvSpPr/>
          <p:nvPr/>
        </p:nvSpPr>
        <p:spPr>
          <a:xfrm flipH="1" flipV="1">
            <a:off x="1879200" y="4812840"/>
            <a:ext cx="25560" cy="241560"/>
          </a:xfrm>
          <a:prstGeom prst="line">
            <a:avLst/>
          </a:prstGeom>
          <a:ln w="381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4" name="Straight Connector 65"/>
          <p:cNvSpPr/>
          <p:nvPr/>
        </p:nvSpPr>
        <p:spPr>
          <a:xfrm flipV="1">
            <a:off x="2209680" y="4800240"/>
            <a:ext cx="76320" cy="266760"/>
          </a:xfrm>
          <a:prstGeom prst="line">
            <a:avLst/>
          </a:prstGeom>
          <a:ln w="381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5" name="Freeform 66"/>
          <p:cNvSpPr/>
          <p:nvPr/>
        </p:nvSpPr>
        <p:spPr>
          <a:xfrm>
            <a:off x="444600" y="5092560"/>
            <a:ext cx="12600" cy="12960"/>
          </a:xfrm>
          <a:custGeom>
            <a:avLst/>
            <a:gdLst>
              <a:gd name="textAreaLeft" fmla="*/ 0 w 12600"/>
              <a:gd name="textAreaRight" fmla="*/ 12960 w 12600"/>
              <a:gd name="textAreaTop" fmla="*/ 0 h 12960"/>
              <a:gd name="textAreaBottom" fmla="*/ 13320 h 12960"/>
            </a:gdLst>
            <a:ahLst/>
            <a:rect l="textAreaLeft" t="textAreaTop" r="textAreaRight" b="textAreaBottom"/>
            <a:pathLst>
              <a:path w="12701" h="12701">
                <a:moveTo>
                  <a:pt x="0" y="12700"/>
                </a:moveTo>
                <a:lnTo>
                  <a:pt x="3809" y="12700"/>
                </a:lnTo>
                <a:lnTo>
                  <a:pt x="12700" y="0"/>
                </a:lnTo>
              </a:path>
            </a:pathLst>
          </a:custGeom>
          <a:noFill/>
          <a:ln w="38160">
            <a:solidFill>
              <a:srgbClr val="0000ff"/>
            </a:solidFill>
            <a:round/>
          </a:ln>
        </p:spPr>
        <p:style>
          <a:lnRef idx="0"/>
          <a:fillRef idx="0"/>
          <a:effectRef idx="0"/>
          <a:fontRef idx="minor"/>
        </p:style>
        <p:txBody>
          <a:bodyPr lIns="90000" rIns="90000" tIns="-33480" bIns="-334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TextBox 1"/>
          <p:cNvSpPr/>
          <p:nvPr/>
        </p:nvSpPr>
        <p:spPr>
          <a:xfrm>
            <a:off x="279360" y="1143000"/>
            <a:ext cx="10033200" cy="289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Symbol - 24"/>
              </a:rPr>
              <a:t>·</a:t>
            </a:r>
            <a:r>
              <a:rPr b="0" lang="en-CA" sz="2300" spc="-1" strike="noStrike">
                <a:solidFill>
                  <a:srgbClr val="0000ff"/>
                </a:solidFill>
                <a:latin typeface="Comic Sans MS - 24"/>
              </a:rPr>
              <a:t>You can use integer chips to represent integer subtraction.</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You can model subtraction by removing integer chips of the appropriate colour.</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Add zero pairs if there are not enough chips of one colour to remove.</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There are two differences between two different integers.  For example, the differences between +1 and -2 are +3 and -3.</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	</a:t>
            </a:r>
            <a:r>
              <a:rPr b="0" lang="en-US" sz="2300" spc="-1" strike="noStrike">
                <a:solidFill>
                  <a:srgbClr val="0000ff"/>
                </a:solidFill>
                <a:latin typeface="Comic Sans MS - 24"/>
              </a:rPr>
              <a:t>	</a:t>
            </a:r>
            <a:r>
              <a:rPr b="0" lang="en-US" sz="2300" spc="-1" strike="noStrike">
                <a:solidFill>
                  <a:srgbClr val="0000ff"/>
                </a:solidFill>
                <a:latin typeface="Comic Sans MS - 24"/>
              </a:rPr>
              <a:t>(+1) - (-2) = (+3)</a:t>
            </a:r>
            <a:r>
              <a:rPr b="0" lang="en-US" sz="2300" spc="-1" strike="noStrike">
                <a:solidFill>
                  <a:srgbClr val="0000ff"/>
                </a:solidFill>
                <a:latin typeface="Comic Sans MS - 24"/>
              </a:rPr>
              <a:t>	</a:t>
            </a:r>
            <a:r>
              <a:rPr b="0" lang="en-US" sz="2300" spc="-1" strike="noStrike">
                <a:solidFill>
                  <a:srgbClr val="0000ff"/>
                </a:solidFill>
                <a:latin typeface="Comic Sans MS - 24"/>
              </a:rPr>
              <a:t>	</a:t>
            </a:r>
            <a:r>
              <a:rPr b="0" lang="en-US" sz="2300" spc="-1" strike="noStrike">
                <a:solidFill>
                  <a:srgbClr val="0000ff"/>
                </a:solidFill>
                <a:latin typeface="Comic Sans MS - 24"/>
              </a:rPr>
              <a:t>	</a:t>
            </a:r>
            <a:r>
              <a:rPr b="0" lang="en-US" sz="2300" spc="-1" strike="noStrike">
                <a:solidFill>
                  <a:srgbClr val="0000ff"/>
                </a:solidFill>
                <a:latin typeface="Comic Sans MS - 24"/>
              </a:rPr>
              <a:t>(-2) - (+1) = (-3)</a:t>
            </a:r>
            <a:endParaRPr b="0" lang="en-US" sz="2300" spc="-1" strike="noStrike">
              <a:solidFill>
                <a:srgbClr val="000000"/>
              </a:solidFill>
              <a:latin typeface="Calibri"/>
            </a:endParaRPr>
          </a:p>
        </p:txBody>
      </p:sp>
      <p:sp>
        <p:nvSpPr>
          <p:cNvPr id="747" name="TextBox 2"/>
          <p:cNvSpPr/>
          <p:nvPr/>
        </p:nvSpPr>
        <p:spPr>
          <a:xfrm>
            <a:off x="254160" y="216000"/>
            <a:ext cx="271764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omic Sans MS - 36"/>
              </a:rPr>
              <a:t>Key Ideas</a:t>
            </a:r>
            <a:endParaRPr b="0" lang="en-US" sz="3500" spc="-1" strike="noStrike">
              <a:solidFill>
                <a:srgbClr val="000000"/>
              </a:solidFill>
              <a:latin typeface="Calibri"/>
            </a:endParaRPr>
          </a:p>
        </p:txBody>
      </p:sp>
      <p:grpSp>
        <p:nvGrpSpPr>
          <p:cNvPr id="748" name="Group 7"/>
          <p:cNvGrpSpPr/>
          <p:nvPr/>
        </p:nvGrpSpPr>
        <p:grpSpPr>
          <a:xfrm>
            <a:off x="98280" y="5540400"/>
            <a:ext cx="619200" cy="527040"/>
            <a:chOff x="98280" y="5540400"/>
            <a:chExt cx="619200" cy="527040"/>
          </a:xfrm>
        </p:grpSpPr>
        <p:sp>
          <p:nvSpPr>
            <p:cNvPr id="749" name="Freeform 3"/>
            <p:cNvSpPr/>
            <p:nvPr/>
          </p:nvSpPr>
          <p:spPr>
            <a:xfrm>
              <a:off x="98280" y="5540400"/>
              <a:ext cx="619200" cy="527040"/>
            </a:xfrm>
            <a:custGeom>
              <a:avLst/>
              <a:gdLst>
                <a:gd name="textAreaLeft" fmla="*/ 0 w 619200"/>
                <a:gd name="textAreaRight" fmla="*/ 619560 w 619200"/>
                <a:gd name="textAreaTop" fmla="*/ 0 h 527040"/>
                <a:gd name="textAreaBottom" fmla="*/ 527400 h 527040"/>
              </a:gdLst>
              <a:ahLst/>
              <a:rect l="textAreaLeft" t="textAreaTop" r="textAreaRight" b="textAreaBottom"/>
              <a:pathLst>
                <a:path w="620396" h="526925">
                  <a:moveTo>
                    <a:pt x="0" y="0"/>
                  </a:moveTo>
                  <a:lnTo>
                    <a:pt x="620395" y="0"/>
                  </a:lnTo>
                  <a:lnTo>
                    <a:pt x="620395" y="526924"/>
                  </a:lnTo>
                  <a:lnTo>
                    <a:pt x="0" y="526924"/>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750" name="Group 6"/>
            <p:cNvGrpSpPr/>
            <p:nvPr/>
          </p:nvGrpSpPr>
          <p:grpSpPr>
            <a:xfrm>
              <a:off x="277560" y="5680800"/>
              <a:ext cx="268920" cy="239040"/>
              <a:chOff x="277560" y="5680800"/>
              <a:chExt cx="268920" cy="239040"/>
            </a:xfrm>
          </p:grpSpPr>
          <p:sp>
            <p:nvSpPr>
              <p:cNvPr id="751" name="Straight Connector 4"/>
              <p:cNvSpPr/>
              <p:nvPr/>
            </p:nvSpPr>
            <p:spPr>
              <a:xfrm>
                <a:off x="277560" y="5807520"/>
                <a:ext cx="268920" cy="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2" name="Straight Connector 5"/>
              <p:cNvSpPr/>
              <p:nvPr/>
            </p:nvSpPr>
            <p:spPr>
              <a:xfrm flipV="1">
                <a:off x="407880" y="5680800"/>
                <a:ext cx="0" cy="23904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753" name="Group 10"/>
          <p:cNvGrpSpPr/>
          <p:nvPr/>
        </p:nvGrpSpPr>
        <p:grpSpPr>
          <a:xfrm>
            <a:off x="100080" y="6200640"/>
            <a:ext cx="619200" cy="527040"/>
            <a:chOff x="100080" y="6200640"/>
            <a:chExt cx="619200" cy="527040"/>
          </a:xfrm>
        </p:grpSpPr>
        <p:sp>
          <p:nvSpPr>
            <p:cNvPr id="754" name="Freeform 8"/>
            <p:cNvSpPr/>
            <p:nvPr/>
          </p:nvSpPr>
          <p:spPr>
            <a:xfrm>
              <a:off x="100080" y="6200640"/>
              <a:ext cx="619200" cy="527040"/>
            </a:xfrm>
            <a:custGeom>
              <a:avLst/>
              <a:gdLst>
                <a:gd name="textAreaLeft" fmla="*/ 0 w 619200"/>
                <a:gd name="textAreaRight" fmla="*/ 619560 w 619200"/>
                <a:gd name="textAreaTop" fmla="*/ 0 h 527040"/>
                <a:gd name="textAreaBottom" fmla="*/ 527400 h 527040"/>
              </a:gdLst>
              <a:ahLst/>
              <a:rect l="textAreaLeft" t="textAreaTop" r="textAreaRight" b="textAreaBottom"/>
              <a:pathLst>
                <a:path w="620269" h="526925">
                  <a:moveTo>
                    <a:pt x="0" y="0"/>
                  </a:moveTo>
                  <a:lnTo>
                    <a:pt x="620268" y="0"/>
                  </a:lnTo>
                  <a:lnTo>
                    <a:pt x="620268" y="526924"/>
                  </a:lnTo>
                  <a:lnTo>
                    <a:pt x="0" y="526924"/>
                  </a:ln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55" name="Straight Connector 9"/>
            <p:cNvSpPr/>
            <p:nvPr/>
          </p:nvSpPr>
          <p:spPr>
            <a:xfrm>
              <a:off x="271080" y="6467760"/>
              <a:ext cx="26892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TextBox 1"/>
          <p:cNvSpPr/>
          <p:nvPr/>
        </p:nvSpPr>
        <p:spPr>
          <a:xfrm>
            <a:off x="50760" y="38160"/>
            <a:ext cx="98046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ff"/>
                </a:solidFill>
                <a:latin typeface="Comic Sans MS - 28"/>
              </a:rPr>
              <a:t>Example 1: Subtract Integers Using Integer Chips</a:t>
            </a:r>
            <a:endParaRPr b="0" lang="en-US" sz="3000" spc="-1" strike="noStrike">
              <a:solidFill>
                <a:srgbClr val="000000"/>
              </a:solidFill>
              <a:latin typeface="Calibri"/>
            </a:endParaRPr>
          </a:p>
        </p:txBody>
      </p:sp>
      <p:grpSp>
        <p:nvGrpSpPr>
          <p:cNvPr id="757" name="Group 6"/>
          <p:cNvGrpSpPr/>
          <p:nvPr/>
        </p:nvGrpSpPr>
        <p:grpSpPr>
          <a:xfrm>
            <a:off x="225360" y="3610080"/>
            <a:ext cx="619200" cy="527040"/>
            <a:chOff x="225360" y="3610080"/>
            <a:chExt cx="619200" cy="527040"/>
          </a:xfrm>
        </p:grpSpPr>
        <p:sp>
          <p:nvSpPr>
            <p:cNvPr id="758" name="Freeform 2"/>
            <p:cNvSpPr/>
            <p:nvPr/>
          </p:nvSpPr>
          <p:spPr>
            <a:xfrm>
              <a:off x="225360" y="3610080"/>
              <a:ext cx="619200" cy="527040"/>
            </a:xfrm>
            <a:custGeom>
              <a:avLst/>
              <a:gdLst>
                <a:gd name="textAreaLeft" fmla="*/ 0 w 619200"/>
                <a:gd name="textAreaRight" fmla="*/ 619560 w 619200"/>
                <a:gd name="textAreaTop" fmla="*/ 0 h 527040"/>
                <a:gd name="textAreaBottom" fmla="*/ 527400 h 527040"/>
              </a:gdLst>
              <a:ahLst/>
              <a:rect l="textAreaLeft" t="textAreaTop" r="textAreaRight" b="textAreaBottom"/>
              <a:pathLst>
                <a:path w="620396" h="526925">
                  <a:moveTo>
                    <a:pt x="0" y="0"/>
                  </a:moveTo>
                  <a:lnTo>
                    <a:pt x="620395" y="0"/>
                  </a:lnTo>
                  <a:lnTo>
                    <a:pt x="620395" y="526924"/>
                  </a:lnTo>
                  <a:lnTo>
                    <a:pt x="0" y="526924"/>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759" name="Group 5"/>
            <p:cNvGrpSpPr/>
            <p:nvPr/>
          </p:nvGrpSpPr>
          <p:grpSpPr>
            <a:xfrm>
              <a:off x="404640" y="3750480"/>
              <a:ext cx="268920" cy="239040"/>
              <a:chOff x="404640" y="3750480"/>
              <a:chExt cx="268920" cy="239040"/>
            </a:xfrm>
          </p:grpSpPr>
          <p:sp>
            <p:nvSpPr>
              <p:cNvPr id="760" name="Straight Connector 3"/>
              <p:cNvSpPr/>
              <p:nvPr/>
            </p:nvSpPr>
            <p:spPr>
              <a:xfrm>
                <a:off x="404640" y="3877200"/>
                <a:ext cx="268920" cy="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1" name="Straight Connector 4"/>
              <p:cNvSpPr/>
              <p:nvPr/>
            </p:nvSpPr>
            <p:spPr>
              <a:xfrm flipV="1">
                <a:off x="534960" y="3750480"/>
                <a:ext cx="0" cy="23904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762" name="Group 9"/>
          <p:cNvGrpSpPr/>
          <p:nvPr/>
        </p:nvGrpSpPr>
        <p:grpSpPr>
          <a:xfrm>
            <a:off x="227160" y="4270320"/>
            <a:ext cx="618840" cy="527040"/>
            <a:chOff x="227160" y="4270320"/>
            <a:chExt cx="618840" cy="527040"/>
          </a:xfrm>
        </p:grpSpPr>
        <p:sp>
          <p:nvSpPr>
            <p:cNvPr id="763" name="Freeform 7"/>
            <p:cNvSpPr/>
            <p:nvPr/>
          </p:nvSpPr>
          <p:spPr>
            <a:xfrm>
              <a:off x="227160" y="4270320"/>
              <a:ext cx="618840" cy="527040"/>
            </a:xfrm>
            <a:custGeom>
              <a:avLst/>
              <a:gdLst>
                <a:gd name="textAreaLeft" fmla="*/ 0 w 618840"/>
                <a:gd name="textAreaRight" fmla="*/ 619200 w 618840"/>
                <a:gd name="textAreaTop" fmla="*/ 0 h 527040"/>
                <a:gd name="textAreaBottom" fmla="*/ 527400 h 527040"/>
              </a:gdLst>
              <a:ahLst/>
              <a:rect l="textAreaLeft" t="textAreaTop" r="textAreaRight" b="textAreaBottom"/>
              <a:pathLst>
                <a:path w="620269" h="526925">
                  <a:moveTo>
                    <a:pt x="0" y="0"/>
                  </a:moveTo>
                  <a:lnTo>
                    <a:pt x="620268" y="0"/>
                  </a:lnTo>
                  <a:lnTo>
                    <a:pt x="620268" y="526924"/>
                  </a:lnTo>
                  <a:lnTo>
                    <a:pt x="0" y="526924"/>
                  </a:ln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64" name="Straight Connector 8"/>
            <p:cNvSpPr/>
            <p:nvPr/>
          </p:nvSpPr>
          <p:spPr>
            <a:xfrm>
              <a:off x="398160" y="4537440"/>
              <a:ext cx="26856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65" name="TextBox 10"/>
          <p:cNvSpPr/>
          <p:nvPr/>
        </p:nvSpPr>
        <p:spPr>
          <a:xfrm>
            <a:off x="419040" y="749160"/>
            <a:ext cx="89154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Determine each difference using integer chips.  Cross out or circle </a:t>
            </a:r>
            <a:r>
              <a:rPr b="0" lang="en-CA" sz="2300" spc="-1" strike="noStrike">
                <a:solidFill>
                  <a:srgbClr val="ff0000"/>
                </a:solidFill>
                <a:latin typeface="Comic Sans MS - 24"/>
              </a:rPr>
              <a:t>zero pairs </a:t>
            </a:r>
            <a:r>
              <a:rPr b="0" lang="en-CA" sz="2300" spc="-1" strike="noStrike">
                <a:solidFill>
                  <a:srgbClr val="0000ff"/>
                </a:solidFill>
                <a:latin typeface="Comic Sans MS - 24"/>
              </a:rPr>
              <a:t>where applicable.</a:t>
            </a:r>
            <a:endParaRPr b="0" lang="en-US" sz="2300" spc="-1" strike="noStrike">
              <a:solidFill>
                <a:srgbClr val="000000"/>
              </a:solidFill>
              <a:latin typeface="Calibri"/>
            </a:endParaRPr>
          </a:p>
        </p:txBody>
      </p:sp>
      <p:sp>
        <p:nvSpPr>
          <p:cNvPr id="766" name="TextBox 11"/>
          <p:cNvSpPr/>
          <p:nvPr/>
        </p:nvSpPr>
        <p:spPr>
          <a:xfrm>
            <a:off x="317520" y="1879560"/>
            <a:ext cx="7442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 24"/>
              </a:rPr>
              <a:t>a) (-7) - (-3) = ___</a:t>
            </a:r>
            <a:r>
              <a:rPr b="0" lang="en-US" sz="2400" spc="-1" strike="noStrike">
                <a:solidFill>
                  <a:srgbClr val="ff0000"/>
                </a:solidFill>
                <a:latin typeface="Comic Sans MS - 24"/>
              </a:rPr>
              <a:t>	</a:t>
            </a:r>
            <a:r>
              <a:rPr b="0" lang="en-US" sz="2400" spc="-1" strike="noStrike">
                <a:solidFill>
                  <a:srgbClr val="ff0000"/>
                </a:solidFill>
                <a:latin typeface="Comic Sans MS - 24"/>
              </a:rPr>
              <a:t>	</a:t>
            </a:r>
            <a:r>
              <a:rPr b="0" lang="en-US" sz="2400" spc="-1" strike="noStrike">
                <a:solidFill>
                  <a:srgbClr val="ff0000"/>
                </a:solidFill>
                <a:latin typeface="Comic Sans MS - 24"/>
              </a:rPr>
              <a:t>	</a:t>
            </a:r>
            <a:r>
              <a:rPr b="0" lang="en-US" sz="2400" spc="-1" strike="noStrike">
                <a:solidFill>
                  <a:srgbClr val="ff0000"/>
                </a:solidFill>
                <a:latin typeface="Comic Sans MS - 24"/>
              </a:rPr>
              <a:t>b) (+3) - (-4) = ___</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 24"/>
              </a:rPr>
              <a:t>c) (-6) - (+2) = ___</a:t>
            </a:r>
            <a:r>
              <a:rPr b="0" lang="en-US" sz="2400" spc="-1" strike="noStrike">
                <a:solidFill>
                  <a:srgbClr val="ff0000"/>
                </a:solidFill>
                <a:latin typeface="Comic Sans MS - 24"/>
              </a:rPr>
              <a:t>	</a:t>
            </a:r>
            <a:r>
              <a:rPr b="0" lang="en-US" sz="2400" spc="-1" strike="noStrike">
                <a:solidFill>
                  <a:srgbClr val="ff0000"/>
                </a:solidFill>
                <a:latin typeface="Comic Sans MS - 24"/>
              </a:rPr>
              <a:t>	</a:t>
            </a:r>
            <a:r>
              <a:rPr b="0" lang="en-US" sz="2400" spc="-1" strike="noStrike">
                <a:solidFill>
                  <a:srgbClr val="ff0000"/>
                </a:solidFill>
                <a:latin typeface="Comic Sans MS - 24"/>
              </a:rPr>
              <a:t>	</a:t>
            </a:r>
            <a:r>
              <a:rPr b="0" lang="en-US" sz="2400" spc="-1" strike="noStrike">
                <a:solidFill>
                  <a:srgbClr val="ff0000"/>
                </a:solidFill>
                <a:latin typeface="Comic Sans MS - 24"/>
              </a:rPr>
              <a:t>d) (-2) - (-5) = ___</a:t>
            </a:r>
            <a:endParaRPr b="0" lang="en-US" sz="2400" spc="-1" strike="noStrike">
              <a:solidFill>
                <a:srgbClr val="000000"/>
              </a:solidFill>
              <a:latin typeface="Calibri"/>
            </a:endParaRPr>
          </a:p>
        </p:txBody>
      </p:sp>
      <p:sp>
        <p:nvSpPr>
          <p:cNvPr id="767" name="Freeform 12"/>
          <p:cNvSpPr/>
          <p:nvPr/>
        </p:nvSpPr>
        <p:spPr>
          <a:xfrm>
            <a:off x="1130400" y="2870280"/>
            <a:ext cx="6527880" cy="2413080"/>
          </a:xfrm>
          <a:custGeom>
            <a:avLst/>
            <a:gdLst>
              <a:gd name="textAreaLeft" fmla="*/ 0 w 6527880"/>
              <a:gd name="textAreaRight" fmla="*/ 6528240 w 6527880"/>
              <a:gd name="textAreaTop" fmla="*/ 0 h 2413080"/>
              <a:gd name="textAreaBottom" fmla="*/ 2413440 h 2413080"/>
            </a:gdLst>
            <a:ahLst/>
            <a:rect l="textAreaLeft" t="textAreaTop" r="textAreaRight" b="textAreaBottom"/>
            <a:pathLst>
              <a:path w="6527801" h="2413001">
                <a:moveTo>
                  <a:pt x="0" y="0"/>
                </a:moveTo>
                <a:lnTo>
                  <a:pt x="6527800" y="0"/>
                </a:lnTo>
                <a:lnTo>
                  <a:pt x="6527800" y="2413000"/>
                </a:lnTo>
                <a:lnTo>
                  <a:pt x="0" y="24130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68" name="TextBox 13"/>
          <p:cNvSpPr/>
          <p:nvPr/>
        </p:nvSpPr>
        <p:spPr>
          <a:xfrm>
            <a:off x="4114800" y="3301920"/>
            <a:ext cx="1422360" cy="117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100" spc="-1" strike="noStrike">
                <a:solidFill>
                  <a:srgbClr val="ff0000"/>
                </a:solidFill>
                <a:latin typeface="Comic Sans MS - 72"/>
              </a:rPr>
              <a:t>-</a:t>
            </a:r>
            <a:endParaRPr b="0" lang="en-US" sz="7100" spc="-1" strike="noStrike">
              <a:solidFill>
                <a:srgbClr val="000000"/>
              </a:solidFill>
              <a:latin typeface="Calibri"/>
            </a:endParaRPr>
          </a:p>
        </p:txBody>
      </p:sp>
      <p:grpSp>
        <p:nvGrpSpPr>
          <p:cNvPr id="769" name="Group 18"/>
          <p:cNvGrpSpPr/>
          <p:nvPr/>
        </p:nvGrpSpPr>
        <p:grpSpPr>
          <a:xfrm>
            <a:off x="8112240" y="3610080"/>
            <a:ext cx="618840" cy="527040"/>
            <a:chOff x="8112240" y="3610080"/>
            <a:chExt cx="618840" cy="527040"/>
          </a:xfrm>
        </p:grpSpPr>
        <p:sp>
          <p:nvSpPr>
            <p:cNvPr id="770" name="Freeform 14"/>
            <p:cNvSpPr/>
            <p:nvPr/>
          </p:nvSpPr>
          <p:spPr>
            <a:xfrm>
              <a:off x="8112240" y="3610080"/>
              <a:ext cx="618840" cy="527040"/>
            </a:xfrm>
            <a:custGeom>
              <a:avLst/>
              <a:gdLst>
                <a:gd name="textAreaLeft" fmla="*/ 0 w 618840"/>
                <a:gd name="textAreaRight" fmla="*/ 619200 w 618840"/>
                <a:gd name="textAreaTop" fmla="*/ 0 h 527040"/>
                <a:gd name="textAreaBottom" fmla="*/ 527400 h 527040"/>
              </a:gdLst>
              <a:ahLst/>
              <a:rect l="textAreaLeft" t="textAreaTop" r="textAreaRight" b="textAreaBottom"/>
              <a:pathLst>
                <a:path w="620395" h="526925">
                  <a:moveTo>
                    <a:pt x="0" y="0"/>
                  </a:moveTo>
                  <a:lnTo>
                    <a:pt x="620394" y="0"/>
                  </a:lnTo>
                  <a:lnTo>
                    <a:pt x="620394" y="526924"/>
                  </a:lnTo>
                  <a:lnTo>
                    <a:pt x="0" y="526924"/>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771" name="Group 17"/>
            <p:cNvGrpSpPr/>
            <p:nvPr/>
          </p:nvGrpSpPr>
          <p:grpSpPr>
            <a:xfrm>
              <a:off x="8291160" y="3750480"/>
              <a:ext cx="268560" cy="239040"/>
              <a:chOff x="8291160" y="3750480"/>
              <a:chExt cx="268560" cy="239040"/>
            </a:xfrm>
          </p:grpSpPr>
          <p:sp>
            <p:nvSpPr>
              <p:cNvPr id="772" name="Straight Connector 15"/>
              <p:cNvSpPr/>
              <p:nvPr/>
            </p:nvSpPr>
            <p:spPr>
              <a:xfrm>
                <a:off x="8291160" y="3877200"/>
                <a:ext cx="268560" cy="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3" name="Straight Connector 16"/>
              <p:cNvSpPr/>
              <p:nvPr/>
            </p:nvSpPr>
            <p:spPr>
              <a:xfrm flipV="1">
                <a:off x="8421480" y="3750480"/>
                <a:ext cx="0" cy="23904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774" name="Group 21"/>
          <p:cNvGrpSpPr/>
          <p:nvPr/>
        </p:nvGrpSpPr>
        <p:grpSpPr>
          <a:xfrm>
            <a:off x="8113680" y="4270320"/>
            <a:ext cx="619200" cy="527040"/>
            <a:chOff x="8113680" y="4270320"/>
            <a:chExt cx="619200" cy="527040"/>
          </a:xfrm>
        </p:grpSpPr>
        <p:sp>
          <p:nvSpPr>
            <p:cNvPr id="775" name="Freeform 19"/>
            <p:cNvSpPr/>
            <p:nvPr/>
          </p:nvSpPr>
          <p:spPr>
            <a:xfrm>
              <a:off x="8113680" y="4270320"/>
              <a:ext cx="619200" cy="527040"/>
            </a:xfrm>
            <a:custGeom>
              <a:avLst/>
              <a:gdLst>
                <a:gd name="textAreaLeft" fmla="*/ 0 w 619200"/>
                <a:gd name="textAreaRight" fmla="*/ 619560 w 619200"/>
                <a:gd name="textAreaTop" fmla="*/ 0 h 527040"/>
                <a:gd name="textAreaBottom" fmla="*/ 527400 h 527040"/>
              </a:gdLst>
              <a:ahLst/>
              <a:rect l="textAreaLeft" t="textAreaTop" r="textAreaRight" b="textAreaBottom"/>
              <a:pathLst>
                <a:path w="620268" h="526925">
                  <a:moveTo>
                    <a:pt x="0" y="0"/>
                  </a:moveTo>
                  <a:lnTo>
                    <a:pt x="620267" y="0"/>
                  </a:lnTo>
                  <a:lnTo>
                    <a:pt x="620267" y="526924"/>
                  </a:lnTo>
                  <a:lnTo>
                    <a:pt x="0" y="526924"/>
                  </a:ln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76" name="Straight Connector 20"/>
            <p:cNvSpPr/>
            <p:nvPr/>
          </p:nvSpPr>
          <p:spPr>
            <a:xfrm>
              <a:off x="8284680" y="4537440"/>
              <a:ext cx="26892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77" name="TextBox 22"/>
          <p:cNvSpPr/>
          <p:nvPr/>
        </p:nvSpPr>
        <p:spPr>
          <a:xfrm>
            <a:off x="990720" y="5384880"/>
            <a:ext cx="7213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ff"/>
                </a:solidFill>
                <a:latin typeface="Comic Sans MS - 36"/>
              </a:rPr>
              <a:t>Try "Show You Know" on p. 325</a:t>
            </a:r>
            <a:endParaRPr b="0" lang="en-US" sz="3600" spc="-1" strike="noStrike">
              <a:solidFill>
                <a:srgbClr val="000000"/>
              </a:solidFill>
              <a:latin typeface="Calibri"/>
            </a:endParaRPr>
          </a:p>
        </p:txBody>
      </p:sp>
      <p:grpSp>
        <p:nvGrpSpPr>
          <p:cNvPr id="778" name="Group 25"/>
          <p:cNvGrpSpPr/>
          <p:nvPr/>
        </p:nvGrpSpPr>
        <p:grpSpPr>
          <a:xfrm>
            <a:off x="7947000" y="3879720"/>
            <a:ext cx="1724040" cy="2197080"/>
            <a:chOff x="7947000" y="3879720"/>
            <a:chExt cx="1724040" cy="2197080"/>
          </a:xfrm>
        </p:grpSpPr>
        <p:pic>
          <p:nvPicPr>
            <p:cNvPr id="779" name="Picture 23" descr="NBKTemp(3695).png"/>
            <p:cNvPicPr/>
            <p:nvPr/>
          </p:nvPicPr>
          <p:blipFill>
            <a:blip r:embed="rId1">
              <a:alphaModFix amt="0"/>
            </a:blip>
            <a:stretch/>
          </p:blipFill>
          <p:spPr>
            <a:xfrm>
              <a:off x="8006400" y="3879720"/>
              <a:ext cx="1664640" cy="1943280"/>
            </a:xfrm>
            <a:prstGeom prst="rect">
              <a:avLst/>
            </a:prstGeom>
            <a:ln w="0">
              <a:noFill/>
            </a:ln>
          </p:spPr>
        </p:pic>
        <p:pic>
          <p:nvPicPr>
            <p:cNvPr id="780" name="Picture 24" descr="NBKTemp(28355).png"/>
            <p:cNvPicPr/>
            <p:nvPr/>
          </p:nvPicPr>
          <p:blipFill>
            <a:blip r:embed="rId2">
              <a:alphaModFix amt="0"/>
            </a:blip>
            <a:stretch/>
          </p:blipFill>
          <p:spPr>
            <a:xfrm>
              <a:off x="7947000" y="5124240"/>
              <a:ext cx="593280" cy="952560"/>
            </a:xfrm>
            <a:prstGeom prst="rect">
              <a:avLst/>
            </a:prstGeom>
            <a:ln w="0">
              <a:noFill/>
            </a:ln>
          </p:spPr>
        </p:pic>
      </p:grpSp>
      <p:grpSp>
        <p:nvGrpSpPr>
          <p:cNvPr id="781" name="Group 30"/>
          <p:cNvGrpSpPr/>
          <p:nvPr/>
        </p:nvGrpSpPr>
        <p:grpSpPr>
          <a:xfrm>
            <a:off x="378000" y="5324400"/>
            <a:ext cx="618840" cy="527040"/>
            <a:chOff x="378000" y="5324400"/>
            <a:chExt cx="618840" cy="527040"/>
          </a:xfrm>
        </p:grpSpPr>
        <p:sp>
          <p:nvSpPr>
            <p:cNvPr id="782" name="Freeform 26"/>
            <p:cNvSpPr/>
            <p:nvPr/>
          </p:nvSpPr>
          <p:spPr>
            <a:xfrm>
              <a:off x="378000" y="5324400"/>
              <a:ext cx="618840" cy="527040"/>
            </a:xfrm>
            <a:custGeom>
              <a:avLst/>
              <a:gdLst>
                <a:gd name="textAreaLeft" fmla="*/ 0 w 618840"/>
                <a:gd name="textAreaRight" fmla="*/ 619200 w 618840"/>
                <a:gd name="textAreaTop" fmla="*/ 0 h 527040"/>
                <a:gd name="textAreaBottom" fmla="*/ 527400 h 527040"/>
              </a:gdLst>
              <a:ahLst/>
              <a:rect l="textAreaLeft" t="textAreaTop" r="textAreaRight" b="textAreaBottom"/>
              <a:pathLst>
                <a:path w="620396" h="526925">
                  <a:moveTo>
                    <a:pt x="0" y="0"/>
                  </a:moveTo>
                  <a:lnTo>
                    <a:pt x="620395" y="0"/>
                  </a:lnTo>
                  <a:lnTo>
                    <a:pt x="620395" y="526924"/>
                  </a:lnTo>
                  <a:lnTo>
                    <a:pt x="0" y="526924"/>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783" name="Group 29"/>
            <p:cNvGrpSpPr/>
            <p:nvPr/>
          </p:nvGrpSpPr>
          <p:grpSpPr>
            <a:xfrm>
              <a:off x="556920" y="5464800"/>
              <a:ext cx="268560" cy="239040"/>
              <a:chOff x="556920" y="5464800"/>
              <a:chExt cx="268560" cy="239040"/>
            </a:xfrm>
          </p:grpSpPr>
          <p:sp>
            <p:nvSpPr>
              <p:cNvPr id="784" name="Straight Connector 27"/>
              <p:cNvSpPr/>
              <p:nvPr/>
            </p:nvSpPr>
            <p:spPr>
              <a:xfrm>
                <a:off x="556920" y="5591520"/>
                <a:ext cx="268560" cy="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5" name="Straight Connector 28"/>
              <p:cNvSpPr/>
              <p:nvPr/>
            </p:nvSpPr>
            <p:spPr>
              <a:xfrm flipV="1">
                <a:off x="687240" y="5464800"/>
                <a:ext cx="0" cy="23904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6" name="Group 5"/>
          <p:cNvGrpSpPr/>
          <p:nvPr/>
        </p:nvGrpSpPr>
        <p:grpSpPr>
          <a:xfrm>
            <a:off x="466560" y="5133960"/>
            <a:ext cx="619200" cy="527040"/>
            <a:chOff x="466560" y="5133960"/>
            <a:chExt cx="619200" cy="527040"/>
          </a:xfrm>
        </p:grpSpPr>
        <p:sp>
          <p:nvSpPr>
            <p:cNvPr id="787" name="Freeform 1"/>
            <p:cNvSpPr/>
            <p:nvPr/>
          </p:nvSpPr>
          <p:spPr>
            <a:xfrm>
              <a:off x="466560" y="5133960"/>
              <a:ext cx="619200" cy="527040"/>
            </a:xfrm>
            <a:custGeom>
              <a:avLst/>
              <a:gdLst>
                <a:gd name="textAreaLeft" fmla="*/ 0 w 619200"/>
                <a:gd name="textAreaRight" fmla="*/ 619560 w 619200"/>
                <a:gd name="textAreaTop" fmla="*/ 0 h 527040"/>
                <a:gd name="textAreaBottom" fmla="*/ 527400 h 527040"/>
              </a:gdLst>
              <a:ahLst/>
              <a:rect l="textAreaLeft" t="textAreaTop" r="textAreaRight" b="textAreaBottom"/>
              <a:pathLst>
                <a:path w="620396" h="526925">
                  <a:moveTo>
                    <a:pt x="0" y="0"/>
                  </a:moveTo>
                  <a:lnTo>
                    <a:pt x="620395" y="0"/>
                  </a:lnTo>
                  <a:lnTo>
                    <a:pt x="620395" y="526924"/>
                  </a:lnTo>
                  <a:lnTo>
                    <a:pt x="0" y="526924"/>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788" name="Group 4"/>
            <p:cNvGrpSpPr/>
            <p:nvPr/>
          </p:nvGrpSpPr>
          <p:grpSpPr>
            <a:xfrm>
              <a:off x="645840" y="5274360"/>
              <a:ext cx="268920" cy="239040"/>
              <a:chOff x="645840" y="5274360"/>
              <a:chExt cx="268920" cy="239040"/>
            </a:xfrm>
          </p:grpSpPr>
          <p:sp>
            <p:nvSpPr>
              <p:cNvPr id="789" name="Straight Connector 2"/>
              <p:cNvSpPr/>
              <p:nvPr/>
            </p:nvSpPr>
            <p:spPr>
              <a:xfrm>
                <a:off x="645840" y="5401080"/>
                <a:ext cx="268920" cy="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0" name="Straight Connector 3"/>
              <p:cNvSpPr/>
              <p:nvPr/>
            </p:nvSpPr>
            <p:spPr>
              <a:xfrm flipV="1">
                <a:off x="776160" y="5274360"/>
                <a:ext cx="0" cy="23904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791" name="Group 8"/>
          <p:cNvGrpSpPr/>
          <p:nvPr/>
        </p:nvGrpSpPr>
        <p:grpSpPr>
          <a:xfrm>
            <a:off x="468360" y="5819760"/>
            <a:ext cx="619200" cy="527040"/>
            <a:chOff x="468360" y="5819760"/>
            <a:chExt cx="619200" cy="527040"/>
          </a:xfrm>
        </p:grpSpPr>
        <p:sp>
          <p:nvSpPr>
            <p:cNvPr id="792" name="Freeform 6"/>
            <p:cNvSpPr/>
            <p:nvPr/>
          </p:nvSpPr>
          <p:spPr>
            <a:xfrm>
              <a:off x="468360" y="5819760"/>
              <a:ext cx="619200" cy="527040"/>
            </a:xfrm>
            <a:custGeom>
              <a:avLst/>
              <a:gdLst>
                <a:gd name="textAreaLeft" fmla="*/ 0 w 619200"/>
                <a:gd name="textAreaRight" fmla="*/ 619560 w 619200"/>
                <a:gd name="textAreaTop" fmla="*/ 0 h 527040"/>
                <a:gd name="textAreaBottom" fmla="*/ 527400 h 527040"/>
              </a:gdLst>
              <a:ahLst/>
              <a:rect l="textAreaLeft" t="textAreaTop" r="textAreaRight" b="textAreaBottom"/>
              <a:pathLst>
                <a:path w="620268" h="526925">
                  <a:moveTo>
                    <a:pt x="0" y="0"/>
                  </a:moveTo>
                  <a:lnTo>
                    <a:pt x="620267" y="0"/>
                  </a:lnTo>
                  <a:lnTo>
                    <a:pt x="620267" y="526924"/>
                  </a:lnTo>
                  <a:lnTo>
                    <a:pt x="0" y="526924"/>
                  </a:ln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93" name="Straight Connector 7"/>
            <p:cNvSpPr/>
            <p:nvPr/>
          </p:nvSpPr>
          <p:spPr>
            <a:xfrm>
              <a:off x="639360" y="6086880"/>
              <a:ext cx="26892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94" name="TextBox 9"/>
          <p:cNvSpPr/>
          <p:nvPr/>
        </p:nvSpPr>
        <p:spPr>
          <a:xfrm>
            <a:off x="660240" y="673200"/>
            <a:ext cx="7467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 24"/>
              </a:rPr>
              <a:t>a) (+8) - (+2) = ___</a:t>
            </a:r>
            <a:r>
              <a:rPr b="0" lang="en-US" sz="2400" spc="-1" strike="noStrike">
                <a:solidFill>
                  <a:srgbClr val="ff0000"/>
                </a:solidFill>
                <a:latin typeface="Comic Sans MS - 24"/>
              </a:rPr>
              <a:t>	</a:t>
            </a:r>
            <a:r>
              <a:rPr b="0" lang="en-US" sz="2400" spc="-1" strike="noStrike">
                <a:solidFill>
                  <a:srgbClr val="ff0000"/>
                </a:solidFill>
                <a:latin typeface="Comic Sans MS - 24"/>
              </a:rPr>
              <a:t>	</a:t>
            </a:r>
            <a:r>
              <a:rPr b="0" lang="en-US" sz="2400" spc="-1" strike="noStrike">
                <a:solidFill>
                  <a:srgbClr val="ff0000"/>
                </a:solidFill>
                <a:latin typeface="Comic Sans MS - 24"/>
              </a:rPr>
              <a:t>	</a:t>
            </a:r>
            <a:r>
              <a:rPr b="0" lang="en-US" sz="2400" spc="-1" strike="noStrike">
                <a:solidFill>
                  <a:srgbClr val="ff0000"/>
                </a:solidFill>
                <a:latin typeface="Comic Sans MS - 24"/>
              </a:rPr>
              <a:t>b) (-1) - (+2) = ___</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 24"/>
              </a:rPr>
              <a:t>c) (+4) - (-5) = ___</a:t>
            </a:r>
            <a:r>
              <a:rPr b="0" lang="en-US" sz="2400" spc="-1" strike="noStrike">
                <a:solidFill>
                  <a:srgbClr val="ff0000"/>
                </a:solidFill>
                <a:latin typeface="Comic Sans MS - 24"/>
              </a:rPr>
              <a:t>	</a:t>
            </a:r>
            <a:r>
              <a:rPr b="0" lang="en-US" sz="2400" spc="-1" strike="noStrike">
                <a:solidFill>
                  <a:srgbClr val="ff0000"/>
                </a:solidFill>
                <a:latin typeface="Comic Sans MS - 24"/>
              </a:rPr>
              <a:t>	</a:t>
            </a:r>
            <a:r>
              <a:rPr b="0" lang="en-US" sz="2400" spc="-1" strike="noStrike">
                <a:solidFill>
                  <a:srgbClr val="ff0000"/>
                </a:solidFill>
                <a:latin typeface="Comic Sans MS - 24"/>
              </a:rPr>
              <a:t>	</a:t>
            </a:r>
            <a:r>
              <a:rPr b="0" lang="en-US" sz="2400" spc="-1" strike="noStrike">
                <a:solidFill>
                  <a:srgbClr val="ff0000"/>
                </a:solidFill>
                <a:latin typeface="Comic Sans MS - 24"/>
              </a:rPr>
              <a:t>d) (+4) - (+6) = ___</a:t>
            </a:r>
            <a:endParaRPr b="0" lang="en-US" sz="2400" spc="-1" strike="noStrike">
              <a:solidFill>
                <a:srgbClr val="000000"/>
              </a:solidFill>
              <a:latin typeface="Calibri"/>
            </a:endParaRPr>
          </a:p>
        </p:txBody>
      </p:sp>
      <p:sp>
        <p:nvSpPr>
          <p:cNvPr id="795" name="TextBox 10"/>
          <p:cNvSpPr/>
          <p:nvPr/>
        </p:nvSpPr>
        <p:spPr>
          <a:xfrm>
            <a:off x="1371600" y="12600"/>
            <a:ext cx="3860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 36"/>
              </a:rPr>
              <a:t>Show You Know</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TextBox 1"/>
          <p:cNvSpPr/>
          <p:nvPr/>
        </p:nvSpPr>
        <p:spPr>
          <a:xfrm>
            <a:off x="114480" y="165240"/>
            <a:ext cx="871200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500" spc="-1" strike="noStrike">
                <a:solidFill>
                  <a:srgbClr val="0000ff"/>
                </a:solidFill>
                <a:latin typeface="Comic Sans MS - 36"/>
              </a:rPr>
              <a:t>Example 2: Apply Integer Subtraction</a:t>
            </a:r>
            <a:endParaRPr b="0" lang="en-US" sz="3500" spc="-1" strike="noStrike">
              <a:solidFill>
                <a:srgbClr val="000000"/>
              </a:solidFill>
              <a:latin typeface="Calibri"/>
            </a:endParaRPr>
          </a:p>
        </p:txBody>
      </p:sp>
      <p:sp>
        <p:nvSpPr>
          <p:cNvPr id="797" name="TextBox 2"/>
          <p:cNvSpPr/>
          <p:nvPr/>
        </p:nvSpPr>
        <p:spPr>
          <a:xfrm>
            <a:off x="558720" y="787320"/>
            <a:ext cx="8940960" cy="149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On a typical April day in Whitehorse, Yukon Territory, the temperature is -5</a:t>
            </a:r>
            <a:r>
              <a:rPr b="1" lang="en-CA" sz="2300" spc="-1" strike="noStrike">
                <a:solidFill>
                  <a:srgbClr val="0000ff"/>
                </a:solidFill>
                <a:latin typeface="Calibri - 24"/>
              </a:rPr>
              <a:t>˚</a:t>
            </a:r>
            <a:r>
              <a:rPr b="0" lang="en-CA" sz="2300" spc="-1" strike="noStrike">
                <a:solidFill>
                  <a:srgbClr val="0000ff"/>
                </a:solidFill>
                <a:latin typeface="Comic Sans MS - 24"/>
              </a:rPr>
              <a:t>C in the morning and +6</a:t>
            </a:r>
            <a:r>
              <a:rPr b="1" lang="en-CA" sz="2300" spc="-1" strike="noStrike">
                <a:solidFill>
                  <a:srgbClr val="0000ff"/>
                </a:solidFill>
                <a:latin typeface="Calibri - 24"/>
              </a:rPr>
              <a:t>˚</a:t>
            </a:r>
            <a:r>
              <a:rPr b="0" lang="en-CA" sz="2300" spc="-1" strike="noStrike">
                <a:solidFill>
                  <a:srgbClr val="0000ff"/>
                </a:solidFill>
                <a:latin typeface="Comic Sans MS - 24"/>
              </a:rPr>
              <a:t>C in the afternoon.  Determine and explain the difference between these two temperatures.</a:t>
            </a:r>
            <a:endParaRPr b="0" lang="en-US" sz="2300" spc="-1" strike="noStrike">
              <a:solidFill>
                <a:srgbClr val="000000"/>
              </a:solidFill>
              <a:latin typeface="Calibri"/>
            </a:endParaRPr>
          </a:p>
        </p:txBody>
      </p:sp>
      <p:grpSp>
        <p:nvGrpSpPr>
          <p:cNvPr id="798" name="Group 7"/>
          <p:cNvGrpSpPr/>
          <p:nvPr/>
        </p:nvGrpSpPr>
        <p:grpSpPr>
          <a:xfrm>
            <a:off x="606600" y="3305160"/>
            <a:ext cx="618840" cy="527040"/>
            <a:chOff x="606600" y="3305160"/>
            <a:chExt cx="618840" cy="527040"/>
          </a:xfrm>
        </p:grpSpPr>
        <p:sp>
          <p:nvSpPr>
            <p:cNvPr id="799" name="Freeform 3"/>
            <p:cNvSpPr/>
            <p:nvPr/>
          </p:nvSpPr>
          <p:spPr>
            <a:xfrm>
              <a:off x="606600" y="3305160"/>
              <a:ext cx="618840" cy="527040"/>
            </a:xfrm>
            <a:custGeom>
              <a:avLst/>
              <a:gdLst>
                <a:gd name="textAreaLeft" fmla="*/ 0 w 618840"/>
                <a:gd name="textAreaRight" fmla="*/ 619200 w 618840"/>
                <a:gd name="textAreaTop" fmla="*/ 0 h 527040"/>
                <a:gd name="textAreaBottom" fmla="*/ 527400 h 527040"/>
              </a:gdLst>
              <a:ahLst/>
              <a:rect l="textAreaLeft" t="textAreaTop" r="textAreaRight" b="textAreaBottom"/>
              <a:pathLst>
                <a:path w="620396" h="526925">
                  <a:moveTo>
                    <a:pt x="0" y="0"/>
                  </a:moveTo>
                  <a:lnTo>
                    <a:pt x="620395" y="0"/>
                  </a:lnTo>
                  <a:lnTo>
                    <a:pt x="620395" y="526924"/>
                  </a:lnTo>
                  <a:lnTo>
                    <a:pt x="0" y="526924"/>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800" name="Group 6"/>
            <p:cNvGrpSpPr/>
            <p:nvPr/>
          </p:nvGrpSpPr>
          <p:grpSpPr>
            <a:xfrm>
              <a:off x="785520" y="3445560"/>
              <a:ext cx="268560" cy="239040"/>
              <a:chOff x="785520" y="3445560"/>
              <a:chExt cx="268560" cy="239040"/>
            </a:xfrm>
          </p:grpSpPr>
          <p:sp>
            <p:nvSpPr>
              <p:cNvPr id="801" name="Straight Connector 4"/>
              <p:cNvSpPr/>
              <p:nvPr/>
            </p:nvSpPr>
            <p:spPr>
              <a:xfrm>
                <a:off x="785520" y="3572280"/>
                <a:ext cx="268560" cy="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2" name="Straight Connector 5"/>
              <p:cNvSpPr/>
              <p:nvPr/>
            </p:nvSpPr>
            <p:spPr>
              <a:xfrm flipV="1">
                <a:off x="915840" y="3445560"/>
                <a:ext cx="0" cy="23904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803" name="Group 10"/>
          <p:cNvGrpSpPr/>
          <p:nvPr/>
        </p:nvGrpSpPr>
        <p:grpSpPr>
          <a:xfrm>
            <a:off x="608040" y="3965400"/>
            <a:ext cx="619200" cy="527400"/>
            <a:chOff x="608040" y="3965400"/>
            <a:chExt cx="619200" cy="527400"/>
          </a:xfrm>
        </p:grpSpPr>
        <p:sp>
          <p:nvSpPr>
            <p:cNvPr id="804" name="Freeform 8"/>
            <p:cNvSpPr/>
            <p:nvPr/>
          </p:nvSpPr>
          <p:spPr>
            <a:xfrm>
              <a:off x="608040" y="3965400"/>
              <a:ext cx="619200" cy="527400"/>
            </a:xfrm>
            <a:custGeom>
              <a:avLst/>
              <a:gdLst>
                <a:gd name="textAreaLeft" fmla="*/ 0 w 619200"/>
                <a:gd name="textAreaRight" fmla="*/ 619560 w 619200"/>
                <a:gd name="textAreaTop" fmla="*/ 0 h 527400"/>
                <a:gd name="textAreaBottom" fmla="*/ 527760 h 527400"/>
              </a:gdLst>
              <a:ahLst/>
              <a:rect l="textAreaLeft" t="textAreaTop" r="textAreaRight" b="textAreaBottom"/>
              <a:pathLst>
                <a:path w="620268" h="526925">
                  <a:moveTo>
                    <a:pt x="0" y="0"/>
                  </a:moveTo>
                  <a:lnTo>
                    <a:pt x="620267" y="0"/>
                  </a:lnTo>
                  <a:lnTo>
                    <a:pt x="620267" y="526924"/>
                  </a:lnTo>
                  <a:lnTo>
                    <a:pt x="0" y="526924"/>
                  </a:ln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05" name="Straight Connector 9"/>
            <p:cNvSpPr/>
            <p:nvPr/>
          </p:nvSpPr>
          <p:spPr>
            <a:xfrm>
              <a:off x="779040" y="4232520"/>
              <a:ext cx="26892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806" name="Freeform 11"/>
          <p:cNvSpPr/>
          <p:nvPr/>
        </p:nvSpPr>
        <p:spPr>
          <a:xfrm>
            <a:off x="1511280" y="2565360"/>
            <a:ext cx="6527880" cy="2413080"/>
          </a:xfrm>
          <a:custGeom>
            <a:avLst/>
            <a:gdLst>
              <a:gd name="textAreaLeft" fmla="*/ 0 w 6527880"/>
              <a:gd name="textAreaRight" fmla="*/ 6528240 w 6527880"/>
              <a:gd name="textAreaTop" fmla="*/ 0 h 2413080"/>
              <a:gd name="textAreaBottom" fmla="*/ 2413440 h 2413080"/>
            </a:gdLst>
            <a:ahLst/>
            <a:rect l="textAreaLeft" t="textAreaTop" r="textAreaRight" b="textAreaBottom"/>
            <a:pathLst>
              <a:path w="6527801" h="2413001">
                <a:moveTo>
                  <a:pt x="0" y="0"/>
                </a:moveTo>
                <a:lnTo>
                  <a:pt x="6527800" y="0"/>
                </a:lnTo>
                <a:lnTo>
                  <a:pt x="6527800" y="2413000"/>
                </a:lnTo>
                <a:lnTo>
                  <a:pt x="0" y="24130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807" name="Group 16"/>
          <p:cNvGrpSpPr/>
          <p:nvPr/>
        </p:nvGrpSpPr>
        <p:grpSpPr>
          <a:xfrm>
            <a:off x="8454960" y="3254400"/>
            <a:ext cx="619200" cy="527040"/>
            <a:chOff x="8454960" y="3254400"/>
            <a:chExt cx="619200" cy="527040"/>
          </a:xfrm>
        </p:grpSpPr>
        <p:sp>
          <p:nvSpPr>
            <p:cNvPr id="808" name="Freeform 12"/>
            <p:cNvSpPr/>
            <p:nvPr/>
          </p:nvSpPr>
          <p:spPr>
            <a:xfrm>
              <a:off x="8454960" y="3254400"/>
              <a:ext cx="619200" cy="527040"/>
            </a:xfrm>
            <a:custGeom>
              <a:avLst/>
              <a:gdLst>
                <a:gd name="textAreaLeft" fmla="*/ 0 w 619200"/>
                <a:gd name="textAreaRight" fmla="*/ 619560 w 619200"/>
                <a:gd name="textAreaTop" fmla="*/ 0 h 527040"/>
                <a:gd name="textAreaBottom" fmla="*/ 527400 h 527040"/>
              </a:gdLst>
              <a:ahLst/>
              <a:rect l="textAreaLeft" t="textAreaTop" r="textAreaRight" b="textAreaBottom"/>
              <a:pathLst>
                <a:path w="620395" h="526925">
                  <a:moveTo>
                    <a:pt x="0" y="0"/>
                  </a:moveTo>
                  <a:lnTo>
                    <a:pt x="620394" y="0"/>
                  </a:lnTo>
                  <a:lnTo>
                    <a:pt x="620394" y="526924"/>
                  </a:lnTo>
                  <a:lnTo>
                    <a:pt x="0" y="526924"/>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809" name="Group 15"/>
            <p:cNvGrpSpPr/>
            <p:nvPr/>
          </p:nvGrpSpPr>
          <p:grpSpPr>
            <a:xfrm>
              <a:off x="8634240" y="3394800"/>
              <a:ext cx="268920" cy="239040"/>
              <a:chOff x="8634240" y="3394800"/>
              <a:chExt cx="268920" cy="239040"/>
            </a:xfrm>
          </p:grpSpPr>
          <p:sp>
            <p:nvSpPr>
              <p:cNvPr id="810" name="Straight Connector 13"/>
              <p:cNvSpPr/>
              <p:nvPr/>
            </p:nvSpPr>
            <p:spPr>
              <a:xfrm>
                <a:off x="8634240" y="3521520"/>
                <a:ext cx="268920" cy="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1" name="Straight Connector 14"/>
              <p:cNvSpPr/>
              <p:nvPr/>
            </p:nvSpPr>
            <p:spPr>
              <a:xfrm flipV="1">
                <a:off x="8764560" y="3394800"/>
                <a:ext cx="0" cy="23904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812" name="Group 19"/>
          <p:cNvGrpSpPr/>
          <p:nvPr/>
        </p:nvGrpSpPr>
        <p:grpSpPr>
          <a:xfrm>
            <a:off x="8456760" y="3914640"/>
            <a:ext cx="618840" cy="527040"/>
            <a:chOff x="8456760" y="3914640"/>
            <a:chExt cx="618840" cy="527040"/>
          </a:xfrm>
        </p:grpSpPr>
        <p:sp>
          <p:nvSpPr>
            <p:cNvPr id="813" name="Freeform 17"/>
            <p:cNvSpPr/>
            <p:nvPr/>
          </p:nvSpPr>
          <p:spPr>
            <a:xfrm>
              <a:off x="8456760" y="3914640"/>
              <a:ext cx="618840" cy="527040"/>
            </a:xfrm>
            <a:custGeom>
              <a:avLst/>
              <a:gdLst>
                <a:gd name="textAreaLeft" fmla="*/ 0 w 618840"/>
                <a:gd name="textAreaRight" fmla="*/ 619200 w 618840"/>
                <a:gd name="textAreaTop" fmla="*/ 0 h 527040"/>
                <a:gd name="textAreaBottom" fmla="*/ 527400 h 527040"/>
              </a:gdLst>
              <a:ahLst/>
              <a:rect l="textAreaLeft" t="textAreaTop" r="textAreaRight" b="textAreaBottom"/>
              <a:pathLst>
                <a:path w="620268" h="526925">
                  <a:moveTo>
                    <a:pt x="0" y="0"/>
                  </a:moveTo>
                  <a:lnTo>
                    <a:pt x="620267" y="0"/>
                  </a:lnTo>
                  <a:lnTo>
                    <a:pt x="620267" y="526924"/>
                  </a:lnTo>
                  <a:lnTo>
                    <a:pt x="0" y="526924"/>
                  </a:ln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14" name="Straight Connector 18"/>
            <p:cNvSpPr/>
            <p:nvPr/>
          </p:nvSpPr>
          <p:spPr>
            <a:xfrm>
              <a:off x="8627760" y="4181760"/>
              <a:ext cx="26856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815" name="TextBox 20"/>
          <p:cNvSpPr/>
          <p:nvPr/>
        </p:nvSpPr>
        <p:spPr>
          <a:xfrm>
            <a:off x="2273400" y="5029200"/>
            <a:ext cx="497844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Method #1: Higher Minus Lower</a:t>
            </a:r>
            <a:endParaRPr b="0" lang="en-US" sz="2300" spc="-1" strike="noStrike">
              <a:solidFill>
                <a:srgbClr val="000000"/>
              </a:solidFill>
              <a:latin typeface="Calibri"/>
            </a:endParaRPr>
          </a:p>
        </p:txBody>
      </p:sp>
      <p:sp>
        <p:nvSpPr>
          <p:cNvPr id="816" name="TextBox 21"/>
          <p:cNvSpPr/>
          <p:nvPr/>
        </p:nvSpPr>
        <p:spPr>
          <a:xfrm>
            <a:off x="2273400" y="5931000"/>
            <a:ext cx="502920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Method #2: Lower Minus Higher</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TextBox 1"/>
          <p:cNvSpPr/>
          <p:nvPr/>
        </p:nvSpPr>
        <p:spPr>
          <a:xfrm>
            <a:off x="279360" y="165240"/>
            <a:ext cx="703584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omic Sans MS - 36"/>
              </a:rPr>
              <a:t>9.1 - Explore Integer Addition</a:t>
            </a:r>
            <a:endParaRPr b="0" lang="en-US" sz="3500" spc="-1" strike="noStrike">
              <a:solidFill>
                <a:srgbClr val="000000"/>
              </a:solidFill>
              <a:latin typeface="Calibri"/>
            </a:endParaRPr>
          </a:p>
        </p:txBody>
      </p:sp>
      <p:sp>
        <p:nvSpPr>
          <p:cNvPr id="83" name="TextBox 2"/>
          <p:cNvSpPr/>
          <p:nvPr/>
        </p:nvSpPr>
        <p:spPr>
          <a:xfrm>
            <a:off x="1295280" y="977760"/>
            <a:ext cx="5816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ff"/>
                </a:solidFill>
                <a:latin typeface="Comic Sans MS - 24"/>
              </a:rPr>
              <a:t>After this lesson, you will be able to...</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a:t>
            </a:r>
            <a:r>
              <a:rPr b="0" lang="en-CA" sz="2400" spc="-1" strike="noStrike">
                <a:solidFill>
                  <a:srgbClr val="0000ff"/>
                </a:solidFill>
                <a:latin typeface="Comic Sans MS - 24"/>
              </a:rPr>
              <a:t>Add integers using integer chips</a:t>
            </a:r>
            <a:endParaRPr b="0" lang="en-US" sz="2400" spc="-1" strike="noStrike">
              <a:solidFill>
                <a:srgbClr val="000000"/>
              </a:solidFill>
              <a:latin typeface="Calibri"/>
            </a:endParaRPr>
          </a:p>
        </p:txBody>
      </p:sp>
      <p:grpSp>
        <p:nvGrpSpPr>
          <p:cNvPr id="84" name="Group 15"/>
          <p:cNvGrpSpPr/>
          <p:nvPr/>
        </p:nvGrpSpPr>
        <p:grpSpPr>
          <a:xfrm>
            <a:off x="361800" y="1968480"/>
            <a:ext cx="6178680" cy="2279520"/>
            <a:chOff x="361800" y="1968480"/>
            <a:chExt cx="6178680" cy="2279520"/>
          </a:xfrm>
        </p:grpSpPr>
        <p:grpSp>
          <p:nvGrpSpPr>
            <p:cNvPr id="85" name="Group 7"/>
            <p:cNvGrpSpPr/>
            <p:nvPr/>
          </p:nvGrpSpPr>
          <p:grpSpPr>
            <a:xfrm>
              <a:off x="374400" y="2000160"/>
              <a:ext cx="965160" cy="952200"/>
              <a:chOff x="374400" y="2000160"/>
              <a:chExt cx="965160" cy="952200"/>
            </a:xfrm>
          </p:grpSpPr>
          <p:sp>
            <p:nvSpPr>
              <p:cNvPr id="86" name="Freeform 3"/>
              <p:cNvSpPr/>
              <p:nvPr/>
            </p:nvSpPr>
            <p:spPr>
              <a:xfrm>
                <a:off x="374400" y="2000160"/>
                <a:ext cx="965160" cy="952200"/>
              </a:xfrm>
              <a:custGeom>
                <a:avLst/>
                <a:gdLst>
                  <a:gd name="textAreaLeft" fmla="*/ 0 w 965160"/>
                  <a:gd name="textAreaRight" fmla="*/ 965520 w 965160"/>
                  <a:gd name="textAreaTop" fmla="*/ 0 h 952200"/>
                  <a:gd name="textAreaBottom" fmla="*/ 952560 h 952200"/>
                </a:gdLst>
                <a:ahLst/>
                <a:rect l="textAreaLeft" t="textAreaTop" r="textAreaRight" b="textAreaBottom"/>
                <a:pathLst>
                  <a:path w="965201" h="952501">
                    <a:moveTo>
                      <a:pt x="0" y="0"/>
                    </a:moveTo>
                    <a:lnTo>
                      <a:pt x="965200" y="0"/>
                    </a:lnTo>
                    <a:lnTo>
                      <a:pt x="965200" y="952500"/>
                    </a:lnTo>
                    <a:lnTo>
                      <a:pt x="0" y="952500"/>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87" name="Group 6"/>
              <p:cNvGrpSpPr/>
              <p:nvPr/>
            </p:nvGrpSpPr>
            <p:grpSpPr>
              <a:xfrm>
                <a:off x="653760" y="2253600"/>
                <a:ext cx="419040" cy="431640"/>
                <a:chOff x="653760" y="2253600"/>
                <a:chExt cx="419040" cy="431640"/>
              </a:xfrm>
            </p:grpSpPr>
            <p:sp>
              <p:nvSpPr>
                <p:cNvPr id="88" name="Straight Connector 4"/>
                <p:cNvSpPr/>
                <p:nvPr/>
              </p:nvSpPr>
              <p:spPr>
                <a:xfrm>
                  <a:off x="653760" y="2482560"/>
                  <a:ext cx="419040" cy="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Straight Connector 5"/>
                <p:cNvSpPr/>
                <p:nvPr/>
              </p:nvSpPr>
              <p:spPr>
                <a:xfrm flipV="1">
                  <a:off x="856800" y="2253600"/>
                  <a:ext cx="0" cy="43164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90" name="Group 10"/>
            <p:cNvGrpSpPr/>
            <p:nvPr/>
          </p:nvGrpSpPr>
          <p:grpSpPr>
            <a:xfrm>
              <a:off x="361800" y="3256920"/>
              <a:ext cx="965160" cy="952200"/>
              <a:chOff x="361800" y="3256920"/>
              <a:chExt cx="965160" cy="952200"/>
            </a:xfrm>
          </p:grpSpPr>
          <p:sp>
            <p:nvSpPr>
              <p:cNvPr id="91" name="Freeform 8"/>
              <p:cNvSpPr/>
              <p:nvPr/>
            </p:nvSpPr>
            <p:spPr>
              <a:xfrm>
                <a:off x="361800" y="3256920"/>
                <a:ext cx="965160" cy="952200"/>
              </a:xfrm>
              <a:custGeom>
                <a:avLst/>
                <a:gdLst>
                  <a:gd name="textAreaLeft" fmla="*/ 0 w 965160"/>
                  <a:gd name="textAreaRight" fmla="*/ 965520 w 965160"/>
                  <a:gd name="textAreaTop" fmla="*/ 0 h 952200"/>
                  <a:gd name="textAreaBottom" fmla="*/ 952560 h 952200"/>
                </a:gdLst>
                <a:ahLst/>
                <a:rect l="textAreaLeft" t="textAreaTop" r="textAreaRight" b="textAreaBottom"/>
                <a:pathLst>
                  <a:path w="965201" h="952501">
                    <a:moveTo>
                      <a:pt x="0" y="0"/>
                    </a:moveTo>
                    <a:lnTo>
                      <a:pt x="965200" y="0"/>
                    </a:lnTo>
                    <a:lnTo>
                      <a:pt x="965200" y="952500"/>
                    </a:lnTo>
                    <a:lnTo>
                      <a:pt x="0" y="952500"/>
                    </a:ln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2" name="Straight Connector 9"/>
              <p:cNvSpPr/>
              <p:nvPr/>
            </p:nvSpPr>
            <p:spPr>
              <a:xfrm>
                <a:off x="628560" y="3739320"/>
                <a:ext cx="41904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3" name="Oval 11"/>
            <p:cNvSpPr/>
            <p:nvPr/>
          </p:nvSpPr>
          <p:spPr>
            <a:xfrm>
              <a:off x="2539800" y="1968480"/>
              <a:ext cx="1045440" cy="1004040"/>
            </a:xfrm>
            <a:prstGeom prst="ellipse">
              <a:avLst/>
            </a:prstGeom>
            <a:solidFill>
              <a:srgbClr val="ff0000"/>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Oval 12"/>
            <p:cNvSpPr/>
            <p:nvPr/>
          </p:nvSpPr>
          <p:spPr>
            <a:xfrm>
              <a:off x="2539800" y="3225240"/>
              <a:ext cx="1064520" cy="1022760"/>
            </a:xfrm>
            <a:prstGeom prst="ellipse">
              <a:avLst/>
            </a:prstGeom>
            <a:solidFill>
              <a:srgbClr val="0000ff"/>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TextBox 13"/>
            <p:cNvSpPr/>
            <p:nvPr/>
          </p:nvSpPr>
          <p:spPr>
            <a:xfrm>
              <a:off x="1676160" y="2273040"/>
              <a:ext cx="474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and                 mean "positive."</a:t>
              </a:r>
              <a:endParaRPr b="0" lang="en-US" sz="2400" spc="-1" strike="noStrike">
                <a:solidFill>
                  <a:srgbClr val="000000"/>
                </a:solidFill>
                <a:latin typeface="Calibri"/>
              </a:endParaRPr>
            </a:p>
          </p:txBody>
        </p:sp>
        <p:sp>
          <p:nvSpPr>
            <p:cNvPr id="96" name="TextBox 14"/>
            <p:cNvSpPr/>
            <p:nvPr/>
          </p:nvSpPr>
          <p:spPr>
            <a:xfrm>
              <a:off x="1688760" y="3453840"/>
              <a:ext cx="485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and                 mean "negative."</a:t>
              </a:r>
              <a:endParaRPr b="0" lang="en-US" sz="2400" spc="-1" strike="noStrike">
                <a:solidFill>
                  <a:srgbClr val="000000"/>
                </a:solidFill>
                <a:latin typeface="Calibri"/>
              </a:endParaRPr>
            </a:p>
          </p:txBody>
        </p:sp>
      </p:grpSp>
      <p:sp>
        <p:nvSpPr>
          <p:cNvPr id="97" name="TextBox 16"/>
          <p:cNvSpPr/>
          <p:nvPr/>
        </p:nvSpPr>
        <p:spPr>
          <a:xfrm>
            <a:off x="266760" y="4788000"/>
            <a:ext cx="500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 24"/>
              </a:rPr>
              <a:t>our chips</a:t>
            </a:r>
            <a:r>
              <a:rPr b="0" lang="en-US" sz="2400" spc="-1" strike="noStrike">
                <a:solidFill>
                  <a:srgbClr val="0000ff"/>
                </a:solidFill>
                <a:latin typeface="Comic Sans MS - 24"/>
              </a:rPr>
              <a:t>	</a:t>
            </a:r>
            <a:r>
              <a:rPr b="0" lang="en-US" sz="2400" spc="-1" strike="noStrike">
                <a:solidFill>
                  <a:srgbClr val="0000ff"/>
                </a:solidFill>
                <a:latin typeface="Comic Sans MS - 24"/>
              </a:rPr>
              <a:t>	</a:t>
            </a:r>
            <a:r>
              <a:rPr b="0" lang="en-US" sz="2400" spc="-1" strike="noStrike">
                <a:solidFill>
                  <a:srgbClr val="0000ff"/>
                </a:solidFill>
                <a:latin typeface="Comic Sans MS - 24"/>
              </a:rPr>
              <a:t>textbook chips</a:t>
            </a:r>
            <a:endParaRPr b="0" lang="en-US" sz="2400" spc="-1" strike="noStrike">
              <a:solidFill>
                <a:srgbClr val="000000"/>
              </a:solidFill>
              <a:latin typeface="Calibri"/>
            </a:endParaRPr>
          </a:p>
        </p:txBody>
      </p:sp>
      <p:sp>
        <p:nvSpPr>
          <p:cNvPr id="98" name="Straight Connector 17"/>
          <p:cNvSpPr/>
          <p:nvPr/>
        </p:nvSpPr>
        <p:spPr>
          <a:xfrm flipH="1" flipV="1">
            <a:off x="888480" y="4368600"/>
            <a:ext cx="25560" cy="431640"/>
          </a:xfrm>
          <a:prstGeom prst="line">
            <a:avLst/>
          </a:prstGeom>
          <a:ln w="381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Straight Connector 18"/>
          <p:cNvSpPr/>
          <p:nvPr/>
        </p:nvSpPr>
        <p:spPr>
          <a:xfrm flipH="1" flipV="1">
            <a:off x="3250800" y="4381200"/>
            <a:ext cx="152280" cy="444600"/>
          </a:xfrm>
          <a:prstGeom prst="line">
            <a:avLst/>
          </a:prstGeom>
          <a:ln w="381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TextBox 1"/>
          <p:cNvSpPr/>
          <p:nvPr/>
        </p:nvSpPr>
        <p:spPr>
          <a:xfrm>
            <a:off x="304920" y="165240"/>
            <a:ext cx="97027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Comic Sans MS - 48"/>
              </a:rPr>
              <a:t>Assignment:</a:t>
            </a:r>
            <a:endParaRPr b="0" lang="en-US" sz="4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Comic Sans MS - 48"/>
              </a:rPr>
              <a:t>9</a:t>
            </a:r>
            <a:r>
              <a:rPr b="0" lang="en-US" sz="4800" spc="-1" strike="noStrike" u="sng">
                <a:solidFill>
                  <a:srgbClr val="ff0000"/>
                </a:solidFill>
                <a:uFillTx/>
                <a:latin typeface="Comic Sans MS - 48"/>
              </a:rPr>
              <a:t>.3 Explore Integer Subtraction</a:t>
            </a:r>
            <a:endParaRPr b="0" lang="en-US" sz="4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0000"/>
                </a:solidFill>
                <a:uFillTx/>
                <a:latin typeface="Comic Sans MS - 48"/>
              </a:rPr>
              <a:t>·</a:t>
            </a:r>
            <a:r>
              <a:rPr b="0" lang="en-CA" sz="4800" spc="-1" strike="noStrike">
                <a:solidFill>
                  <a:srgbClr val="ff0000"/>
                </a:solidFill>
                <a:latin typeface="Calibri - 48"/>
              </a:rPr>
              <a:t>p. 327, #1-4 (as a class), 5, 7, 9, 11, 13-15, 18</a:t>
            </a:r>
            <a:endParaRPr b="0" lang="en-US" sz="4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 48"/>
              </a:rPr>
              <a:t>·Still Good? #16-17</a:t>
            </a:r>
            <a:endParaRPr b="0" lang="en-US" sz="4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 48"/>
              </a:rPr>
              <a:t>·Pro Star? #19-21</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TextBox 1"/>
          <p:cNvSpPr/>
          <p:nvPr/>
        </p:nvSpPr>
        <p:spPr>
          <a:xfrm>
            <a:off x="241200" y="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 36"/>
              </a:rPr>
              <a:t>9.4 - Subtract Integers</a:t>
            </a:r>
            <a:endParaRPr b="0" lang="en-US" sz="3600" spc="-1" strike="noStrike">
              <a:solidFill>
                <a:srgbClr val="000000"/>
              </a:solidFill>
              <a:latin typeface="Calibri"/>
            </a:endParaRPr>
          </a:p>
        </p:txBody>
      </p:sp>
      <p:sp>
        <p:nvSpPr>
          <p:cNvPr id="819" name="TextBox 2"/>
          <p:cNvSpPr/>
          <p:nvPr/>
        </p:nvSpPr>
        <p:spPr>
          <a:xfrm>
            <a:off x="254160" y="673200"/>
            <a:ext cx="10007280" cy="21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After this lesson, you will be able to...</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use addition to subtract integers (WHAT???)</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You can subtract an integer by adding the opposite.</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You can represent integer subtraction by adding the opposite on a vertical or horizontal number line.</a:t>
            </a:r>
            <a:endParaRPr b="0" lang="en-US" sz="2300" spc="-1" strike="noStrike">
              <a:solidFill>
                <a:srgbClr val="000000"/>
              </a:solidFill>
              <a:latin typeface="Calibri"/>
            </a:endParaRPr>
          </a:p>
        </p:txBody>
      </p:sp>
      <p:grpSp>
        <p:nvGrpSpPr>
          <p:cNvPr id="820" name="Group 31"/>
          <p:cNvGrpSpPr/>
          <p:nvPr/>
        </p:nvGrpSpPr>
        <p:grpSpPr>
          <a:xfrm>
            <a:off x="388800" y="4662360"/>
            <a:ext cx="5683320" cy="608040"/>
            <a:chOff x="388800" y="4662360"/>
            <a:chExt cx="5683320" cy="608040"/>
          </a:xfrm>
        </p:grpSpPr>
        <p:sp>
          <p:nvSpPr>
            <p:cNvPr id="821" name="TextBox 3"/>
            <p:cNvSpPr/>
            <p:nvPr/>
          </p:nvSpPr>
          <p:spPr>
            <a:xfrm>
              <a:off x="2565000" y="490212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1</a:t>
              </a:r>
              <a:endParaRPr b="0" lang="en-US" sz="900" spc="-1" strike="noStrike">
                <a:solidFill>
                  <a:srgbClr val="000000"/>
                </a:solidFill>
                <a:latin typeface="Calibri"/>
              </a:endParaRPr>
            </a:p>
          </p:txBody>
        </p:sp>
        <p:sp>
          <p:nvSpPr>
            <p:cNvPr id="822" name="TextBox 4"/>
            <p:cNvSpPr/>
            <p:nvPr/>
          </p:nvSpPr>
          <p:spPr>
            <a:xfrm>
              <a:off x="3123720" y="4914720"/>
              <a:ext cx="3045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0</a:t>
              </a:r>
              <a:endParaRPr b="0" lang="en-US" sz="900" spc="-1" strike="noStrike">
                <a:solidFill>
                  <a:srgbClr val="000000"/>
                </a:solidFill>
                <a:latin typeface="Calibri"/>
              </a:endParaRPr>
            </a:p>
          </p:txBody>
        </p:sp>
        <p:sp>
          <p:nvSpPr>
            <p:cNvPr id="823" name="TextBox 5"/>
            <p:cNvSpPr/>
            <p:nvPr/>
          </p:nvSpPr>
          <p:spPr>
            <a:xfrm>
              <a:off x="2120400" y="4902120"/>
              <a:ext cx="27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2</a:t>
              </a:r>
              <a:endParaRPr b="0" lang="en-US" sz="900" spc="-1" strike="noStrike">
                <a:solidFill>
                  <a:srgbClr val="000000"/>
                </a:solidFill>
                <a:latin typeface="Calibri"/>
              </a:endParaRPr>
            </a:p>
          </p:txBody>
        </p:sp>
        <p:sp>
          <p:nvSpPr>
            <p:cNvPr id="824" name="TextBox 6"/>
            <p:cNvSpPr/>
            <p:nvPr/>
          </p:nvSpPr>
          <p:spPr>
            <a:xfrm>
              <a:off x="1625040" y="49021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3</a:t>
              </a:r>
              <a:endParaRPr b="0" lang="en-US" sz="1000" spc="-1" strike="noStrike">
                <a:solidFill>
                  <a:srgbClr val="000000"/>
                </a:solidFill>
                <a:latin typeface="Calibri"/>
              </a:endParaRPr>
            </a:p>
          </p:txBody>
        </p:sp>
        <p:sp>
          <p:nvSpPr>
            <p:cNvPr id="825" name="TextBox 7"/>
            <p:cNvSpPr/>
            <p:nvPr/>
          </p:nvSpPr>
          <p:spPr>
            <a:xfrm>
              <a:off x="1154880" y="49021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4</a:t>
              </a:r>
              <a:endParaRPr b="0" lang="en-US" sz="1000" spc="-1" strike="noStrike">
                <a:solidFill>
                  <a:srgbClr val="000000"/>
                </a:solidFill>
                <a:latin typeface="Calibri"/>
              </a:endParaRPr>
            </a:p>
          </p:txBody>
        </p:sp>
        <p:sp>
          <p:nvSpPr>
            <p:cNvPr id="826" name="TextBox 8"/>
            <p:cNvSpPr/>
            <p:nvPr/>
          </p:nvSpPr>
          <p:spPr>
            <a:xfrm>
              <a:off x="710280" y="49021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5</a:t>
              </a:r>
              <a:endParaRPr b="0" lang="en-US" sz="1000" spc="-1" strike="noStrike">
                <a:solidFill>
                  <a:srgbClr val="000000"/>
                </a:solidFill>
                <a:latin typeface="Calibri"/>
              </a:endParaRPr>
            </a:p>
          </p:txBody>
        </p:sp>
        <p:sp>
          <p:nvSpPr>
            <p:cNvPr id="827" name="TextBox 9"/>
            <p:cNvSpPr/>
            <p:nvPr/>
          </p:nvSpPr>
          <p:spPr>
            <a:xfrm>
              <a:off x="3593880" y="490212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1</a:t>
              </a:r>
              <a:endParaRPr b="0" lang="en-US" sz="900" spc="-1" strike="noStrike">
                <a:solidFill>
                  <a:srgbClr val="000000"/>
                </a:solidFill>
                <a:latin typeface="Calibri"/>
              </a:endParaRPr>
            </a:p>
          </p:txBody>
        </p:sp>
        <p:sp>
          <p:nvSpPr>
            <p:cNvPr id="828" name="TextBox 10"/>
            <p:cNvSpPr/>
            <p:nvPr/>
          </p:nvSpPr>
          <p:spPr>
            <a:xfrm>
              <a:off x="4076640" y="4902120"/>
              <a:ext cx="279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2</a:t>
              </a:r>
              <a:endParaRPr b="0" lang="en-US" sz="900" spc="-1" strike="noStrike">
                <a:solidFill>
                  <a:srgbClr val="000000"/>
                </a:solidFill>
                <a:latin typeface="Calibri"/>
              </a:endParaRPr>
            </a:p>
          </p:txBody>
        </p:sp>
        <p:sp>
          <p:nvSpPr>
            <p:cNvPr id="829" name="TextBox 11"/>
            <p:cNvSpPr/>
            <p:nvPr/>
          </p:nvSpPr>
          <p:spPr>
            <a:xfrm>
              <a:off x="4521240" y="49147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3</a:t>
              </a:r>
              <a:endParaRPr b="0" lang="en-US" sz="1000" spc="-1" strike="noStrike">
                <a:solidFill>
                  <a:srgbClr val="000000"/>
                </a:solidFill>
                <a:latin typeface="Calibri"/>
              </a:endParaRPr>
            </a:p>
          </p:txBody>
        </p:sp>
        <p:sp>
          <p:nvSpPr>
            <p:cNvPr id="830" name="TextBox 12"/>
            <p:cNvSpPr/>
            <p:nvPr/>
          </p:nvSpPr>
          <p:spPr>
            <a:xfrm>
              <a:off x="4991040" y="49147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4</a:t>
              </a:r>
              <a:endParaRPr b="0" lang="en-US" sz="1000" spc="-1" strike="noStrike">
                <a:solidFill>
                  <a:srgbClr val="000000"/>
                </a:solidFill>
                <a:latin typeface="Calibri"/>
              </a:endParaRPr>
            </a:p>
          </p:txBody>
        </p:sp>
        <p:sp>
          <p:nvSpPr>
            <p:cNvPr id="831" name="TextBox 13"/>
            <p:cNvSpPr/>
            <p:nvPr/>
          </p:nvSpPr>
          <p:spPr>
            <a:xfrm>
              <a:off x="5461200" y="49021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5</a:t>
              </a:r>
              <a:endParaRPr b="0" lang="en-US" sz="1000" spc="-1" strike="noStrike">
                <a:solidFill>
                  <a:srgbClr val="000000"/>
                </a:solidFill>
                <a:latin typeface="Calibri"/>
              </a:endParaRPr>
            </a:p>
          </p:txBody>
        </p:sp>
        <p:grpSp>
          <p:nvGrpSpPr>
            <p:cNvPr id="832" name="Group 19"/>
            <p:cNvGrpSpPr/>
            <p:nvPr/>
          </p:nvGrpSpPr>
          <p:grpSpPr>
            <a:xfrm>
              <a:off x="388800" y="4662360"/>
              <a:ext cx="5683320" cy="258120"/>
              <a:chOff x="388800" y="4662360"/>
              <a:chExt cx="5683320" cy="258120"/>
            </a:xfrm>
          </p:grpSpPr>
          <p:sp>
            <p:nvSpPr>
              <p:cNvPr id="833" name="Freeform 14"/>
              <p:cNvSpPr/>
              <p:nvPr/>
            </p:nvSpPr>
            <p:spPr>
              <a:xfrm>
                <a:off x="396360" y="4785480"/>
                <a:ext cx="5674320" cy="9720"/>
              </a:xfrm>
              <a:custGeom>
                <a:avLst/>
                <a:gdLst>
                  <a:gd name="textAreaLeft" fmla="*/ 0 w 5674320"/>
                  <a:gd name="textAreaRight" fmla="*/ 5674680 w 5674320"/>
                  <a:gd name="textAreaTop" fmla="*/ 0 h 9720"/>
                  <a:gd name="textAreaBottom" fmla="*/ 10080 h 9720"/>
                </a:gdLst>
                <a:ahLst/>
                <a:rect l="textAreaLeft" t="textAreaTop" r="textAreaRight" b="textAreaBottom"/>
                <a:pathLst>
                  <a:path w="5673471" h="9779">
                    <a:moveTo>
                      <a:pt x="0" y="9778"/>
                    </a:moveTo>
                    <a:lnTo>
                      <a:pt x="0" y="0"/>
                    </a:lnTo>
                    <a:lnTo>
                      <a:pt x="5673470" y="0"/>
                    </a:lnTo>
                    <a:lnTo>
                      <a:pt x="5673470" y="9778"/>
                    </a:lnTo>
                    <a:close/>
                  </a:path>
                </a:pathLst>
              </a:custGeom>
              <a:solidFill>
                <a:srgbClr val="000000"/>
              </a:solidFill>
              <a:ln w="0">
                <a:solidFill>
                  <a:srgbClr val="000000"/>
                </a:solidFill>
              </a:ln>
            </p:spPr>
            <p:style>
              <a:lnRef idx="0"/>
              <a:fillRef idx="0"/>
              <a:effectRef idx="0"/>
              <a:fontRef idx="minor"/>
            </p:style>
            <p:txBody>
              <a:bodyPr lIns="90000" rIns="90000" tIns="-36720" bIns="-36720" anchor="ctr">
                <a:noAutofit/>
              </a:bodyPr>
              <a:p>
                <a:endParaRPr b="0" lang="en-US" sz="1800" spc="-1" strike="noStrike">
                  <a:solidFill>
                    <a:srgbClr val="000000"/>
                  </a:solidFill>
                  <a:latin typeface="Calibri"/>
                </a:endParaRPr>
              </a:p>
            </p:txBody>
          </p:sp>
          <p:sp>
            <p:nvSpPr>
              <p:cNvPr id="834" name="Freeform 15"/>
              <p:cNvSpPr/>
              <p:nvPr/>
            </p:nvSpPr>
            <p:spPr>
              <a:xfrm>
                <a:off x="388800" y="466236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0" h="134747">
                    <a:moveTo>
                      <a:pt x="7874" y="134746"/>
                    </a:moveTo>
                    <a:lnTo>
                      <a:pt x="0" y="127889"/>
                    </a:lnTo>
                    <a:lnTo>
                      <a:pt x="155828" y="0"/>
                    </a:lnTo>
                    <a:lnTo>
                      <a:pt x="163829" y="673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35" name="Freeform 16"/>
              <p:cNvSpPr/>
              <p:nvPr/>
            </p:nvSpPr>
            <p:spPr>
              <a:xfrm>
                <a:off x="390960" y="478512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1" h="134749">
                    <a:moveTo>
                      <a:pt x="0" y="6731"/>
                    </a:moveTo>
                    <a:lnTo>
                      <a:pt x="8000" y="0"/>
                    </a:lnTo>
                    <a:lnTo>
                      <a:pt x="163830" y="127890"/>
                    </a:lnTo>
                    <a:lnTo>
                      <a:pt x="155956" y="13474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36" name="Freeform 17"/>
              <p:cNvSpPr/>
              <p:nvPr/>
            </p:nvSpPr>
            <p:spPr>
              <a:xfrm>
                <a:off x="5908320" y="466272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1" h="134620">
                    <a:moveTo>
                      <a:pt x="163830" y="127888"/>
                    </a:moveTo>
                    <a:lnTo>
                      <a:pt x="155956" y="134619"/>
                    </a:lnTo>
                    <a:lnTo>
                      <a:pt x="0" y="6857"/>
                    </a:lnTo>
                    <a:lnTo>
                      <a:pt x="7874"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37" name="Freeform 18"/>
              <p:cNvSpPr/>
              <p:nvPr/>
            </p:nvSpPr>
            <p:spPr>
              <a:xfrm>
                <a:off x="5906160" y="478548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1" h="134621">
                    <a:moveTo>
                      <a:pt x="155956" y="0"/>
                    </a:moveTo>
                    <a:lnTo>
                      <a:pt x="163830" y="6858"/>
                    </a:lnTo>
                    <a:lnTo>
                      <a:pt x="8002" y="134620"/>
                    </a:lnTo>
                    <a:lnTo>
                      <a:pt x="0" y="12788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838" name="Freeform 20"/>
            <p:cNvSpPr/>
            <p:nvPr/>
          </p:nvSpPr>
          <p:spPr>
            <a:xfrm>
              <a:off x="5565600" y="468648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4" h="195709">
                  <a:moveTo>
                    <a:pt x="0" y="0"/>
                  </a:moveTo>
                  <a:lnTo>
                    <a:pt x="12573" y="0"/>
                  </a:lnTo>
                  <a:lnTo>
                    <a:pt x="12573"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39" name="Freeform 21"/>
            <p:cNvSpPr/>
            <p:nvPr/>
          </p:nvSpPr>
          <p:spPr>
            <a:xfrm>
              <a:off x="5104440" y="468648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446" h="195709">
                  <a:moveTo>
                    <a:pt x="0" y="0"/>
                  </a:moveTo>
                  <a:lnTo>
                    <a:pt x="12445" y="0"/>
                  </a:lnTo>
                  <a:lnTo>
                    <a:pt x="12445"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40" name="Freeform 22"/>
            <p:cNvSpPr/>
            <p:nvPr/>
          </p:nvSpPr>
          <p:spPr>
            <a:xfrm>
              <a:off x="4615200" y="468648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4" h="195709">
                  <a:moveTo>
                    <a:pt x="0" y="0"/>
                  </a:moveTo>
                  <a:lnTo>
                    <a:pt x="12573" y="0"/>
                  </a:lnTo>
                  <a:lnTo>
                    <a:pt x="12573"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41" name="Freeform 23"/>
            <p:cNvSpPr/>
            <p:nvPr/>
          </p:nvSpPr>
          <p:spPr>
            <a:xfrm>
              <a:off x="4153680" y="468648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5" h="195709">
                  <a:moveTo>
                    <a:pt x="0" y="0"/>
                  </a:moveTo>
                  <a:lnTo>
                    <a:pt x="12574" y="0"/>
                  </a:lnTo>
                  <a:lnTo>
                    <a:pt x="12574"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42" name="Freeform 24"/>
            <p:cNvSpPr/>
            <p:nvPr/>
          </p:nvSpPr>
          <p:spPr>
            <a:xfrm>
              <a:off x="3692520" y="468648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448" h="195709">
                  <a:moveTo>
                    <a:pt x="0" y="0"/>
                  </a:moveTo>
                  <a:lnTo>
                    <a:pt x="12447" y="0"/>
                  </a:lnTo>
                  <a:lnTo>
                    <a:pt x="12447"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43" name="Freeform 25"/>
            <p:cNvSpPr/>
            <p:nvPr/>
          </p:nvSpPr>
          <p:spPr>
            <a:xfrm>
              <a:off x="2732400" y="46944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4" h="195834">
                  <a:moveTo>
                    <a:pt x="0" y="0"/>
                  </a:moveTo>
                  <a:lnTo>
                    <a:pt x="12573" y="0"/>
                  </a:lnTo>
                  <a:lnTo>
                    <a:pt x="12573"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44" name="Freeform 26"/>
            <p:cNvSpPr/>
            <p:nvPr/>
          </p:nvSpPr>
          <p:spPr>
            <a:xfrm>
              <a:off x="2271240" y="46944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5" h="195834">
                  <a:moveTo>
                    <a:pt x="0" y="0"/>
                  </a:moveTo>
                  <a:lnTo>
                    <a:pt x="12574" y="0"/>
                  </a:lnTo>
                  <a:lnTo>
                    <a:pt x="12574"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45" name="Freeform 27"/>
            <p:cNvSpPr/>
            <p:nvPr/>
          </p:nvSpPr>
          <p:spPr>
            <a:xfrm>
              <a:off x="1781640" y="46944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5" h="195834">
                  <a:moveTo>
                    <a:pt x="0" y="0"/>
                  </a:moveTo>
                  <a:lnTo>
                    <a:pt x="12574" y="0"/>
                  </a:lnTo>
                  <a:lnTo>
                    <a:pt x="12574"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46" name="Freeform 28"/>
            <p:cNvSpPr/>
            <p:nvPr/>
          </p:nvSpPr>
          <p:spPr>
            <a:xfrm>
              <a:off x="1320480" y="46944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4" h="195834">
                  <a:moveTo>
                    <a:pt x="0" y="0"/>
                  </a:moveTo>
                  <a:lnTo>
                    <a:pt x="12573" y="0"/>
                  </a:lnTo>
                  <a:lnTo>
                    <a:pt x="12573"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47" name="Freeform 29"/>
            <p:cNvSpPr/>
            <p:nvPr/>
          </p:nvSpPr>
          <p:spPr>
            <a:xfrm>
              <a:off x="859320" y="46944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3" h="195834">
                  <a:moveTo>
                    <a:pt x="0" y="0"/>
                  </a:moveTo>
                  <a:lnTo>
                    <a:pt x="12572" y="0"/>
                  </a:lnTo>
                  <a:lnTo>
                    <a:pt x="12572"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48" name="Freeform 30"/>
            <p:cNvSpPr/>
            <p:nvPr/>
          </p:nvSpPr>
          <p:spPr>
            <a:xfrm>
              <a:off x="3212640" y="468648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448" h="195709">
                  <a:moveTo>
                    <a:pt x="0" y="0"/>
                  </a:moveTo>
                  <a:lnTo>
                    <a:pt x="12447" y="0"/>
                  </a:lnTo>
                  <a:lnTo>
                    <a:pt x="12447"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849" name="Group 60"/>
          <p:cNvGrpSpPr/>
          <p:nvPr/>
        </p:nvGrpSpPr>
        <p:grpSpPr>
          <a:xfrm>
            <a:off x="363600" y="6249960"/>
            <a:ext cx="5683320" cy="607680"/>
            <a:chOff x="363600" y="6249960"/>
            <a:chExt cx="5683320" cy="607680"/>
          </a:xfrm>
        </p:grpSpPr>
        <p:sp>
          <p:nvSpPr>
            <p:cNvPr id="850" name="TextBox 32"/>
            <p:cNvSpPr/>
            <p:nvPr/>
          </p:nvSpPr>
          <p:spPr>
            <a:xfrm>
              <a:off x="2539800" y="648936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1</a:t>
              </a:r>
              <a:endParaRPr b="0" lang="en-US" sz="900" spc="-1" strike="noStrike">
                <a:solidFill>
                  <a:srgbClr val="000000"/>
                </a:solidFill>
                <a:latin typeface="Calibri"/>
              </a:endParaRPr>
            </a:p>
          </p:txBody>
        </p:sp>
        <p:sp>
          <p:nvSpPr>
            <p:cNvPr id="851" name="TextBox 33"/>
            <p:cNvSpPr/>
            <p:nvPr/>
          </p:nvSpPr>
          <p:spPr>
            <a:xfrm>
              <a:off x="3098520" y="6502320"/>
              <a:ext cx="3045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0</a:t>
              </a:r>
              <a:endParaRPr b="0" lang="en-US" sz="900" spc="-1" strike="noStrike">
                <a:solidFill>
                  <a:srgbClr val="000000"/>
                </a:solidFill>
                <a:latin typeface="Calibri"/>
              </a:endParaRPr>
            </a:p>
          </p:txBody>
        </p:sp>
        <p:sp>
          <p:nvSpPr>
            <p:cNvPr id="852" name="TextBox 34"/>
            <p:cNvSpPr/>
            <p:nvPr/>
          </p:nvSpPr>
          <p:spPr>
            <a:xfrm>
              <a:off x="2095200" y="6489360"/>
              <a:ext cx="27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2</a:t>
              </a:r>
              <a:endParaRPr b="0" lang="en-US" sz="900" spc="-1" strike="noStrike">
                <a:solidFill>
                  <a:srgbClr val="000000"/>
                </a:solidFill>
                <a:latin typeface="Calibri"/>
              </a:endParaRPr>
            </a:p>
          </p:txBody>
        </p:sp>
        <p:sp>
          <p:nvSpPr>
            <p:cNvPr id="853" name="TextBox 35"/>
            <p:cNvSpPr/>
            <p:nvPr/>
          </p:nvSpPr>
          <p:spPr>
            <a:xfrm>
              <a:off x="1599840" y="648936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3</a:t>
              </a:r>
              <a:endParaRPr b="0" lang="en-US" sz="1000" spc="-1" strike="noStrike">
                <a:solidFill>
                  <a:srgbClr val="000000"/>
                </a:solidFill>
                <a:latin typeface="Calibri"/>
              </a:endParaRPr>
            </a:p>
          </p:txBody>
        </p:sp>
        <p:sp>
          <p:nvSpPr>
            <p:cNvPr id="854" name="TextBox 36"/>
            <p:cNvSpPr/>
            <p:nvPr/>
          </p:nvSpPr>
          <p:spPr>
            <a:xfrm>
              <a:off x="1129680" y="648936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4</a:t>
              </a:r>
              <a:endParaRPr b="0" lang="en-US" sz="1000" spc="-1" strike="noStrike">
                <a:solidFill>
                  <a:srgbClr val="000000"/>
                </a:solidFill>
                <a:latin typeface="Calibri"/>
              </a:endParaRPr>
            </a:p>
          </p:txBody>
        </p:sp>
        <p:sp>
          <p:nvSpPr>
            <p:cNvPr id="855" name="TextBox 37"/>
            <p:cNvSpPr/>
            <p:nvPr/>
          </p:nvSpPr>
          <p:spPr>
            <a:xfrm>
              <a:off x="685080" y="648936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5</a:t>
              </a:r>
              <a:endParaRPr b="0" lang="en-US" sz="1000" spc="-1" strike="noStrike">
                <a:solidFill>
                  <a:srgbClr val="000000"/>
                </a:solidFill>
                <a:latin typeface="Calibri"/>
              </a:endParaRPr>
            </a:p>
          </p:txBody>
        </p:sp>
        <p:sp>
          <p:nvSpPr>
            <p:cNvPr id="856" name="TextBox 38"/>
            <p:cNvSpPr/>
            <p:nvPr/>
          </p:nvSpPr>
          <p:spPr>
            <a:xfrm>
              <a:off x="3568680" y="648936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1</a:t>
              </a:r>
              <a:endParaRPr b="0" lang="en-US" sz="900" spc="-1" strike="noStrike">
                <a:solidFill>
                  <a:srgbClr val="000000"/>
                </a:solidFill>
                <a:latin typeface="Calibri"/>
              </a:endParaRPr>
            </a:p>
          </p:txBody>
        </p:sp>
        <p:sp>
          <p:nvSpPr>
            <p:cNvPr id="857" name="TextBox 39"/>
            <p:cNvSpPr/>
            <p:nvPr/>
          </p:nvSpPr>
          <p:spPr>
            <a:xfrm>
              <a:off x="4051440" y="6489360"/>
              <a:ext cx="279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2</a:t>
              </a:r>
              <a:endParaRPr b="0" lang="en-US" sz="900" spc="-1" strike="noStrike">
                <a:solidFill>
                  <a:srgbClr val="000000"/>
                </a:solidFill>
                <a:latin typeface="Calibri"/>
              </a:endParaRPr>
            </a:p>
          </p:txBody>
        </p:sp>
        <p:sp>
          <p:nvSpPr>
            <p:cNvPr id="858" name="TextBox 40"/>
            <p:cNvSpPr/>
            <p:nvPr/>
          </p:nvSpPr>
          <p:spPr>
            <a:xfrm>
              <a:off x="4496040" y="65023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3</a:t>
              </a:r>
              <a:endParaRPr b="0" lang="en-US" sz="1000" spc="-1" strike="noStrike">
                <a:solidFill>
                  <a:srgbClr val="000000"/>
                </a:solidFill>
                <a:latin typeface="Calibri"/>
              </a:endParaRPr>
            </a:p>
          </p:txBody>
        </p:sp>
        <p:sp>
          <p:nvSpPr>
            <p:cNvPr id="859" name="TextBox 41"/>
            <p:cNvSpPr/>
            <p:nvPr/>
          </p:nvSpPr>
          <p:spPr>
            <a:xfrm>
              <a:off x="4965840" y="65023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4</a:t>
              </a:r>
              <a:endParaRPr b="0" lang="en-US" sz="1000" spc="-1" strike="noStrike">
                <a:solidFill>
                  <a:srgbClr val="000000"/>
                </a:solidFill>
                <a:latin typeface="Calibri"/>
              </a:endParaRPr>
            </a:p>
          </p:txBody>
        </p:sp>
        <p:sp>
          <p:nvSpPr>
            <p:cNvPr id="860" name="TextBox 42"/>
            <p:cNvSpPr/>
            <p:nvPr/>
          </p:nvSpPr>
          <p:spPr>
            <a:xfrm>
              <a:off x="5436000" y="648936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5</a:t>
              </a:r>
              <a:endParaRPr b="0" lang="en-US" sz="1000" spc="-1" strike="noStrike">
                <a:solidFill>
                  <a:srgbClr val="000000"/>
                </a:solidFill>
                <a:latin typeface="Calibri"/>
              </a:endParaRPr>
            </a:p>
          </p:txBody>
        </p:sp>
        <p:grpSp>
          <p:nvGrpSpPr>
            <p:cNvPr id="861" name="Group 48"/>
            <p:cNvGrpSpPr/>
            <p:nvPr/>
          </p:nvGrpSpPr>
          <p:grpSpPr>
            <a:xfrm>
              <a:off x="363600" y="6249960"/>
              <a:ext cx="5683320" cy="258120"/>
              <a:chOff x="363600" y="6249960"/>
              <a:chExt cx="5683320" cy="258120"/>
            </a:xfrm>
          </p:grpSpPr>
          <p:sp>
            <p:nvSpPr>
              <p:cNvPr id="862" name="Freeform 43"/>
              <p:cNvSpPr/>
              <p:nvPr/>
            </p:nvSpPr>
            <p:spPr>
              <a:xfrm>
                <a:off x="371160" y="6373080"/>
                <a:ext cx="5674320" cy="9720"/>
              </a:xfrm>
              <a:custGeom>
                <a:avLst/>
                <a:gdLst>
                  <a:gd name="textAreaLeft" fmla="*/ 0 w 5674320"/>
                  <a:gd name="textAreaRight" fmla="*/ 5674680 w 5674320"/>
                  <a:gd name="textAreaTop" fmla="*/ 0 h 9720"/>
                  <a:gd name="textAreaBottom" fmla="*/ 10080 h 9720"/>
                </a:gdLst>
                <a:ahLst/>
                <a:rect l="textAreaLeft" t="textAreaTop" r="textAreaRight" b="textAreaBottom"/>
                <a:pathLst>
                  <a:path w="5673471" h="9779">
                    <a:moveTo>
                      <a:pt x="0" y="9778"/>
                    </a:moveTo>
                    <a:lnTo>
                      <a:pt x="0" y="0"/>
                    </a:lnTo>
                    <a:lnTo>
                      <a:pt x="5673470" y="0"/>
                    </a:lnTo>
                    <a:lnTo>
                      <a:pt x="5673470" y="9778"/>
                    </a:lnTo>
                    <a:close/>
                  </a:path>
                </a:pathLst>
              </a:custGeom>
              <a:solidFill>
                <a:srgbClr val="000000"/>
              </a:solidFill>
              <a:ln w="0">
                <a:solidFill>
                  <a:srgbClr val="000000"/>
                </a:solidFill>
              </a:ln>
            </p:spPr>
            <p:style>
              <a:lnRef idx="0"/>
              <a:fillRef idx="0"/>
              <a:effectRef idx="0"/>
              <a:fontRef idx="minor"/>
            </p:style>
            <p:txBody>
              <a:bodyPr lIns="90000" rIns="90000" tIns="-36720" bIns="-36720" anchor="ctr">
                <a:noAutofit/>
              </a:bodyPr>
              <a:p>
                <a:endParaRPr b="0" lang="en-US" sz="1800" spc="-1" strike="noStrike">
                  <a:solidFill>
                    <a:srgbClr val="000000"/>
                  </a:solidFill>
                  <a:latin typeface="Calibri"/>
                </a:endParaRPr>
              </a:p>
            </p:txBody>
          </p:sp>
          <p:sp>
            <p:nvSpPr>
              <p:cNvPr id="863" name="Freeform 44"/>
              <p:cNvSpPr/>
              <p:nvPr/>
            </p:nvSpPr>
            <p:spPr>
              <a:xfrm>
                <a:off x="363600" y="624996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0" h="134747">
                    <a:moveTo>
                      <a:pt x="7874" y="134746"/>
                    </a:moveTo>
                    <a:lnTo>
                      <a:pt x="0" y="127889"/>
                    </a:lnTo>
                    <a:lnTo>
                      <a:pt x="155828" y="0"/>
                    </a:lnTo>
                    <a:lnTo>
                      <a:pt x="163829" y="673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64" name="Freeform 45"/>
              <p:cNvSpPr/>
              <p:nvPr/>
            </p:nvSpPr>
            <p:spPr>
              <a:xfrm>
                <a:off x="365760" y="637272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1" h="134748">
                    <a:moveTo>
                      <a:pt x="0" y="6731"/>
                    </a:moveTo>
                    <a:lnTo>
                      <a:pt x="8000" y="0"/>
                    </a:lnTo>
                    <a:lnTo>
                      <a:pt x="163830" y="127890"/>
                    </a:lnTo>
                    <a:lnTo>
                      <a:pt x="155956" y="13474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65" name="Freeform 46"/>
              <p:cNvSpPr/>
              <p:nvPr/>
            </p:nvSpPr>
            <p:spPr>
              <a:xfrm>
                <a:off x="5883120" y="625032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1" h="134620">
                    <a:moveTo>
                      <a:pt x="163830" y="127888"/>
                    </a:moveTo>
                    <a:lnTo>
                      <a:pt x="155956" y="134619"/>
                    </a:lnTo>
                    <a:lnTo>
                      <a:pt x="0" y="6857"/>
                    </a:lnTo>
                    <a:lnTo>
                      <a:pt x="7874"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66" name="Freeform 47"/>
              <p:cNvSpPr/>
              <p:nvPr/>
            </p:nvSpPr>
            <p:spPr>
              <a:xfrm>
                <a:off x="5880960" y="637308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1" h="134621">
                    <a:moveTo>
                      <a:pt x="155956" y="0"/>
                    </a:moveTo>
                    <a:lnTo>
                      <a:pt x="163830" y="6858"/>
                    </a:lnTo>
                    <a:lnTo>
                      <a:pt x="8002" y="134620"/>
                    </a:lnTo>
                    <a:lnTo>
                      <a:pt x="0" y="12788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867" name="Freeform 49"/>
            <p:cNvSpPr/>
            <p:nvPr/>
          </p:nvSpPr>
          <p:spPr>
            <a:xfrm>
              <a:off x="5540400" y="6274080"/>
              <a:ext cx="12240" cy="195840"/>
            </a:xfrm>
            <a:custGeom>
              <a:avLst/>
              <a:gdLst>
                <a:gd name="textAreaLeft" fmla="*/ 0 w 12240"/>
                <a:gd name="textAreaRight" fmla="*/ 12600 w 12240"/>
                <a:gd name="textAreaTop" fmla="*/ 0 h 195840"/>
                <a:gd name="textAreaBottom" fmla="*/ 196200 h 195840"/>
              </a:gdLst>
              <a:ahLst/>
              <a:rect l="textAreaLeft" t="textAreaTop" r="textAreaRight" b="textAreaBottom"/>
              <a:pathLst>
                <a:path w="12574" h="195709">
                  <a:moveTo>
                    <a:pt x="0" y="0"/>
                  </a:moveTo>
                  <a:lnTo>
                    <a:pt x="12573" y="0"/>
                  </a:lnTo>
                  <a:lnTo>
                    <a:pt x="12573"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68" name="Freeform 50"/>
            <p:cNvSpPr/>
            <p:nvPr/>
          </p:nvSpPr>
          <p:spPr>
            <a:xfrm>
              <a:off x="5079240" y="6274080"/>
              <a:ext cx="12240" cy="195840"/>
            </a:xfrm>
            <a:custGeom>
              <a:avLst/>
              <a:gdLst>
                <a:gd name="textAreaLeft" fmla="*/ 0 w 12240"/>
                <a:gd name="textAreaRight" fmla="*/ 12600 w 12240"/>
                <a:gd name="textAreaTop" fmla="*/ 0 h 195840"/>
                <a:gd name="textAreaBottom" fmla="*/ 196200 h 195840"/>
              </a:gdLst>
              <a:ahLst/>
              <a:rect l="textAreaLeft" t="textAreaTop" r="textAreaRight" b="textAreaBottom"/>
              <a:pathLst>
                <a:path w="12446" h="195709">
                  <a:moveTo>
                    <a:pt x="0" y="0"/>
                  </a:moveTo>
                  <a:lnTo>
                    <a:pt x="12445" y="0"/>
                  </a:lnTo>
                  <a:lnTo>
                    <a:pt x="12445"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69" name="Freeform 51"/>
            <p:cNvSpPr/>
            <p:nvPr/>
          </p:nvSpPr>
          <p:spPr>
            <a:xfrm>
              <a:off x="4590000" y="6274080"/>
              <a:ext cx="12240" cy="195840"/>
            </a:xfrm>
            <a:custGeom>
              <a:avLst/>
              <a:gdLst>
                <a:gd name="textAreaLeft" fmla="*/ 0 w 12240"/>
                <a:gd name="textAreaRight" fmla="*/ 12600 w 12240"/>
                <a:gd name="textAreaTop" fmla="*/ 0 h 195840"/>
                <a:gd name="textAreaBottom" fmla="*/ 196200 h 195840"/>
              </a:gdLst>
              <a:ahLst/>
              <a:rect l="textAreaLeft" t="textAreaTop" r="textAreaRight" b="textAreaBottom"/>
              <a:pathLst>
                <a:path w="12574" h="195709">
                  <a:moveTo>
                    <a:pt x="0" y="0"/>
                  </a:moveTo>
                  <a:lnTo>
                    <a:pt x="12573" y="0"/>
                  </a:lnTo>
                  <a:lnTo>
                    <a:pt x="12573"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0" name="Freeform 52"/>
            <p:cNvSpPr/>
            <p:nvPr/>
          </p:nvSpPr>
          <p:spPr>
            <a:xfrm>
              <a:off x="4128480" y="6274080"/>
              <a:ext cx="12240" cy="195840"/>
            </a:xfrm>
            <a:custGeom>
              <a:avLst/>
              <a:gdLst>
                <a:gd name="textAreaLeft" fmla="*/ 0 w 12240"/>
                <a:gd name="textAreaRight" fmla="*/ 12600 w 12240"/>
                <a:gd name="textAreaTop" fmla="*/ 0 h 195840"/>
                <a:gd name="textAreaBottom" fmla="*/ 196200 h 195840"/>
              </a:gdLst>
              <a:ahLst/>
              <a:rect l="textAreaLeft" t="textAreaTop" r="textAreaRight" b="textAreaBottom"/>
              <a:pathLst>
                <a:path w="12575" h="195709">
                  <a:moveTo>
                    <a:pt x="0" y="0"/>
                  </a:moveTo>
                  <a:lnTo>
                    <a:pt x="12574" y="0"/>
                  </a:lnTo>
                  <a:lnTo>
                    <a:pt x="12574"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1" name="Freeform 53"/>
            <p:cNvSpPr/>
            <p:nvPr/>
          </p:nvSpPr>
          <p:spPr>
            <a:xfrm>
              <a:off x="3667320" y="6274080"/>
              <a:ext cx="12240" cy="195840"/>
            </a:xfrm>
            <a:custGeom>
              <a:avLst/>
              <a:gdLst>
                <a:gd name="textAreaLeft" fmla="*/ 0 w 12240"/>
                <a:gd name="textAreaRight" fmla="*/ 12600 w 12240"/>
                <a:gd name="textAreaTop" fmla="*/ 0 h 195840"/>
                <a:gd name="textAreaBottom" fmla="*/ 196200 h 195840"/>
              </a:gdLst>
              <a:ahLst/>
              <a:rect l="textAreaLeft" t="textAreaTop" r="textAreaRight" b="textAreaBottom"/>
              <a:pathLst>
                <a:path w="12448" h="195709">
                  <a:moveTo>
                    <a:pt x="0" y="0"/>
                  </a:moveTo>
                  <a:lnTo>
                    <a:pt x="12447" y="0"/>
                  </a:lnTo>
                  <a:lnTo>
                    <a:pt x="12447"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2" name="Freeform 54"/>
            <p:cNvSpPr/>
            <p:nvPr/>
          </p:nvSpPr>
          <p:spPr>
            <a:xfrm>
              <a:off x="2707200" y="62820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4" h="195834">
                  <a:moveTo>
                    <a:pt x="0" y="0"/>
                  </a:moveTo>
                  <a:lnTo>
                    <a:pt x="12573" y="0"/>
                  </a:lnTo>
                  <a:lnTo>
                    <a:pt x="12573"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3" name="Freeform 55"/>
            <p:cNvSpPr/>
            <p:nvPr/>
          </p:nvSpPr>
          <p:spPr>
            <a:xfrm>
              <a:off x="2246040" y="62820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5" h="195834">
                  <a:moveTo>
                    <a:pt x="0" y="0"/>
                  </a:moveTo>
                  <a:lnTo>
                    <a:pt x="12574" y="0"/>
                  </a:lnTo>
                  <a:lnTo>
                    <a:pt x="12574"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4" name="Freeform 56"/>
            <p:cNvSpPr/>
            <p:nvPr/>
          </p:nvSpPr>
          <p:spPr>
            <a:xfrm>
              <a:off x="1756440" y="62820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5" h="195834">
                  <a:moveTo>
                    <a:pt x="0" y="0"/>
                  </a:moveTo>
                  <a:lnTo>
                    <a:pt x="12574" y="0"/>
                  </a:lnTo>
                  <a:lnTo>
                    <a:pt x="12574"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5" name="Freeform 57"/>
            <p:cNvSpPr/>
            <p:nvPr/>
          </p:nvSpPr>
          <p:spPr>
            <a:xfrm>
              <a:off x="1295280" y="62820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4" h="195834">
                  <a:moveTo>
                    <a:pt x="0" y="0"/>
                  </a:moveTo>
                  <a:lnTo>
                    <a:pt x="12573" y="0"/>
                  </a:lnTo>
                  <a:lnTo>
                    <a:pt x="12573"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6" name="Freeform 58"/>
            <p:cNvSpPr/>
            <p:nvPr/>
          </p:nvSpPr>
          <p:spPr>
            <a:xfrm>
              <a:off x="834120" y="62820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3" h="195834">
                  <a:moveTo>
                    <a:pt x="0" y="0"/>
                  </a:moveTo>
                  <a:lnTo>
                    <a:pt x="12572" y="0"/>
                  </a:lnTo>
                  <a:lnTo>
                    <a:pt x="12572"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7" name="Freeform 59"/>
            <p:cNvSpPr/>
            <p:nvPr/>
          </p:nvSpPr>
          <p:spPr>
            <a:xfrm>
              <a:off x="3187440" y="6274080"/>
              <a:ext cx="12240" cy="195840"/>
            </a:xfrm>
            <a:custGeom>
              <a:avLst/>
              <a:gdLst>
                <a:gd name="textAreaLeft" fmla="*/ 0 w 12240"/>
                <a:gd name="textAreaRight" fmla="*/ 12600 w 12240"/>
                <a:gd name="textAreaTop" fmla="*/ 0 h 195840"/>
                <a:gd name="textAreaBottom" fmla="*/ 196200 h 195840"/>
              </a:gdLst>
              <a:ahLst/>
              <a:rect l="textAreaLeft" t="textAreaTop" r="textAreaRight" b="textAreaBottom"/>
              <a:pathLst>
                <a:path w="12448" h="195709">
                  <a:moveTo>
                    <a:pt x="0" y="0"/>
                  </a:moveTo>
                  <a:lnTo>
                    <a:pt x="12447" y="0"/>
                  </a:lnTo>
                  <a:lnTo>
                    <a:pt x="12447"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878" name="Straight Connector 61"/>
          <p:cNvSpPr/>
          <p:nvPr/>
        </p:nvSpPr>
        <p:spPr>
          <a:xfrm>
            <a:off x="3200400" y="4419720"/>
            <a:ext cx="1371600" cy="0"/>
          </a:xfrm>
          <a:prstGeom prst="line">
            <a:avLst/>
          </a:prstGeom>
          <a:ln w="3816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9" name="Straight Connector 62"/>
          <p:cNvSpPr/>
          <p:nvPr/>
        </p:nvSpPr>
        <p:spPr>
          <a:xfrm flipH="1">
            <a:off x="863640" y="6070680"/>
            <a:ext cx="2311200" cy="0"/>
          </a:xfrm>
          <a:prstGeom prst="line">
            <a:avLst/>
          </a:prstGeom>
          <a:ln w="3816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0" name="TextBox 63"/>
          <p:cNvSpPr/>
          <p:nvPr/>
        </p:nvSpPr>
        <p:spPr>
          <a:xfrm>
            <a:off x="3632040" y="4152960"/>
            <a:ext cx="55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 16"/>
              </a:rPr>
              <a:t>+3</a:t>
            </a:r>
            <a:endParaRPr b="0" lang="en-US" sz="1600" spc="-1" strike="noStrike">
              <a:solidFill>
                <a:srgbClr val="000000"/>
              </a:solidFill>
              <a:latin typeface="Calibri"/>
            </a:endParaRPr>
          </a:p>
        </p:txBody>
      </p:sp>
      <p:sp>
        <p:nvSpPr>
          <p:cNvPr id="881" name="TextBox 64"/>
          <p:cNvSpPr/>
          <p:nvPr/>
        </p:nvSpPr>
        <p:spPr>
          <a:xfrm>
            <a:off x="1765440" y="576576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mic Sans MS - 16"/>
              </a:rPr>
              <a:t>-5</a:t>
            </a:r>
            <a:endParaRPr b="0" lang="en-US" sz="1500" spc="-1" strike="noStrike">
              <a:solidFill>
                <a:srgbClr val="000000"/>
              </a:solidFill>
              <a:latin typeface="Calibri"/>
            </a:endParaRPr>
          </a:p>
        </p:txBody>
      </p:sp>
      <p:grpSp>
        <p:nvGrpSpPr>
          <p:cNvPr id="882" name="Group 93"/>
          <p:cNvGrpSpPr/>
          <p:nvPr/>
        </p:nvGrpSpPr>
        <p:grpSpPr>
          <a:xfrm>
            <a:off x="7094520" y="3649680"/>
            <a:ext cx="405720" cy="3944880"/>
            <a:chOff x="7094520" y="3649680"/>
            <a:chExt cx="405720" cy="3944880"/>
          </a:xfrm>
        </p:grpSpPr>
        <p:sp>
          <p:nvSpPr>
            <p:cNvPr id="883" name="TextBox 65"/>
            <p:cNvSpPr/>
            <p:nvPr/>
          </p:nvSpPr>
          <p:spPr>
            <a:xfrm rot="16200000">
              <a:off x="7176240" y="5866560"/>
              <a:ext cx="2793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1</a:t>
              </a:r>
              <a:endParaRPr b="0" lang="en-US" sz="600" spc="-1" strike="noStrike">
                <a:solidFill>
                  <a:srgbClr val="000000"/>
                </a:solidFill>
                <a:latin typeface="Calibri"/>
              </a:endParaRPr>
            </a:p>
          </p:txBody>
        </p:sp>
        <p:sp>
          <p:nvSpPr>
            <p:cNvPr id="884" name="TextBox 66"/>
            <p:cNvSpPr/>
            <p:nvPr/>
          </p:nvSpPr>
          <p:spPr>
            <a:xfrm rot="16200000">
              <a:off x="7189200" y="5498640"/>
              <a:ext cx="25380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0</a:t>
              </a:r>
              <a:endParaRPr b="0" lang="en-US" sz="600" spc="-1" strike="noStrike">
                <a:solidFill>
                  <a:srgbClr val="000000"/>
                </a:solidFill>
                <a:latin typeface="Calibri"/>
              </a:endParaRPr>
            </a:p>
          </p:txBody>
        </p:sp>
        <p:sp>
          <p:nvSpPr>
            <p:cNvPr id="885" name="TextBox 67"/>
            <p:cNvSpPr/>
            <p:nvPr/>
          </p:nvSpPr>
          <p:spPr>
            <a:xfrm rot="16200000">
              <a:off x="7247520" y="6150960"/>
              <a:ext cx="22824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2</a:t>
              </a:r>
              <a:endParaRPr b="0" lang="en-US" sz="600" spc="-1" strike="noStrike">
                <a:solidFill>
                  <a:srgbClr val="000000"/>
                </a:solidFill>
                <a:latin typeface="Calibri"/>
              </a:endParaRPr>
            </a:p>
          </p:txBody>
        </p:sp>
        <p:sp>
          <p:nvSpPr>
            <p:cNvPr id="886" name="TextBox 68"/>
            <p:cNvSpPr/>
            <p:nvPr/>
          </p:nvSpPr>
          <p:spPr>
            <a:xfrm rot="16200000">
              <a:off x="7166520" y="651132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3</a:t>
              </a:r>
              <a:endParaRPr b="0" lang="en-US" sz="700" spc="-1" strike="noStrike">
                <a:solidFill>
                  <a:srgbClr val="000000"/>
                </a:solidFill>
                <a:latin typeface="Calibri"/>
              </a:endParaRPr>
            </a:p>
          </p:txBody>
        </p:sp>
        <p:sp>
          <p:nvSpPr>
            <p:cNvPr id="887" name="TextBox 69"/>
            <p:cNvSpPr/>
            <p:nvPr/>
          </p:nvSpPr>
          <p:spPr>
            <a:xfrm rot="16200000">
              <a:off x="7166520" y="682848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4</a:t>
              </a:r>
              <a:endParaRPr b="0" lang="en-US" sz="700" spc="-1" strike="noStrike">
                <a:solidFill>
                  <a:srgbClr val="000000"/>
                </a:solidFill>
                <a:latin typeface="Calibri"/>
              </a:endParaRPr>
            </a:p>
          </p:txBody>
        </p:sp>
        <p:sp>
          <p:nvSpPr>
            <p:cNvPr id="888" name="TextBox 70"/>
            <p:cNvSpPr/>
            <p:nvPr/>
          </p:nvSpPr>
          <p:spPr>
            <a:xfrm rot="16200000">
              <a:off x="7166520" y="714600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5</a:t>
              </a:r>
              <a:endParaRPr b="0" lang="en-US" sz="700" spc="-1" strike="noStrike">
                <a:solidFill>
                  <a:srgbClr val="000000"/>
                </a:solidFill>
                <a:latin typeface="Calibri"/>
              </a:endParaRPr>
            </a:p>
          </p:txBody>
        </p:sp>
        <p:sp>
          <p:nvSpPr>
            <p:cNvPr id="889" name="TextBox 71"/>
            <p:cNvSpPr/>
            <p:nvPr/>
          </p:nvSpPr>
          <p:spPr>
            <a:xfrm rot="16200000">
              <a:off x="7176240" y="5142600"/>
              <a:ext cx="2793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1</a:t>
              </a:r>
              <a:endParaRPr b="0" lang="en-US" sz="600" spc="-1" strike="noStrike">
                <a:solidFill>
                  <a:srgbClr val="000000"/>
                </a:solidFill>
                <a:latin typeface="Calibri"/>
              </a:endParaRPr>
            </a:p>
          </p:txBody>
        </p:sp>
        <p:sp>
          <p:nvSpPr>
            <p:cNvPr id="890" name="TextBox 72"/>
            <p:cNvSpPr/>
            <p:nvPr/>
          </p:nvSpPr>
          <p:spPr>
            <a:xfrm rot="16200000">
              <a:off x="7201800" y="4838040"/>
              <a:ext cx="2282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2</a:t>
              </a:r>
              <a:endParaRPr b="0" lang="en-US" sz="600" spc="-1" strike="noStrike">
                <a:solidFill>
                  <a:srgbClr val="000000"/>
                </a:solidFill>
                <a:latin typeface="Calibri"/>
              </a:endParaRPr>
            </a:p>
          </p:txBody>
        </p:sp>
        <p:sp>
          <p:nvSpPr>
            <p:cNvPr id="891" name="TextBox 73"/>
            <p:cNvSpPr/>
            <p:nvPr/>
          </p:nvSpPr>
          <p:spPr>
            <a:xfrm rot="16200000">
              <a:off x="7179480" y="449208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3</a:t>
              </a:r>
              <a:endParaRPr b="0" lang="en-US" sz="700" spc="-1" strike="noStrike">
                <a:solidFill>
                  <a:srgbClr val="000000"/>
                </a:solidFill>
                <a:latin typeface="Calibri"/>
              </a:endParaRPr>
            </a:p>
          </p:txBody>
        </p:sp>
        <p:sp>
          <p:nvSpPr>
            <p:cNvPr id="892" name="TextBox 74"/>
            <p:cNvSpPr/>
            <p:nvPr/>
          </p:nvSpPr>
          <p:spPr>
            <a:xfrm rot="16200000">
              <a:off x="7179480" y="417456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4</a:t>
              </a:r>
              <a:endParaRPr b="0" lang="en-US" sz="700" spc="-1" strike="noStrike">
                <a:solidFill>
                  <a:srgbClr val="000000"/>
                </a:solidFill>
                <a:latin typeface="Calibri"/>
              </a:endParaRPr>
            </a:p>
          </p:txBody>
        </p:sp>
        <p:sp>
          <p:nvSpPr>
            <p:cNvPr id="893" name="TextBox 75"/>
            <p:cNvSpPr/>
            <p:nvPr/>
          </p:nvSpPr>
          <p:spPr>
            <a:xfrm rot="16200000">
              <a:off x="7166520" y="384408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5</a:t>
              </a:r>
              <a:endParaRPr b="0" lang="en-US" sz="700" spc="-1" strike="noStrike">
                <a:solidFill>
                  <a:srgbClr val="000000"/>
                </a:solidFill>
                <a:latin typeface="Calibri"/>
              </a:endParaRPr>
            </a:p>
          </p:txBody>
        </p:sp>
        <p:grpSp>
          <p:nvGrpSpPr>
            <p:cNvPr id="894" name="Group 81"/>
            <p:cNvGrpSpPr/>
            <p:nvPr/>
          </p:nvGrpSpPr>
          <p:grpSpPr>
            <a:xfrm>
              <a:off x="7094520" y="3649680"/>
              <a:ext cx="139680" cy="3944880"/>
              <a:chOff x="7094520" y="3649680"/>
              <a:chExt cx="139680" cy="3944880"/>
            </a:xfrm>
          </p:grpSpPr>
          <p:sp>
            <p:nvSpPr>
              <p:cNvPr id="895" name="Freeform 76"/>
              <p:cNvSpPr/>
              <p:nvPr/>
            </p:nvSpPr>
            <p:spPr>
              <a:xfrm rot="16200000">
                <a:off x="5194080" y="5617080"/>
                <a:ext cx="3938760" cy="5040"/>
              </a:xfrm>
              <a:custGeom>
                <a:avLst/>
                <a:gdLst>
                  <a:gd name="textAreaLeft" fmla="*/ 0 w 3938760"/>
                  <a:gd name="textAreaRight" fmla="*/ 3939120 w 3938760"/>
                  <a:gd name="textAreaTop" fmla="*/ 0 h 5040"/>
                  <a:gd name="textAreaBottom" fmla="*/ 5400 h 5040"/>
                </a:gdLst>
                <a:ahLst/>
                <a:rect l="textAreaLeft" t="textAreaTop" r="textAreaRight" b="textAreaBottom"/>
                <a:pathLst>
                  <a:path w="3939160" h="5207">
                    <a:moveTo>
                      <a:pt x="0" y="5206"/>
                    </a:moveTo>
                    <a:lnTo>
                      <a:pt x="0" y="0"/>
                    </a:lnTo>
                    <a:lnTo>
                      <a:pt x="3939159" y="0"/>
                    </a:lnTo>
                    <a:lnTo>
                      <a:pt x="3939159" y="5206"/>
                    </a:lnTo>
                    <a:close/>
                  </a:path>
                </a:pathLst>
              </a:custGeom>
              <a:solidFill>
                <a:srgbClr val="000000"/>
              </a:solidFill>
              <a:ln w="0">
                <a:solidFill>
                  <a:srgbClr val="000000"/>
                </a:solidFill>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Calibri"/>
                </a:endParaRPr>
              </a:p>
            </p:txBody>
          </p:sp>
          <p:sp>
            <p:nvSpPr>
              <p:cNvPr id="896" name="Freeform 77"/>
              <p:cNvSpPr/>
              <p:nvPr/>
            </p:nvSpPr>
            <p:spPr>
              <a:xfrm rot="16200000">
                <a:off x="7074000" y="7500960"/>
                <a:ext cx="113760" cy="73080"/>
              </a:xfrm>
              <a:custGeom>
                <a:avLst/>
                <a:gdLst>
                  <a:gd name="textAreaLeft" fmla="*/ 0 w 113760"/>
                  <a:gd name="textAreaRight" fmla="*/ 114120 w 113760"/>
                  <a:gd name="textAreaTop" fmla="*/ 0 h 73080"/>
                  <a:gd name="textAreaBottom" fmla="*/ 73440 h 73080"/>
                </a:gdLst>
                <a:ahLst/>
                <a:rect l="textAreaLeft" t="textAreaTop" r="textAreaRight" b="textAreaBottom"/>
                <a:pathLst>
                  <a:path w="113793" h="72772">
                    <a:moveTo>
                      <a:pt x="5461" y="72771"/>
                    </a:moveTo>
                    <a:lnTo>
                      <a:pt x="0" y="69088"/>
                    </a:lnTo>
                    <a:lnTo>
                      <a:pt x="108204" y="0"/>
                    </a:lnTo>
                    <a:lnTo>
                      <a:pt x="113792" y="3556"/>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sp>
            <p:nvSpPr>
              <p:cNvPr id="897" name="Freeform 78"/>
              <p:cNvSpPr/>
              <p:nvPr/>
            </p:nvSpPr>
            <p:spPr>
              <a:xfrm rot="16200000">
                <a:off x="7140240" y="7499520"/>
                <a:ext cx="113760" cy="73080"/>
              </a:xfrm>
              <a:custGeom>
                <a:avLst/>
                <a:gdLst>
                  <a:gd name="textAreaLeft" fmla="*/ 0 w 113760"/>
                  <a:gd name="textAreaRight" fmla="*/ 114120 w 113760"/>
                  <a:gd name="textAreaTop" fmla="*/ 0 h 73080"/>
                  <a:gd name="textAreaBottom" fmla="*/ 73440 h 73080"/>
                </a:gdLst>
                <a:ahLst/>
                <a:rect l="textAreaLeft" t="textAreaTop" r="textAreaRight" b="textAreaBottom"/>
                <a:pathLst>
                  <a:path w="113793" h="72899">
                    <a:moveTo>
                      <a:pt x="0" y="3683"/>
                    </a:moveTo>
                    <a:lnTo>
                      <a:pt x="5588" y="0"/>
                    </a:lnTo>
                    <a:lnTo>
                      <a:pt x="113792" y="69215"/>
                    </a:lnTo>
                    <a:lnTo>
                      <a:pt x="108331" y="72898"/>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sp>
            <p:nvSpPr>
              <p:cNvPr id="898" name="Freeform 79"/>
              <p:cNvSpPr/>
              <p:nvPr/>
            </p:nvSpPr>
            <p:spPr>
              <a:xfrm rot="16200000">
                <a:off x="7074000" y="3669840"/>
                <a:ext cx="113760" cy="73080"/>
              </a:xfrm>
              <a:custGeom>
                <a:avLst/>
                <a:gdLst>
                  <a:gd name="textAreaLeft" fmla="*/ 0 w 113760"/>
                  <a:gd name="textAreaRight" fmla="*/ 114120 w 113760"/>
                  <a:gd name="textAreaTop" fmla="*/ 0 h 73080"/>
                  <a:gd name="textAreaBottom" fmla="*/ 73440 h 73080"/>
                </a:gdLst>
                <a:ahLst/>
                <a:rect l="textAreaLeft" t="textAreaTop" r="textAreaRight" b="textAreaBottom"/>
                <a:pathLst>
                  <a:path w="113793" h="72772">
                    <a:moveTo>
                      <a:pt x="113792" y="69088"/>
                    </a:moveTo>
                    <a:lnTo>
                      <a:pt x="108331" y="72771"/>
                    </a:lnTo>
                    <a:lnTo>
                      <a:pt x="0" y="3683"/>
                    </a:lnTo>
                    <a:lnTo>
                      <a:pt x="5461" y="0"/>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sp>
            <p:nvSpPr>
              <p:cNvPr id="899" name="Freeform 80"/>
              <p:cNvSpPr/>
              <p:nvPr/>
            </p:nvSpPr>
            <p:spPr>
              <a:xfrm rot="16200000">
                <a:off x="7140960" y="3671640"/>
                <a:ext cx="113400" cy="73080"/>
              </a:xfrm>
              <a:custGeom>
                <a:avLst/>
                <a:gdLst>
                  <a:gd name="textAreaLeft" fmla="*/ 0 w 113400"/>
                  <a:gd name="textAreaRight" fmla="*/ 113760 w 113400"/>
                  <a:gd name="textAreaTop" fmla="*/ 0 h 73080"/>
                  <a:gd name="textAreaBottom" fmla="*/ 73440 h 73080"/>
                </a:gdLst>
                <a:ahLst/>
                <a:rect l="textAreaLeft" t="textAreaTop" r="textAreaRight" b="textAreaBottom"/>
                <a:pathLst>
                  <a:path w="113666" h="72771">
                    <a:moveTo>
                      <a:pt x="108204" y="0"/>
                    </a:moveTo>
                    <a:lnTo>
                      <a:pt x="113665" y="3682"/>
                    </a:lnTo>
                    <a:lnTo>
                      <a:pt x="5588" y="72770"/>
                    </a:lnTo>
                    <a:lnTo>
                      <a:pt x="0" y="69088"/>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grpSp>
        <p:sp>
          <p:nvSpPr>
            <p:cNvPr id="900" name="Freeform 82"/>
            <p:cNvSpPr/>
            <p:nvPr/>
          </p:nvSpPr>
          <p:spPr>
            <a:xfrm rot="16200000">
              <a:off x="7156080" y="394344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1" name="Freeform 83"/>
            <p:cNvSpPr/>
            <p:nvPr/>
          </p:nvSpPr>
          <p:spPr>
            <a:xfrm rot="16200000">
              <a:off x="7156440" y="4263840"/>
              <a:ext cx="8280" cy="106200"/>
            </a:xfrm>
            <a:custGeom>
              <a:avLst/>
              <a:gdLst>
                <a:gd name="textAreaLeft" fmla="*/ 0 w 8280"/>
                <a:gd name="textAreaRight" fmla="*/ 8640 w 8280"/>
                <a:gd name="textAreaTop" fmla="*/ 0 h 106200"/>
                <a:gd name="textAreaBottom" fmla="*/ 106560 h 106200"/>
              </a:gdLst>
              <a:ahLst/>
              <a:rect l="textAreaLeft" t="textAreaTop" r="textAreaRight" b="textAreaBottom"/>
              <a:pathLst>
                <a:path w="8637" h="105919">
                  <a:moveTo>
                    <a:pt x="0" y="0"/>
                  </a:moveTo>
                  <a:lnTo>
                    <a:pt x="8636" y="0"/>
                  </a:lnTo>
                  <a:lnTo>
                    <a:pt x="8636"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2" name="Freeform 84"/>
            <p:cNvSpPr/>
            <p:nvPr/>
          </p:nvSpPr>
          <p:spPr>
            <a:xfrm rot="16200000">
              <a:off x="7156080" y="460332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3" name="Freeform 85"/>
            <p:cNvSpPr/>
            <p:nvPr/>
          </p:nvSpPr>
          <p:spPr>
            <a:xfrm rot="16200000">
              <a:off x="7156080" y="492372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4" name="Freeform 86"/>
            <p:cNvSpPr/>
            <p:nvPr/>
          </p:nvSpPr>
          <p:spPr>
            <a:xfrm rot="16200000">
              <a:off x="7156080" y="5244120"/>
              <a:ext cx="8280" cy="105840"/>
            </a:xfrm>
            <a:custGeom>
              <a:avLst/>
              <a:gdLst>
                <a:gd name="textAreaLeft" fmla="*/ 0 w 8280"/>
                <a:gd name="textAreaRight" fmla="*/ 8640 w 8280"/>
                <a:gd name="textAreaTop" fmla="*/ 0 h 105840"/>
                <a:gd name="textAreaBottom" fmla="*/ 106200 h 105840"/>
              </a:gdLst>
              <a:ahLst/>
              <a:rect l="textAreaLeft" t="textAreaTop" r="textAreaRight" b="textAreaBottom"/>
              <a:pathLst>
                <a:path w="8637" h="105793">
                  <a:moveTo>
                    <a:pt x="0" y="0"/>
                  </a:moveTo>
                  <a:lnTo>
                    <a:pt x="8636" y="0"/>
                  </a:lnTo>
                  <a:lnTo>
                    <a:pt x="8636" y="105792"/>
                  </a:lnTo>
                  <a:lnTo>
                    <a:pt x="0" y="10579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5" name="Freeform 87"/>
            <p:cNvSpPr/>
            <p:nvPr/>
          </p:nvSpPr>
          <p:spPr>
            <a:xfrm rot="16200000">
              <a:off x="7160760" y="5910480"/>
              <a:ext cx="8280" cy="106200"/>
            </a:xfrm>
            <a:custGeom>
              <a:avLst/>
              <a:gdLst>
                <a:gd name="textAreaLeft" fmla="*/ 0 w 8280"/>
                <a:gd name="textAreaRight" fmla="*/ 8640 w 8280"/>
                <a:gd name="textAreaTop" fmla="*/ 0 h 106200"/>
                <a:gd name="textAreaBottom" fmla="*/ 106560 h 106200"/>
              </a:gdLst>
              <a:ahLst/>
              <a:rect l="textAreaLeft" t="textAreaTop" r="textAreaRight" b="textAreaBottom"/>
              <a:pathLst>
                <a:path w="8637" h="105919">
                  <a:moveTo>
                    <a:pt x="0" y="0"/>
                  </a:moveTo>
                  <a:lnTo>
                    <a:pt x="8636" y="0"/>
                  </a:lnTo>
                  <a:lnTo>
                    <a:pt x="8636"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6" name="Freeform 88"/>
            <p:cNvSpPr/>
            <p:nvPr/>
          </p:nvSpPr>
          <p:spPr>
            <a:xfrm rot="16200000">
              <a:off x="7160760" y="6230520"/>
              <a:ext cx="8280" cy="106200"/>
            </a:xfrm>
            <a:custGeom>
              <a:avLst/>
              <a:gdLst>
                <a:gd name="textAreaLeft" fmla="*/ 0 w 8280"/>
                <a:gd name="textAreaRight" fmla="*/ 8640 w 8280"/>
                <a:gd name="textAreaTop" fmla="*/ 0 h 106200"/>
                <a:gd name="textAreaBottom" fmla="*/ 106560 h 106200"/>
              </a:gdLst>
              <a:ahLst/>
              <a:rect l="textAreaLeft" t="textAreaTop" r="textAreaRight" b="textAreaBottom"/>
              <a:pathLst>
                <a:path w="8636" h="105919">
                  <a:moveTo>
                    <a:pt x="0" y="0"/>
                  </a:moveTo>
                  <a:lnTo>
                    <a:pt x="8635" y="0"/>
                  </a:lnTo>
                  <a:lnTo>
                    <a:pt x="8635"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7" name="Freeform 89"/>
            <p:cNvSpPr/>
            <p:nvPr/>
          </p:nvSpPr>
          <p:spPr>
            <a:xfrm rot="16200000">
              <a:off x="7160400" y="657000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8" name="Freeform 90"/>
            <p:cNvSpPr/>
            <p:nvPr/>
          </p:nvSpPr>
          <p:spPr>
            <a:xfrm rot="16200000">
              <a:off x="7160400" y="689040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9" name="Freeform 91"/>
            <p:cNvSpPr/>
            <p:nvPr/>
          </p:nvSpPr>
          <p:spPr>
            <a:xfrm rot="16200000">
              <a:off x="7160400" y="721044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10" name="Freeform 92"/>
            <p:cNvSpPr/>
            <p:nvPr/>
          </p:nvSpPr>
          <p:spPr>
            <a:xfrm rot="16200000">
              <a:off x="7156440" y="5577120"/>
              <a:ext cx="8280" cy="106200"/>
            </a:xfrm>
            <a:custGeom>
              <a:avLst/>
              <a:gdLst>
                <a:gd name="textAreaLeft" fmla="*/ 0 w 8280"/>
                <a:gd name="textAreaRight" fmla="*/ 8640 w 8280"/>
                <a:gd name="textAreaTop" fmla="*/ 0 h 106200"/>
                <a:gd name="textAreaBottom" fmla="*/ 106560 h 106200"/>
              </a:gdLst>
              <a:ahLst/>
              <a:rect l="textAreaLeft" t="textAreaTop" r="textAreaRight" b="textAreaBottom"/>
              <a:pathLst>
                <a:path w="8637" h="105919">
                  <a:moveTo>
                    <a:pt x="0" y="0"/>
                  </a:moveTo>
                  <a:lnTo>
                    <a:pt x="8636" y="0"/>
                  </a:lnTo>
                  <a:lnTo>
                    <a:pt x="8636"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911" name="Group 122"/>
          <p:cNvGrpSpPr/>
          <p:nvPr/>
        </p:nvGrpSpPr>
        <p:grpSpPr>
          <a:xfrm>
            <a:off x="8593200" y="3675240"/>
            <a:ext cx="405720" cy="3944880"/>
            <a:chOff x="8593200" y="3675240"/>
            <a:chExt cx="405720" cy="3944880"/>
          </a:xfrm>
        </p:grpSpPr>
        <p:sp>
          <p:nvSpPr>
            <p:cNvPr id="912" name="TextBox 94"/>
            <p:cNvSpPr/>
            <p:nvPr/>
          </p:nvSpPr>
          <p:spPr>
            <a:xfrm rot="16200000">
              <a:off x="8674920" y="5892120"/>
              <a:ext cx="2793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1</a:t>
              </a:r>
              <a:endParaRPr b="0" lang="en-US" sz="600" spc="-1" strike="noStrike">
                <a:solidFill>
                  <a:srgbClr val="000000"/>
                </a:solidFill>
                <a:latin typeface="Calibri"/>
              </a:endParaRPr>
            </a:p>
          </p:txBody>
        </p:sp>
        <p:sp>
          <p:nvSpPr>
            <p:cNvPr id="913" name="TextBox 95"/>
            <p:cNvSpPr/>
            <p:nvPr/>
          </p:nvSpPr>
          <p:spPr>
            <a:xfrm rot="16200000">
              <a:off x="8687880" y="5524200"/>
              <a:ext cx="25380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0</a:t>
              </a:r>
              <a:endParaRPr b="0" lang="en-US" sz="600" spc="-1" strike="noStrike">
                <a:solidFill>
                  <a:srgbClr val="000000"/>
                </a:solidFill>
                <a:latin typeface="Calibri"/>
              </a:endParaRPr>
            </a:p>
          </p:txBody>
        </p:sp>
        <p:sp>
          <p:nvSpPr>
            <p:cNvPr id="914" name="TextBox 96"/>
            <p:cNvSpPr/>
            <p:nvPr/>
          </p:nvSpPr>
          <p:spPr>
            <a:xfrm rot="16200000">
              <a:off x="8746200" y="6176520"/>
              <a:ext cx="22824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2</a:t>
              </a:r>
              <a:endParaRPr b="0" lang="en-US" sz="600" spc="-1" strike="noStrike">
                <a:solidFill>
                  <a:srgbClr val="000000"/>
                </a:solidFill>
                <a:latin typeface="Calibri"/>
              </a:endParaRPr>
            </a:p>
          </p:txBody>
        </p:sp>
        <p:sp>
          <p:nvSpPr>
            <p:cNvPr id="915" name="TextBox 97"/>
            <p:cNvSpPr/>
            <p:nvPr/>
          </p:nvSpPr>
          <p:spPr>
            <a:xfrm rot="16200000">
              <a:off x="8665200" y="653688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3</a:t>
              </a:r>
              <a:endParaRPr b="0" lang="en-US" sz="700" spc="-1" strike="noStrike">
                <a:solidFill>
                  <a:srgbClr val="000000"/>
                </a:solidFill>
                <a:latin typeface="Calibri"/>
              </a:endParaRPr>
            </a:p>
          </p:txBody>
        </p:sp>
        <p:sp>
          <p:nvSpPr>
            <p:cNvPr id="916" name="TextBox 98"/>
            <p:cNvSpPr/>
            <p:nvPr/>
          </p:nvSpPr>
          <p:spPr>
            <a:xfrm rot="16200000">
              <a:off x="8665200" y="685404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4</a:t>
              </a:r>
              <a:endParaRPr b="0" lang="en-US" sz="700" spc="-1" strike="noStrike">
                <a:solidFill>
                  <a:srgbClr val="000000"/>
                </a:solidFill>
                <a:latin typeface="Calibri"/>
              </a:endParaRPr>
            </a:p>
          </p:txBody>
        </p:sp>
        <p:sp>
          <p:nvSpPr>
            <p:cNvPr id="917" name="TextBox 99"/>
            <p:cNvSpPr/>
            <p:nvPr/>
          </p:nvSpPr>
          <p:spPr>
            <a:xfrm rot="16200000">
              <a:off x="8665200" y="717156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5</a:t>
              </a:r>
              <a:endParaRPr b="0" lang="en-US" sz="700" spc="-1" strike="noStrike">
                <a:solidFill>
                  <a:srgbClr val="000000"/>
                </a:solidFill>
                <a:latin typeface="Calibri"/>
              </a:endParaRPr>
            </a:p>
          </p:txBody>
        </p:sp>
        <p:sp>
          <p:nvSpPr>
            <p:cNvPr id="918" name="TextBox 100"/>
            <p:cNvSpPr/>
            <p:nvPr/>
          </p:nvSpPr>
          <p:spPr>
            <a:xfrm rot="16200000">
              <a:off x="8674920" y="5168160"/>
              <a:ext cx="2793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1</a:t>
              </a:r>
              <a:endParaRPr b="0" lang="en-US" sz="600" spc="-1" strike="noStrike">
                <a:solidFill>
                  <a:srgbClr val="000000"/>
                </a:solidFill>
                <a:latin typeface="Calibri"/>
              </a:endParaRPr>
            </a:p>
          </p:txBody>
        </p:sp>
        <p:sp>
          <p:nvSpPr>
            <p:cNvPr id="919" name="TextBox 101"/>
            <p:cNvSpPr/>
            <p:nvPr/>
          </p:nvSpPr>
          <p:spPr>
            <a:xfrm rot="16200000">
              <a:off x="8700480" y="4863600"/>
              <a:ext cx="2282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2</a:t>
              </a:r>
              <a:endParaRPr b="0" lang="en-US" sz="600" spc="-1" strike="noStrike">
                <a:solidFill>
                  <a:srgbClr val="000000"/>
                </a:solidFill>
                <a:latin typeface="Calibri"/>
              </a:endParaRPr>
            </a:p>
          </p:txBody>
        </p:sp>
        <p:sp>
          <p:nvSpPr>
            <p:cNvPr id="920" name="TextBox 102"/>
            <p:cNvSpPr/>
            <p:nvPr/>
          </p:nvSpPr>
          <p:spPr>
            <a:xfrm rot="16200000">
              <a:off x="8678160" y="451764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3</a:t>
              </a:r>
              <a:endParaRPr b="0" lang="en-US" sz="700" spc="-1" strike="noStrike">
                <a:solidFill>
                  <a:srgbClr val="000000"/>
                </a:solidFill>
                <a:latin typeface="Calibri"/>
              </a:endParaRPr>
            </a:p>
          </p:txBody>
        </p:sp>
        <p:sp>
          <p:nvSpPr>
            <p:cNvPr id="921" name="TextBox 103"/>
            <p:cNvSpPr/>
            <p:nvPr/>
          </p:nvSpPr>
          <p:spPr>
            <a:xfrm rot="16200000">
              <a:off x="8678160" y="420012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4</a:t>
              </a:r>
              <a:endParaRPr b="0" lang="en-US" sz="700" spc="-1" strike="noStrike">
                <a:solidFill>
                  <a:srgbClr val="000000"/>
                </a:solidFill>
                <a:latin typeface="Calibri"/>
              </a:endParaRPr>
            </a:p>
          </p:txBody>
        </p:sp>
        <p:sp>
          <p:nvSpPr>
            <p:cNvPr id="922" name="TextBox 104"/>
            <p:cNvSpPr/>
            <p:nvPr/>
          </p:nvSpPr>
          <p:spPr>
            <a:xfrm rot="16200000">
              <a:off x="8665200" y="386964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5</a:t>
              </a:r>
              <a:endParaRPr b="0" lang="en-US" sz="700" spc="-1" strike="noStrike">
                <a:solidFill>
                  <a:srgbClr val="000000"/>
                </a:solidFill>
                <a:latin typeface="Calibri"/>
              </a:endParaRPr>
            </a:p>
          </p:txBody>
        </p:sp>
        <p:grpSp>
          <p:nvGrpSpPr>
            <p:cNvPr id="923" name="Group 110"/>
            <p:cNvGrpSpPr/>
            <p:nvPr/>
          </p:nvGrpSpPr>
          <p:grpSpPr>
            <a:xfrm>
              <a:off x="8593200" y="3675240"/>
              <a:ext cx="139680" cy="3944880"/>
              <a:chOff x="8593200" y="3675240"/>
              <a:chExt cx="139680" cy="3944880"/>
            </a:xfrm>
          </p:grpSpPr>
          <p:sp>
            <p:nvSpPr>
              <p:cNvPr id="924" name="Freeform 105"/>
              <p:cNvSpPr/>
              <p:nvPr/>
            </p:nvSpPr>
            <p:spPr>
              <a:xfrm rot="16200000">
                <a:off x="6692760" y="5642640"/>
                <a:ext cx="3938760" cy="5040"/>
              </a:xfrm>
              <a:custGeom>
                <a:avLst/>
                <a:gdLst>
                  <a:gd name="textAreaLeft" fmla="*/ 0 w 3938760"/>
                  <a:gd name="textAreaRight" fmla="*/ 3939120 w 3938760"/>
                  <a:gd name="textAreaTop" fmla="*/ 0 h 5040"/>
                  <a:gd name="textAreaBottom" fmla="*/ 5400 h 5040"/>
                </a:gdLst>
                <a:ahLst/>
                <a:rect l="textAreaLeft" t="textAreaTop" r="textAreaRight" b="textAreaBottom"/>
                <a:pathLst>
                  <a:path w="3939161" h="5208">
                    <a:moveTo>
                      <a:pt x="0" y="5207"/>
                    </a:moveTo>
                    <a:lnTo>
                      <a:pt x="0" y="0"/>
                    </a:lnTo>
                    <a:lnTo>
                      <a:pt x="3939160" y="0"/>
                    </a:lnTo>
                    <a:lnTo>
                      <a:pt x="3939160" y="5207"/>
                    </a:lnTo>
                    <a:close/>
                  </a:path>
                </a:pathLst>
              </a:custGeom>
              <a:solidFill>
                <a:srgbClr val="000000"/>
              </a:solidFill>
              <a:ln w="0">
                <a:solidFill>
                  <a:srgbClr val="000000"/>
                </a:solidFill>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Calibri"/>
                </a:endParaRPr>
              </a:p>
            </p:txBody>
          </p:sp>
          <p:sp>
            <p:nvSpPr>
              <p:cNvPr id="925" name="Freeform 106"/>
              <p:cNvSpPr/>
              <p:nvPr/>
            </p:nvSpPr>
            <p:spPr>
              <a:xfrm rot="16200000">
                <a:off x="8572680" y="7526520"/>
                <a:ext cx="113760" cy="73080"/>
              </a:xfrm>
              <a:custGeom>
                <a:avLst/>
                <a:gdLst>
                  <a:gd name="textAreaLeft" fmla="*/ 0 w 113760"/>
                  <a:gd name="textAreaRight" fmla="*/ 114120 w 113760"/>
                  <a:gd name="textAreaTop" fmla="*/ 0 h 73080"/>
                  <a:gd name="textAreaBottom" fmla="*/ 73440 h 73080"/>
                </a:gdLst>
                <a:ahLst/>
                <a:rect l="textAreaLeft" t="textAreaTop" r="textAreaRight" b="textAreaBottom"/>
                <a:pathLst>
                  <a:path w="113793" h="72772">
                    <a:moveTo>
                      <a:pt x="5461" y="72771"/>
                    </a:moveTo>
                    <a:lnTo>
                      <a:pt x="0" y="69088"/>
                    </a:lnTo>
                    <a:lnTo>
                      <a:pt x="108204" y="0"/>
                    </a:lnTo>
                    <a:lnTo>
                      <a:pt x="113792" y="3556"/>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sp>
            <p:nvSpPr>
              <p:cNvPr id="926" name="Freeform 107"/>
              <p:cNvSpPr/>
              <p:nvPr/>
            </p:nvSpPr>
            <p:spPr>
              <a:xfrm rot="16200000">
                <a:off x="8639280" y="7525440"/>
                <a:ext cx="113400" cy="73080"/>
              </a:xfrm>
              <a:custGeom>
                <a:avLst/>
                <a:gdLst>
                  <a:gd name="textAreaLeft" fmla="*/ 0 w 113400"/>
                  <a:gd name="textAreaRight" fmla="*/ 113760 w 113400"/>
                  <a:gd name="textAreaTop" fmla="*/ 0 h 73080"/>
                  <a:gd name="textAreaBottom" fmla="*/ 73440 h 73080"/>
                </a:gdLst>
                <a:ahLst/>
                <a:rect l="textAreaLeft" t="textAreaTop" r="textAreaRight" b="textAreaBottom"/>
                <a:pathLst>
                  <a:path w="113666" h="72899">
                    <a:moveTo>
                      <a:pt x="0" y="3683"/>
                    </a:moveTo>
                    <a:lnTo>
                      <a:pt x="5461" y="0"/>
                    </a:lnTo>
                    <a:lnTo>
                      <a:pt x="113665" y="69215"/>
                    </a:lnTo>
                    <a:lnTo>
                      <a:pt x="108205" y="72898"/>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sp>
            <p:nvSpPr>
              <p:cNvPr id="927" name="Freeform 108"/>
              <p:cNvSpPr/>
              <p:nvPr/>
            </p:nvSpPr>
            <p:spPr>
              <a:xfrm rot="16200000">
                <a:off x="8572680" y="3695400"/>
                <a:ext cx="113760" cy="73080"/>
              </a:xfrm>
              <a:custGeom>
                <a:avLst/>
                <a:gdLst>
                  <a:gd name="textAreaLeft" fmla="*/ 0 w 113760"/>
                  <a:gd name="textAreaRight" fmla="*/ 114120 w 113760"/>
                  <a:gd name="textAreaTop" fmla="*/ 0 h 73080"/>
                  <a:gd name="textAreaBottom" fmla="*/ 73440 h 73080"/>
                </a:gdLst>
                <a:ahLst/>
                <a:rect l="textAreaLeft" t="textAreaTop" r="textAreaRight" b="textAreaBottom"/>
                <a:pathLst>
                  <a:path w="113794" h="72772">
                    <a:moveTo>
                      <a:pt x="113793" y="69088"/>
                    </a:moveTo>
                    <a:lnTo>
                      <a:pt x="108332" y="72771"/>
                    </a:lnTo>
                    <a:lnTo>
                      <a:pt x="0" y="3683"/>
                    </a:lnTo>
                    <a:lnTo>
                      <a:pt x="5461" y="0"/>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sp>
            <p:nvSpPr>
              <p:cNvPr id="928" name="Freeform 109"/>
              <p:cNvSpPr/>
              <p:nvPr/>
            </p:nvSpPr>
            <p:spPr>
              <a:xfrm rot="16200000">
                <a:off x="8639280" y="3696840"/>
                <a:ext cx="113760" cy="73080"/>
              </a:xfrm>
              <a:custGeom>
                <a:avLst/>
                <a:gdLst>
                  <a:gd name="textAreaLeft" fmla="*/ 0 w 113760"/>
                  <a:gd name="textAreaRight" fmla="*/ 114120 w 113760"/>
                  <a:gd name="textAreaTop" fmla="*/ 0 h 73080"/>
                  <a:gd name="textAreaBottom" fmla="*/ 73440 h 73080"/>
                </a:gdLst>
                <a:ahLst/>
                <a:rect l="textAreaLeft" t="textAreaTop" r="textAreaRight" b="textAreaBottom"/>
                <a:pathLst>
                  <a:path w="113794" h="72772">
                    <a:moveTo>
                      <a:pt x="108332" y="0"/>
                    </a:moveTo>
                    <a:lnTo>
                      <a:pt x="113793" y="3683"/>
                    </a:lnTo>
                    <a:lnTo>
                      <a:pt x="5588" y="72771"/>
                    </a:lnTo>
                    <a:lnTo>
                      <a:pt x="0" y="69088"/>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grpSp>
        <p:sp>
          <p:nvSpPr>
            <p:cNvPr id="929" name="Freeform 111"/>
            <p:cNvSpPr/>
            <p:nvPr/>
          </p:nvSpPr>
          <p:spPr>
            <a:xfrm rot="16200000">
              <a:off x="8654760" y="396900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30" name="Freeform 112"/>
            <p:cNvSpPr/>
            <p:nvPr/>
          </p:nvSpPr>
          <p:spPr>
            <a:xfrm rot="16200000">
              <a:off x="8655120" y="4289400"/>
              <a:ext cx="8280" cy="106200"/>
            </a:xfrm>
            <a:custGeom>
              <a:avLst/>
              <a:gdLst>
                <a:gd name="textAreaLeft" fmla="*/ 0 w 8280"/>
                <a:gd name="textAreaRight" fmla="*/ 8640 w 8280"/>
                <a:gd name="textAreaTop" fmla="*/ 0 h 106200"/>
                <a:gd name="textAreaBottom" fmla="*/ 106560 h 106200"/>
              </a:gdLst>
              <a:ahLst/>
              <a:rect l="textAreaLeft" t="textAreaTop" r="textAreaRight" b="textAreaBottom"/>
              <a:pathLst>
                <a:path w="8637" h="105919">
                  <a:moveTo>
                    <a:pt x="0" y="0"/>
                  </a:moveTo>
                  <a:lnTo>
                    <a:pt x="8636" y="0"/>
                  </a:lnTo>
                  <a:lnTo>
                    <a:pt x="8636"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31" name="Freeform 113"/>
            <p:cNvSpPr/>
            <p:nvPr/>
          </p:nvSpPr>
          <p:spPr>
            <a:xfrm rot="16200000">
              <a:off x="8654760" y="462888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32" name="Freeform 114"/>
            <p:cNvSpPr/>
            <p:nvPr/>
          </p:nvSpPr>
          <p:spPr>
            <a:xfrm rot="16200000">
              <a:off x="8654760" y="494928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33" name="Freeform 115"/>
            <p:cNvSpPr/>
            <p:nvPr/>
          </p:nvSpPr>
          <p:spPr>
            <a:xfrm rot="16200000">
              <a:off x="8654760" y="5269680"/>
              <a:ext cx="8280" cy="105840"/>
            </a:xfrm>
            <a:custGeom>
              <a:avLst/>
              <a:gdLst>
                <a:gd name="textAreaLeft" fmla="*/ 0 w 8280"/>
                <a:gd name="textAreaRight" fmla="*/ 8640 w 8280"/>
                <a:gd name="textAreaTop" fmla="*/ 0 h 105840"/>
                <a:gd name="textAreaBottom" fmla="*/ 106200 h 105840"/>
              </a:gdLst>
              <a:ahLst/>
              <a:rect l="textAreaLeft" t="textAreaTop" r="textAreaRight" b="textAreaBottom"/>
              <a:pathLst>
                <a:path w="8636" h="105792">
                  <a:moveTo>
                    <a:pt x="0" y="0"/>
                  </a:moveTo>
                  <a:lnTo>
                    <a:pt x="8635" y="0"/>
                  </a:lnTo>
                  <a:lnTo>
                    <a:pt x="8635" y="105791"/>
                  </a:lnTo>
                  <a:lnTo>
                    <a:pt x="0" y="1057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34" name="Freeform 116"/>
            <p:cNvSpPr/>
            <p:nvPr/>
          </p:nvSpPr>
          <p:spPr>
            <a:xfrm rot="16200000">
              <a:off x="8659080" y="593568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35" name="Freeform 117"/>
            <p:cNvSpPr/>
            <p:nvPr/>
          </p:nvSpPr>
          <p:spPr>
            <a:xfrm rot="16200000">
              <a:off x="8659080" y="625608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20">
                  <a:moveTo>
                    <a:pt x="0" y="0"/>
                  </a:moveTo>
                  <a:lnTo>
                    <a:pt x="8763" y="0"/>
                  </a:lnTo>
                  <a:lnTo>
                    <a:pt x="8763" y="105919"/>
                  </a:lnTo>
                  <a:lnTo>
                    <a:pt x="0" y="10591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36" name="Freeform 118"/>
            <p:cNvSpPr/>
            <p:nvPr/>
          </p:nvSpPr>
          <p:spPr>
            <a:xfrm rot="16200000">
              <a:off x="8659080" y="659556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20">
                  <a:moveTo>
                    <a:pt x="0" y="0"/>
                  </a:moveTo>
                  <a:lnTo>
                    <a:pt x="8763" y="0"/>
                  </a:lnTo>
                  <a:lnTo>
                    <a:pt x="8763" y="105919"/>
                  </a:lnTo>
                  <a:lnTo>
                    <a:pt x="0" y="10591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37" name="Freeform 119"/>
            <p:cNvSpPr/>
            <p:nvPr/>
          </p:nvSpPr>
          <p:spPr>
            <a:xfrm rot="16200000">
              <a:off x="8659080" y="691596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5" h="105919">
                  <a:moveTo>
                    <a:pt x="0" y="0"/>
                  </a:moveTo>
                  <a:lnTo>
                    <a:pt x="8764" y="0"/>
                  </a:lnTo>
                  <a:lnTo>
                    <a:pt x="8764"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38" name="Freeform 120"/>
            <p:cNvSpPr/>
            <p:nvPr/>
          </p:nvSpPr>
          <p:spPr>
            <a:xfrm rot="16200000">
              <a:off x="8659080" y="723600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39" name="Freeform 121"/>
            <p:cNvSpPr/>
            <p:nvPr/>
          </p:nvSpPr>
          <p:spPr>
            <a:xfrm rot="16200000">
              <a:off x="8655120" y="5602680"/>
              <a:ext cx="8280" cy="106200"/>
            </a:xfrm>
            <a:custGeom>
              <a:avLst/>
              <a:gdLst>
                <a:gd name="textAreaLeft" fmla="*/ 0 w 8280"/>
                <a:gd name="textAreaRight" fmla="*/ 8640 w 8280"/>
                <a:gd name="textAreaTop" fmla="*/ 0 h 106200"/>
                <a:gd name="textAreaBottom" fmla="*/ 106560 h 106200"/>
              </a:gdLst>
              <a:ahLst/>
              <a:rect l="textAreaLeft" t="textAreaTop" r="textAreaRight" b="textAreaBottom"/>
              <a:pathLst>
                <a:path w="8637" h="105919">
                  <a:moveTo>
                    <a:pt x="0" y="0"/>
                  </a:moveTo>
                  <a:lnTo>
                    <a:pt x="8636" y="0"/>
                  </a:lnTo>
                  <a:lnTo>
                    <a:pt x="8636"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940" name="Straight Connector 123"/>
          <p:cNvSpPr/>
          <p:nvPr/>
        </p:nvSpPr>
        <p:spPr>
          <a:xfrm flipV="1">
            <a:off x="7416720" y="4368600"/>
            <a:ext cx="0" cy="1244520"/>
          </a:xfrm>
          <a:prstGeom prst="line">
            <a:avLst/>
          </a:prstGeom>
          <a:ln w="3816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1" name="Straight Connector 124"/>
          <p:cNvSpPr/>
          <p:nvPr/>
        </p:nvSpPr>
        <p:spPr>
          <a:xfrm>
            <a:off x="8902800" y="5689440"/>
            <a:ext cx="0" cy="609840"/>
          </a:xfrm>
          <a:prstGeom prst="line">
            <a:avLst/>
          </a:prstGeom>
          <a:ln w="3816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2" name="TextBox 125"/>
          <p:cNvSpPr/>
          <p:nvPr/>
        </p:nvSpPr>
        <p:spPr>
          <a:xfrm>
            <a:off x="9029880" y="588024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mic Sans MS - 16"/>
              </a:rPr>
              <a:t>-2</a:t>
            </a:r>
            <a:endParaRPr b="0" lang="en-US" sz="1500" spc="-1" strike="noStrike">
              <a:solidFill>
                <a:srgbClr val="000000"/>
              </a:solidFill>
              <a:latin typeface="Calibri"/>
            </a:endParaRPr>
          </a:p>
        </p:txBody>
      </p:sp>
      <p:sp>
        <p:nvSpPr>
          <p:cNvPr id="943" name="TextBox 126"/>
          <p:cNvSpPr/>
          <p:nvPr/>
        </p:nvSpPr>
        <p:spPr>
          <a:xfrm>
            <a:off x="7505640" y="4940280"/>
            <a:ext cx="55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 16"/>
              </a:rPr>
              <a:t>+4</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TextBox 1"/>
          <p:cNvSpPr/>
          <p:nvPr/>
        </p:nvSpPr>
        <p:spPr>
          <a:xfrm>
            <a:off x="723960" y="177840"/>
            <a:ext cx="9550440" cy="210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 36"/>
              </a:rPr>
              <a:t>Explore the Math</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ff"/>
                </a:solidFill>
                <a:latin typeface="Comic Sans MS - 36"/>
              </a:rPr>
              <a:t>Co</a:t>
            </a:r>
            <a:r>
              <a:rPr b="0" lang="en-CA" sz="2400" spc="-1" strike="noStrike">
                <a:solidFill>
                  <a:srgbClr val="0000ff"/>
                </a:solidFill>
                <a:latin typeface="Comic Sans MS - 24"/>
              </a:rPr>
              <a:t>py the table.  Use integer chips to help you complete each subtraction statement.</a:t>
            </a:r>
            <a:endParaRPr b="0" lang="en-US" sz="2400" spc="-1" strike="noStrike">
              <a:solidFill>
                <a:srgbClr val="000000"/>
              </a:solidFill>
              <a:latin typeface="Calibri"/>
            </a:endParaRPr>
          </a:p>
        </p:txBody>
      </p:sp>
      <p:graphicFrame>
        <p:nvGraphicFramePr>
          <p:cNvPr id="945" name=""/>
          <p:cNvGraphicFramePr/>
          <p:nvPr/>
        </p:nvGraphicFramePr>
        <p:xfrm>
          <a:off x="1523880" y="2286000"/>
          <a:ext cx="7112160" cy="3225960"/>
        </p:xfrm>
        <a:graphic>
          <a:graphicData uri="http://schemas.openxmlformats.org/drawingml/2006/table">
            <a:tbl>
              <a:tblPr/>
              <a:tblGrid>
                <a:gridCol w="3556080"/>
                <a:gridCol w="3556080"/>
              </a:tblGrid>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 24"/>
                        </a:rPr>
                        <a:t>(+4) - (+3) = ___</a:t>
                      </a:r>
                      <a:endParaRPr b="0" lang="en-US" sz="24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 24"/>
                        </a:rPr>
                        <a:t>(+4) + (-3) = ___ </a:t>
                      </a:r>
                      <a:endParaRPr b="0" lang="en-US" sz="24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53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 24"/>
                        </a:rPr>
                        <a:t>(-5) - (-3) = ___ </a:t>
                      </a:r>
                      <a:endParaRPr b="0" lang="en-US" sz="24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 24"/>
                        </a:rPr>
                        <a:t>(-5) + (+3) = ___  </a:t>
                      </a:r>
                      <a:endParaRPr b="0" lang="en-US" sz="24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 24"/>
                        </a:rPr>
                        <a:t>(-3) - (+1) = ___ </a:t>
                      </a:r>
                      <a:endParaRPr b="0" lang="en-US" sz="24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 24"/>
                        </a:rPr>
                        <a:t>(-3) + (-1) = ___  </a:t>
                      </a:r>
                      <a:endParaRPr b="0" lang="en-US" sz="24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55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 24"/>
                        </a:rPr>
                        <a:t>0 - (+2) = ___ </a:t>
                      </a:r>
                      <a:endParaRPr b="0" lang="en-US" sz="24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 24"/>
                        </a:rPr>
                        <a:t>0 + (-2) = ___  </a:t>
                      </a:r>
                      <a:endParaRPr b="0" lang="en-US" sz="24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 24"/>
                        </a:rPr>
                        <a:t>(+2) - (-4) = ___ </a:t>
                      </a:r>
                      <a:endParaRPr b="0" lang="en-US" sz="24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 24"/>
                        </a:rPr>
                        <a:t>(+2) + (+4) = ___  </a:t>
                      </a:r>
                      <a:endParaRPr b="0" lang="en-US" sz="24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 24"/>
                        </a:rPr>
                        <a:t>(-4) - (-5) = ___ </a:t>
                      </a:r>
                      <a:endParaRPr b="0" lang="en-US" sz="24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 24"/>
                        </a:rPr>
                        <a:t>(-4) + (+5) = ___  </a:t>
                      </a:r>
                      <a:endParaRPr b="0" lang="en-US" sz="24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bl>
          </a:graphicData>
        </a:graphic>
      </p:graphicFrame>
      <p:sp>
        <p:nvSpPr>
          <p:cNvPr id="946" name="TextBox 3"/>
          <p:cNvSpPr/>
          <p:nvPr/>
        </p:nvSpPr>
        <p:spPr>
          <a:xfrm>
            <a:off x="1701720" y="588024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ff"/>
                </a:solidFill>
                <a:latin typeface="Comic Sans MS - 24"/>
              </a:rPr>
              <a:t>What do you notice about the two colum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TextBox 1"/>
          <p:cNvSpPr/>
          <p:nvPr/>
        </p:nvSpPr>
        <p:spPr>
          <a:xfrm>
            <a:off x="101520" y="216000"/>
            <a:ext cx="10185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ff"/>
                </a:solidFill>
                <a:latin typeface="Comic Sans MS - 36"/>
              </a:rPr>
              <a:t>Example 1: Use Addition to Subtract Integers</a:t>
            </a:r>
            <a:endParaRPr b="0" lang="en-US" sz="3600" spc="-1" strike="noStrike">
              <a:solidFill>
                <a:srgbClr val="000000"/>
              </a:solidFill>
              <a:latin typeface="Calibri"/>
            </a:endParaRPr>
          </a:p>
        </p:txBody>
      </p:sp>
      <p:sp>
        <p:nvSpPr>
          <p:cNvPr id="948" name="TextBox 2"/>
          <p:cNvSpPr/>
          <p:nvPr/>
        </p:nvSpPr>
        <p:spPr>
          <a:xfrm>
            <a:off x="584280" y="851040"/>
            <a:ext cx="6629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 24"/>
              </a:rPr>
              <a:t>Subtract (-2) - (-5).</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Comic Sans MS - 24"/>
              </a:rPr>
              <a:t>Th</a:t>
            </a:r>
            <a:r>
              <a:rPr b="0" lang="en-CA" sz="2400" spc="-1" strike="noStrike">
                <a:solidFill>
                  <a:srgbClr val="0000ff"/>
                </a:solidFill>
                <a:latin typeface="Comic Sans MS - 24"/>
              </a:rPr>
              <a:t>ink: To subtract -5, add the opposite, +5.</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Comic Sans MS - 24"/>
              </a:rPr>
              <a:t>So, (-2) - (-5) = (-2) + (+5)</a:t>
            </a:r>
            <a:endParaRPr b="0" lang="en-US" sz="2400" spc="-1" strike="noStrike">
              <a:solidFill>
                <a:srgbClr val="000000"/>
              </a:solidFill>
              <a:latin typeface="Calibri"/>
            </a:endParaRPr>
          </a:p>
        </p:txBody>
      </p:sp>
      <p:grpSp>
        <p:nvGrpSpPr>
          <p:cNvPr id="949" name="Group 51"/>
          <p:cNvGrpSpPr/>
          <p:nvPr/>
        </p:nvGrpSpPr>
        <p:grpSpPr>
          <a:xfrm>
            <a:off x="368280" y="3611520"/>
            <a:ext cx="9250560" cy="825840"/>
            <a:chOff x="368280" y="3611520"/>
            <a:chExt cx="9250560" cy="825840"/>
          </a:xfrm>
        </p:grpSpPr>
        <p:sp>
          <p:nvSpPr>
            <p:cNvPr id="950" name="TextBox 3"/>
            <p:cNvSpPr/>
            <p:nvPr/>
          </p:nvSpPr>
          <p:spPr>
            <a:xfrm>
              <a:off x="5232240" y="4115160"/>
              <a:ext cx="5079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1</a:t>
              </a:r>
              <a:endParaRPr b="0" lang="en-US" sz="1500" spc="-1" strike="noStrike">
                <a:solidFill>
                  <a:srgbClr val="000000"/>
                </a:solidFill>
                <a:latin typeface="Calibri"/>
              </a:endParaRPr>
            </a:p>
          </p:txBody>
        </p:sp>
        <p:sp>
          <p:nvSpPr>
            <p:cNvPr id="951" name="TextBox 4"/>
            <p:cNvSpPr/>
            <p:nvPr/>
          </p:nvSpPr>
          <p:spPr>
            <a:xfrm>
              <a:off x="4838760" y="4115160"/>
              <a:ext cx="4572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0</a:t>
              </a:r>
              <a:endParaRPr b="0" lang="en-US" sz="1500" spc="-1" strike="noStrike">
                <a:solidFill>
                  <a:srgbClr val="000000"/>
                </a:solidFill>
                <a:latin typeface="Calibri"/>
              </a:endParaRPr>
            </a:p>
          </p:txBody>
        </p:sp>
        <p:sp>
          <p:nvSpPr>
            <p:cNvPr id="952" name="TextBox 5"/>
            <p:cNvSpPr/>
            <p:nvPr/>
          </p:nvSpPr>
          <p:spPr>
            <a:xfrm>
              <a:off x="5664240" y="4115160"/>
              <a:ext cx="3808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2</a:t>
              </a:r>
              <a:endParaRPr b="0" lang="en-US" sz="1500" spc="-1" strike="noStrike">
                <a:solidFill>
                  <a:srgbClr val="000000"/>
                </a:solidFill>
                <a:latin typeface="Calibri"/>
              </a:endParaRPr>
            </a:p>
          </p:txBody>
        </p:sp>
        <p:sp>
          <p:nvSpPr>
            <p:cNvPr id="953" name="TextBox 6"/>
            <p:cNvSpPr/>
            <p:nvPr/>
          </p:nvSpPr>
          <p:spPr>
            <a:xfrm>
              <a:off x="6045120" y="411516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3</a:t>
              </a:r>
              <a:endParaRPr b="0" lang="en-US" sz="1500" spc="-1" strike="noStrike">
                <a:solidFill>
                  <a:srgbClr val="000000"/>
                </a:solidFill>
                <a:latin typeface="Calibri"/>
              </a:endParaRPr>
            </a:p>
          </p:txBody>
        </p:sp>
        <p:sp>
          <p:nvSpPr>
            <p:cNvPr id="954" name="TextBox 7"/>
            <p:cNvSpPr/>
            <p:nvPr/>
          </p:nvSpPr>
          <p:spPr>
            <a:xfrm>
              <a:off x="6426360" y="411516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4</a:t>
              </a:r>
              <a:endParaRPr b="0" lang="en-US" sz="1500" spc="-1" strike="noStrike">
                <a:solidFill>
                  <a:srgbClr val="000000"/>
                </a:solidFill>
                <a:latin typeface="Calibri"/>
              </a:endParaRPr>
            </a:p>
          </p:txBody>
        </p:sp>
        <p:sp>
          <p:nvSpPr>
            <p:cNvPr id="955" name="TextBox 8"/>
            <p:cNvSpPr/>
            <p:nvPr/>
          </p:nvSpPr>
          <p:spPr>
            <a:xfrm>
              <a:off x="6845400" y="411516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5</a:t>
              </a:r>
              <a:endParaRPr b="0" lang="en-US" sz="1500" spc="-1" strike="noStrike">
                <a:solidFill>
                  <a:srgbClr val="000000"/>
                </a:solidFill>
                <a:latin typeface="Calibri"/>
              </a:endParaRPr>
            </a:p>
          </p:txBody>
        </p:sp>
        <p:sp>
          <p:nvSpPr>
            <p:cNvPr id="956" name="TextBox 9"/>
            <p:cNvSpPr/>
            <p:nvPr/>
          </p:nvSpPr>
          <p:spPr>
            <a:xfrm>
              <a:off x="7213680" y="411516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6</a:t>
              </a:r>
              <a:endParaRPr b="0" lang="en-US" sz="1500" spc="-1" strike="noStrike">
                <a:solidFill>
                  <a:srgbClr val="000000"/>
                </a:solidFill>
                <a:latin typeface="Calibri"/>
              </a:endParaRPr>
            </a:p>
          </p:txBody>
        </p:sp>
        <p:sp>
          <p:nvSpPr>
            <p:cNvPr id="957" name="TextBox 10"/>
            <p:cNvSpPr/>
            <p:nvPr/>
          </p:nvSpPr>
          <p:spPr>
            <a:xfrm>
              <a:off x="7620120" y="411516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7</a:t>
              </a:r>
              <a:endParaRPr b="0" lang="en-US" sz="1500" spc="-1" strike="noStrike">
                <a:solidFill>
                  <a:srgbClr val="000000"/>
                </a:solidFill>
                <a:latin typeface="Calibri"/>
              </a:endParaRPr>
            </a:p>
          </p:txBody>
        </p:sp>
        <p:sp>
          <p:nvSpPr>
            <p:cNvPr id="958" name="TextBox 11"/>
            <p:cNvSpPr/>
            <p:nvPr/>
          </p:nvSpPr>
          <p:spPr>
            <a:xfrm>
              <a:off x="8013960" y="408996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8</a:t>
              </a:r>
              <a:endParaRPr b="0" lang="en-US" sz="1500" spc="-1" strike="noStrike">
                <a:solidFill>
                  <a:srgbClr val="000000"/>
                </a:solidFill>
                <a:latin typeface="Calibri"/>
              </a:endParaRPr>
            </a:p>
          </p:txBody>
        </p:sp>
        <p:sp>
          <p:nvSpPr>
            <p:cNvPr id="959" name="TextBox 12"/>
            <p:cNvSpPr/>
            <p:nvPr/>
          </p:nvSpPr>
          <p:spPr>
            <a:xfrm>
              <a:off x="8407440" y="408996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9</a:t>
              </a:r>
              <a:endParaRPr b="0" lang="en-US" sz="1500" spc="-1" strike="noStrike">
                <a:solidFill>
                  <a:srgbClr val="000000"/>
                </a:solidFill>
                <a:latin typeface="Calibri"/>
              </a:endParaRPr>
            </a:p>
          </p:txBody>
        </p:sp>
        <p:sp>
          <p:nvSpPr>
            <p:cNvPr id="960" name="TextBox 13"/>
            <p:cNvSpPr/>
            <p:nvPr/>
          </p:nvSpPr>
          <p:spPr>
            <a:xfrm>
              <a:off x="8763120" y="4077000"/>
              <a:ext cx="660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 12"/>
                </a:rPr>
                <a:t>10</a:t>
              </a:r>
              <a:endParaRPr b="0" lang="en-US" sz="1400" spc="-1" strike="noStrike">
                <a:solidFill>
                  <a:srgbClr val="000000"/>
                </a:solidFill>
                <a:latin typeface="Calibri"/>
              </a:endParaRPr>
            </a:p>
          </p:txBody>
        </p:sp>
        <p:grpSp>
          <p:nvGrpSpPr>
            <p:cNvPr id="961" name="Group 19"/>
            <p:cNvGrpSpPr/>
            <p:nvPr/>
          </p:nvGrpSpPr>
          <p:grpSpPr>
            <a:xfrm>
              <a:off x="368280" y="3611520"/>
              <a:ext cx="9250560" cy="529920"/>
              <a:chOff x="368280" y="3611520"/>
              <a:chExt cx="9250560" cy="529920"/>
            </a:xfrm>
          </p:grpSpPr>
          <p:sp>
            <p:nvSpPr>
              <p:cNvPr id="962" name="Freeform 14"/>
              <p:cNvSpPr/>
              <p:nvPr/>
            </p:nvSpPr>
            <p:spPr>
              <a:xfrm>
                <a:off x="380880" y="3864600"/>
                <a:ext cx="9235800" cy="19800"/>
              </a:xfrm>
              <a:custGeom>
                <a:avLst/>
                <a:gdLst>
                  <a:gd name="textAreaLeft" fmla="*/ 0 w 9235800"/>
                  <a:gd name="textAreaRight" fmla="*/ 9236160 w 9235800"/>
                  <a:gd name="textAreaTop" fmla="*/ 0 h 19800"/>
                  <a:gd name="textAreaBottom" fmla="*/ 20160 h 19800"/>
                </a:gdLst>
                <a:ahLst/>
                <a:rect l="textAreaLeft" t="textAreaTop" r="textAreaRight" b="textAreaBottom"/>
                <a:pathLst>
                  <a:path w="9235694" h="20066">
                    <a:moveTo>
                      <a:pt x="0" y="20065"/>
                    </a:moveTo>
                    <a:lnTo>
                      <a:pt x="0" y="0"/>
                    </a:lnTo>
                    <a:lnTo>
                      <a:pt x="9235693" y="0"/>
                    </a:lnTo>
                    <a:lnTo>
                      <a:pt x="9235693" y="20065"/>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sp>
            <p:nvSpPr>
              <p:cNvPr id="963" name="Freeform 15"/>
              <p:cNvSpPr/>
              <p:nvPr/>
            </p:nvSpPr>
            <p:spPr>
              <a:xfrm>
                <a:off x="368280" y="3611520"/>
                <a:ext cx="266760" cy="277200"/>
              </a:xfrm>
              <a:custGeom>
                <a:avLst/>
                <a:gdLst>
                  <a:gd name="textAreaLeft" fmla="*/ 0 w 266760"/>
                  <a:gd name="textAreaRight" fmla="*/ 267120 w 266760"/>
                  <a:gd name="textAreaTop" fmla="*/ 0 h 277200"/>
                  <a:gd name="textAreaBottom" fmla="*/ 277560 h 277200"/>
                </a:gdLst>
                <a:ahLst/>
                <a:rect l="textAreaLeft" t="textAreaTop" r="textAreaRight" b="textAreaBottom"/>
                <a:pathLst>
                  <a:path w="266827" h="276733">
                    <a:moveTo>
                      <a:pt x="12954" y="276732"/>
                    </a:moveTo>
                    <a:lnTo>
                      <a:pt x="0" y="262636"/>
                    </a:lnTo>
                    <a:lnTo>
                      <a:pt x="253745" y="0"/>
                    </a:lnTo>
                    <a:lnTo>
                      <a:pt x="266826" y="1396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64" name="Freeform 16"/>
              <p:cNvSpPr/>
              <p:nvPr/>
            </p:nvSpPr>
            <p:spPr>
              <a:xfrm>
                <a:off x="371880" y="3863520"/>
                <a:ext cx="266760" cy="276840"/>
              </a:xfrm>
              <a:custGeom>
                <a:avLst/>
                <a:gdLst>
                  <a:gd name="textAreaLeft" fmla="*/ 0 w 266760"/>
                  <a:gd name="textAreaRight" fmla="*/ 267120 w 266760"/>
                  <a:gd name="textAreaTop" fmla="*/ 0 h 276840"/>
                  <a:gd name="textAreaBottom" fmla="*/ 277200 h 276840"/>
                </a:gdLst>
                <a:ahLst/>
                <a:rect l="textAreaLeft" t="textAreaTop" r="textAreaRight" b="textAreaBottom"/>
                <a:pathLst>
                  <a:path w="266827" h="276607">
                    <a:moveTo>
                      <a:pt x="0" y="13843"/>
                    </a:moveTo>
                    <a:lnTo>
                      <a:pt x="13080" y="0"/>
                    </a:lnTo>
                    <a:lnTo>
                      <a:pt x="266826" y="262510"/>
                    </a:lnTo>
                    <a:lnTo>
                      <a:pt x="253872" y="276606"/>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65" name="Freeform 17"/>
              <p:cNvSpPr/>
              <p:nvPr/>
            </p:nvSpPr>
            <p:spPr>
              <a:xfrm>
                <a:off x="9352080" y="3612600"/>
                <a:ext cx="266760" cy="276840"/>
              </a:xfrm>
              <a:custGeom>
                <a:avLst/>
                <a:gdLst>
                  <a:gd name="textAreaLeft" fmla="*/ 0 w 266760"/>
                  <a:gd name="textAreaRight" fmla="*/ 267120 w 266760"/>
                  <a:gd name="textAreaTop" fmla="*/ 0 h 276840"/>
                  <a:gd name="textAreaBottom" fmla="*/ 277200 h 276840"/>
                </a:gdLst>
                <a:ahLst/>
                <a:rect l="textAreaLeft" t="textAreaTop" r="textAreaRight" b="textAreaBottom"/>
                <a:pathLst>
                  <a:path w="266828" h="276607">
                    <a:moveTo>
                      <a:pt x="266827" y="262508"/>
                    </a:moveTo>
                    <a:lnTo>
                      <a:pt x="253872" y="276606"/>
                    </a:lnTo>
                    <a:lnTo>
                      <a:pt x="0" y="13969"/>
                    </a:lnTo>
                    <a:lnTo>
                      <a:pt x="12827"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66" name="Freeform 18"/>
              <p:cNvSpPr/>
              <p:nvPr/>
            </p:nvSpPr>
            <p:spPr>
              <a:xfrm>
                <a:off x="9348480" y="3864600"/>
                <a:ext cx="266760" cy="276840"/>
              </a:xfrm>
              <a:custGeom>
                <a:avLst/>
                <a:gdLst>
                  <a:gd name="textAreaLeft" fmla="*/ 0 w 266760"/>
                  <a:gd name="textAreaRight" fmla="*/ 267120 w 266760"/>
                  <a:gd name="textAreaTop" fmla="*/ 0 h 276840"/>
                  <a:gd name="textAreaBottom" fmla="*/ 277200 h 276840"/>
                </a:gdLst>
                <a:ahLst/>
                <a:rect l="textAreaLeft" t="textAreaTop" r="textAreaRight" b="textAreaBottom"/>
                <a:pathLst>
                  <a:path w="266954" h="276479">
                    <a:moveTo>
                      <a:pt x="253873" y="0"/>
                    </a:moveTo>
                    <a:lnTo>
                      <a:pt x="266953" y="13970"/>
                    </a:lnTo>
                    <a:lnTo>
                      <a:pt x="13080" y="276478"/>
                    </a:lnTo>
                    <a:lnTo>
                      <a:pt x="0" y="2625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967" name="Freeform 20"/>
            <p:cNvSpPr/>
            <p:nvPr/>
          </p:nvSpPr>
          <p:spPr>
            <a:xfrm>
              <a:off x="8948520" y="3628440"/>
              <a:ext cx="20880" cy="417600"/>
            </a:xfrm>
            <a:custGeom>
              <a:avLst/>
              <a:gdLst>
                <a:gd name="textAreaLeft" fmla="*/ 0 w 20880"/>
                <a:gd name="textAreaRight" fmla="*/ 21240 w 20880"/>
                <a:gd name="textAreaTop" fmla="*/ 0 h 417600"/>
                <a:gd name="textAreaBottom" fmla="*/ 417960 h 417600"/>
              </a:gdLst>
              <a:ahLst/>
              <a:rect l="textAreaLeft" t="textAreaTop" r="textAreaRight" b="textAreaBottom"/>
              <a:pathLst>
                <a:path w="21210" h="416943">
                  <a:moveTo>
                    <a:pt x="0" y="0"/>
                  </a:moveTo>
                  <a:lnTo>
                    <a:pt x="21209" y="0"/>
                  </a:lnTo>
                  <a:lnTo>
                    <a:pt x="21209"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68" name="Freeform 21"/>
            <p:cNvSpPr/>
            <p:nvPr/>
          </p:nvSpPr>
          <p:spPr>
            <a:xfrm>
              <a:off x="8169840" y="3628440"/>
              <a:ext cx="20880" cy="417600"/>
            </a:xfrm>
            <a:custGeom>
              <a:avLst/>
              <a:gdLst>
                <a:gd name="textAreaLeft" fmla="*/ 0 w 20880"/>
                <a:gd name="textAreaRight" fmla="*/ 21240 w 20880"/>
                <a:gd name="textAreaTop" fmla="*/ 0 h 417600"/>
                <a:gd name="textAreaBottom" fmla="*/ 417960 h 417600"/>
              </a:gdLst>
              <a:ahLst/>
              <a:rect l="textAreaLeft" t="textAreaTop" r="textAreaRight" b="textAreaBottom"/>
              <a:pathLst>
                <a:path w="21084" h="416943">
                  <a:moveTo>
                    <a:pt x="0" y="0"/>
                  </a:moveTo>
                  <a:lnTo>
                    <a:pt x="21083" y="0"/>
                  </a:lnTo>
                  <a:lnTo>
                    <a:pt x="21083"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69" name="Freeform 22"/>
            <p:cNvSpPr/>
            <p:nvPr/>
          </p:nvSpPr>
          <p:spPr>
            <a:xfrm>
              <a:off x="7343640" y="3628440"/>
              <a:ext cx="20880" cy="417600"/>
            </a:xfrm>
            <a:custGeom>
              <a:avLst/>
              <a:gdLst>
                <a:gd name="textAreaLeft" fmla="*/ 0 w 20880"/>
                <a:gd name="textAreaRight" fmla="*/ 21240 w 20880"/>
                <a:gd name="textAreaTop" fmla="*/ 0 h 417600"/>
                <a:gd name="textAreaBottom" fmla="*/ 417960 h 417600"/>
              </a:gdLst>
              <a:ahLst/>
              <a:rect l="textAreaLeft" t="textAreaTop" r="textAreaRight" b="textAreaBottom"/>
              <a:pathLst>
                <a:path w="21084" h="416943">
                  <a:moveTo>
                    <a:pt x="0" y="0"/>
                  </a:moveTo>
                  <a:lnTo>
                    <a:pt x="21083" y="0"/>
                  </a:lnTo>
                  <a:lnTo>
                    <a:pt x="21083"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0" name="Freeform 23"/>
            <p:cNvSpPr/>
            <p:nvPr/>
          </p:nvSpPr>
          <p:spPr>
            <a:xfrm>
              <a:off x="6564960" y="3628440"/>
              <a:ext cx="20880" cy="417600"/>
            </a:xfrm>
            <a:custGeom>
              <a:avLst/>
              <a:gdLst>
                <a:gd name="textAreaLeft" fmla="*/ 0 w 20880"/>
                <a:gd name="textAreaRight" fmla="*/ 21240 w 20880"/>
                <a:gd name="textAreaTop" fmla="*/ 0 h 417600"/>
                <a:gd name="textAreaBottom" fmla="*/ 417960 h 417600"/>
              </a:gdLst>
              <a:ahLst/>
              <a:rect l="textAreaLeft" t="textAreaTop" r="textAreaRight" b="textAreaBottom"/>
              <a:pathLst>
                <a:path w="21084" h="416943">
                  <a:moveTo>
                    <a:pt x="0" y="0"/>
                  </a:moveTo>
                  <a:lnTo>
                    <a:pt x="21083" y="0"/>
                  </a:lnTo>
                  <a:lnTo>
                    <a:pt x="21083"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1" name="Freeform 24"/>
            <p:cNvSpPr/>
            <p:nvPr/>
          </p:nvSpPr>
          <p:spPr>
            <a:xfrm>
              <a:off x="5786280" y="3628440"/>
              <a:ext cx="20880" cy="417600"/>
            </a:xfrm>
            <a:custGeom>
              <a:avLst/>
              <a:gdLst>
                <a:gd name="textAreaLeft" fmla="*/ 0 w 20880"/>
                <a:gd name="textAreaRight" fmla="*/ 21240 w 20880"/>
                <a:gd name="textAreaTop" fmla="*/ 0 h 417600"/>
                <a:gd name="textAreaBottom" fmla="*/ 417960 h 417600"/>
              </a:gdLst>
              <a:ahLst/>
              <a:rect l="textAreaLeft" t="textAreaTop" r="textAreaRight" b="textAreaBottom"/>
              <a:pathLst>
                <a:path w="21211" h="416943">
                  <a:moveTo>
                    <a:pt x="0" y="0"/>
                  </a:moveTo>
                  <a:lnTo>
                    <a:pt x="21210" y="0"/>
                  </a:lnTo>
                  <a:lnTo>
                    <a:pt x="21210"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2" name="Freeform 25"/>
            <p:cNvSpPr/>
            <p:nvPr/>
          </p:nvSpPr>
          <p:spPr>
            <a:xfrm>
              <a:off x="4165560" y="3645720"/>
              <a:ext cx="20880" cy="417600"/>
            </a:xfrm>
            <a:custGeom>
              <a:avLst/>
              <a:gdLst>
                <a:gd name="textAreaLeft" fmla="*/ 0 w 20880"/>
                <a:gd name="textAreaRight" fmla="*/ 21240 w 20880"/>
                <a:gd name="textAreaTop" fmla="*/ 0 h 417600"/>
                <a:gd name="textAreaBottom" fmla="*/ 417960 h 417600"/>
              </a:gdLst>
              <a:ahLst/>
              <a:rect l="textAreaLeft" t="textAreaTop" r="textAreaRight" b="textAreaBottom"/>
              <a:pathLst>
                <a:path w="21209" h="416943">
                  <a:moveTo>
                    <a:pt x="0" y="0"/>
                  </a:moveTo>
                  <a:lnTo>
                    <a:pt x="21208" y="0"/>
                  </a:lnTo>
                  <a:lnTo>
                    <a:pt x="21208"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3" name="Freeform 26"/>
            <p:cNvSpPr/>
            <p:nvPr/>
          </p:nvSpPr>
          <p:spPr>
            <a:xfrm>
              <a:off x="3387240" y="3645720"/>
              <a:ext cx="20880" cy="417600"/>
            </a:xfrm>
            <a:custGeom>
              <a:avLst/>
              <a:gdLst>
                <a:gd name="textAreaLeft" fmla="*/ 0 w 20880"/>
                <a:gd name="textAreaRight" fmla="*/ 20880 w 20880"/>
                <a:gd name="textAreaTop" fmla="*/ 0 h 417600"/>
                <a:gd name="textAreaBottom" fmla="*/ 417960 h 417600"/>
              </a:gdLst>
              <a:ahLst/>
              <a:rect l="textAreaLeft" t="textAreaTop" r="textAreaRight" b="textAreaBottom"/>
              <a:pathLst>
                <a:path w="21083" h="416943">
                  <a:moveTo>
                    <a:pt x="0" y="0"/>
                  </a:moveTo>
                  <a:lnTo>
                    <a:pt x="21082" y="0"/>
                  </a:lnTo>
                  <a:lnTo>
                    <a:pt x="21082"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4" name="Freeform 27"/>
            <p:cNvSpPr/>
            <p:nvPr/>
          </p:nvSpPr>
          <p:spPr>
            <a:xfrm>
              <a:off x="2560680" y="3645720"/>
              <a:ext cx="20880" cy="417600"/>
            </a:xfrm>
            <a:custGeom>
              <a:avLst/>
              <a:gdLst>
                <a:gd name="textAreaLeft" fmla="*/ 0 w 20880"/>
                <a:gd name="textAreaRight" fmla="*/ 21240 w 20880"/>
                <a:gd name="textAreaTop" fmla="*/ 0 h 417600"/>
                <a:gd name="textAreaBottom" fmla="*/ 417960 h 417600"/>
              </a:gdLst>
              <a:ahLst/>
              <a:rect l="textAreaLeft" t="textAreaTop" r="textAreaRight" b="textAreaBottom"/>
              <a:pathLst>
                <a:path w="21211" h="416943">
                  <a:moveTo>
                    <a:pt x="0" y="0"/>
                  </a:moveTo>
                  <a:lnTo>
                    <a:pt x="21210" y="0"/>
                  </a:lnTo>
                  <a:lnTo>
                    <a:pt x="21210"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5" name="Freeform 28"/>
            <p:cNvSpPr/>
            <p:nvPr/>
          </p:nvSpPr>
          <p:spPr>
            <a:xfrm>
              <a:off x="1782360" y="3645720"/>
              <a:ext cx="20880" cy="417600"/>
            </a:xfrm>
            <a:custGeom>
              <a:avLst/>
              <a:gdLst>
                <a:gd name="textAreaLeft" fmla="*/ 0 w 20880"/>
                <a:gd name="textAreaRight" fmla="*/ 21240 w 20880"/>
                <a:gd name="textAreaTop" fmla="*/ 0 h 417600"/>
                <a:gd name="textAreaBottom" fmla="*/ 417960 h 417600"/>
              </a:gdLst>
              <a:ahLst/>
              <a:rect l="textAreaLeft" t="textAreaTop" r="textAreaRight" b="textAreaBottom"/>
              <a:pathLst>
                <a:path w="21082" h="416943">
                  <a:moveTo>
                    <a:pt x="0" y="0"/>
                  </a:moveTo>
                  <a:lnTo>
                    <a:pt x="21081" y="0"/>
                  </a:lnTo>
                  <a:lnTo>
                    <a:pt x="21081"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6" name="Freeform 29"/>
            <p:cNvSpPr/>
            <p:nvPr/>
          </p:nvSpPr>
          <p:spPr>
            <a:xfrm>
              <a:off x="1003680" y="3645720"/>
              <a:ext cx="20880" cy="417600"/>
            </a:xfrm>
            <a:custGeom>
              <a:avLst/>
              <a:gdLst>
                <a:gd name="textAreaLeft" fmla="*/ 0 w 20880"/>
                <a:gd name="textAreaRight" fmla="*/ 21240 w 20880"/>
                <a:gd name="textAreaTop" fmla="*/ 0 h 417600"/>
                <a:gd name="textAreaBottom" fmla="*/ 417960 h 417600"/>
              </a:gdLst>
              <a:ahLst/>
              <a:rect l="textAreaLeft" t="textAreaTop" r="textAreaRight" b="textAreaBottom"/>
              <a:pathLst>
                <a:path w="21082" h="416943">
                  <a:moveTo>
                    <a:pt x="0" y="0"/>
                  </a:moveTo>
                  <a:lnTo>
                    <a:pt x="21081" y="0"/>
                  </a:lnTo>
                  <a:lnTo>
                    <a:pt x="21081"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7" name="Freeform 30"/>
            <p:cNvSpPr/>
            <p:nvPr/>
          </p:nvSpPr>
          <p:spPr>
            <a:xfrm>
              <a:off x="4975920" y="3628440"/>
              <a:ext cx="20880" cy="417600"/>
            </a:xfrm>
            <a:custGeom>
              <a:avLst/>
              <a:gdLst>
                <a:gd name="textAreaLeft" fmla="*/ 0 w 20880"/>
                <a:gd name="textAreaRight" fmla="*/ 20880 w 20880"/>
                <a:gd name="textAreaTop" fmla="*/ 0 h 417600"/>
                <a:gd name="textAreaBottom" fmla="*/ 417960 h 417600"/>
              </a:gdLst>
              <a:ahLst/>
              <a:rect l="textAreaLeft" t="textAreaTop" r="textAreaRight" b="textAreaBottom"/>
              <a:pathLst>
                <a:path w="21083" h="416943">
                  <a:moveTo>
                    <a:pt x="0" y="0"/>
                  </a:moveTo>
                  <a:lnTo>
                    <a:pt x="21082" y="0"/>
                  </a:lnTo>
                  <a:lnTo>
                    <a:pt x="21082"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8" name="Freeform 31"/>
            <p:cNvSpPr/>
            <p:nvPr/>
          </p:nvSpPr>
          <p:spPr>
            <a:xfrm>
              <a:off x="3005640" y="3645720"/>
              <a:ext cx="20880" cy="417600"/>
            </a:xfrm>
            <a:custGeom>
              <a:avLst/>
              <a:gdLst>
                <a:gd name="textAreaLeft" fmla="*/ 0 w 20880"/>
                <a:gd name="textAreaRight" fmla="*/ 21240 w 20880"/>
                <a:gd name="textAreaTop" fmla="*/ 0 h 417600"/>
                <a:gd name="textAreaBottom" fmla="*/ 417960 h 417600"/>
              </a:gdLst>
              <a:ahLst/>
              <a:rect l="textAreaLeft" t="textAreaTop" r="textAreaRight" b="textAreaBottom"/>
              <a:pathLst>
                <a:path w="21211" h="416943">
                  <a:moveTo>
                    <a:pt x="0" y="0"/>
                  </a:moveTo>
                  <a:lnTo>
                    <a:pt x="21210" y="0"/>
                  </a:lnTo>
                  <a:lnTo>
                    <a:pt x="21210"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9" name="Freeform 32"/>
            <p:cNvSpPr/>
            <p:nvPr/>
          </p:nvSpPr>
          <p:spPr>
            <a:xfrm>
              <a:off x="2179440" y="3645720"/>
              <a:ext cx="20880" cy="417600"/>
            </a:xfrm>
            <a:custGeom>
              <a:avLst/>
              <a:gdLst>
                <a:gd name="textAreaLeft" fmla="*/ 0 w 20880"/>
                <a:gd name="textAreaRight" fmla="*/ 21240 w 20880"/>
                <a:gd name="textAreaTop" fmla="*/ 0 h 417600"/>
                <a:gd name="textAreaBottom" fmla="*/ 417960 h 417600"/>
              </a:gdLst>
              <a:ahLst/>
              <a:rect l="textAreaLeft" t="textAreaTop" r="textAreaRight" b="textAreaBottom"/>
              <a:pathLst>
                <a:path w="21082" h="416943">
                  <a:moveTo>
                    <a:pt x="0" y="0"/>
                  </a:moveTo>
                  <a:lnTo>
                    <a:pt x="21081" y="0"/>
                  </a:lnTo>
                  <a:lnTo>
                    <a:pt x="21081"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0" name="Freeform 33"/>
            <p:cNvSpPr/>
            <p:nvPr/>
          </p:nvSpPr>
          <p:spPr>
            <a:xfrm>
              <a:off x="1400760" y="3645720"/>
              <a:ext cx="20880" cy="417600"/>
            </a:xfrm>
            <a:custGeom>
              <a:avLst/>
              <a:gdLst>
                <a:gd name="textAreaLeft" fmla="*/ 0 w 20880"/>
                <a:gd name="textAreaRight" fmla="*/ 21240 w 20880"/>
                <a:gd name="textAreaTop" fmla="*/ 0 h 417600"/>
                <a:gd name="textAreaBottom" fmla="*/ 417960 h 417600"/>
              </a:gdLst>
              <a:ahLst/>
              <a:rect l="textAreaLeft" t="textAreaTop" r="textAreaRight" b="textAreaBottom"/>
              <a:pathLst>
                <a:path w="21210" h="416943">
                  <a:moveTo>
                    <a:pt x="0" y="0"/>
                  </a:moveTo>
                  <a:lnTo>
                    <a:pt x="21209" y="0"/>
                  </a:lnTo>
                  <a:lnTo>
                    <a:pt x="21209"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1" name="Freeform 34"/>
            <p:cNvSpPr/>
            <p:nvPr/>
          </p:nvSpPr>
          <p:spPr>
            <a:xfrm>
              <a:off x="6152040" y="3628440"/>
              <a:ext cx="20880" cy="417600"/>
            </a:xfrm>
            <a:custGeom>
              <a:avLst/>
              <a:gdLst>
                <a:gd name="textAreaLeft" fmla="*/ 0 w 20880"/>
                <a:gd name="textAreaRight" fmla="*/ 20880 w 20880"/>
                <a:gd name="textAreaTop" fmla="*/ 0 h 417600"/>
                <a:gd name="textAreaBottom" fmla="*/ 417960 h 417600"/>
              </a:gdLst>
              <a:ahLst/>
              <a:rect l="textAreaLeft" t="textAreaTop" r="textAreaRight" b="textAreaBottom"/>
              <a:pathLst>
                <a:path w="21083" h="416943">
                  <a:moveTo>
                    <a:pt x="0" y="0"/>
                  </a:moveTo>
                  <a:lnTo>
                    <a:pt x="21082" y="0"/>
                  </a:lnTo>
                  <a:lnTo>
                    <a:pt x="21082"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2" name="Freeform 35"/>
            <p:cNvSpPr/>
            <p:nvPr/>
          </p:nvSpPr>
          <p:spPr>
            <a:xfrm>
              <a:off x="5373360" y="3628440"/>
              <a:ext cx="20880" cy="417600"/>
            </a:xfrm>
            <a:custGeom>
              <a:avLst/>
              <a:gdLst>
                <a:gd name="textAreaLeft" fmla="*/ 0 w 20880"/>
                <a:gd name="textAreaRight" fmla="*/ 20880 w 20880"/>
                <a:gd name="textAreaTop" fmla="*/ 0 h 417600"/>
                <a:gd name="textAreaBottom" fmla="*/ 417960 h 417600"/>
              </a:gdLst>
              <a:ahLst/>
              <a:rect l="textAreaLeft" t="textAreaTop" r="textAreaRight" b="textAreaBottom"/>
              <a:pathLst>
                <a:path w="21083" h="416943">
                  <a:moveTo>
                    <a:pt x="0" y="0"/>
                  </a:moveTo>
                  <a:lnTo>
                    <a:pt x="21082" y="0"/>
                  </a:lnTo>
                  <a:lnTo>
                    <a:pt x="21082"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3" name="Freeform 36"/>
            <p:cNvSpPr/>
            <p:nvPr/>
          </p:nvSpPr>
          <p:spPr>
            <a:xfrm>
              <a:off x="4547160" y="3628440"/>
              <a:ext cx="20880" cy="417600"/>
            </a:xfrm>
            <a:custGeom>
              <a:avLst/>
              <a:gdLst>
                <a:gd name="textAreaLeft" fmla="*/ 0 w 20880"/>
                <a:gd name="textAreaRight" fmla="*/ 20880 w 20880"/>
                <a:gd name="textAreaTop" fmla="*/ 0 h 417600"/>
                <a:gd name="textAreaBottom" fmla="*/ 417960 h 417600"/>
              </a:gdLst>
              <a:ahLst/>
              <a:rect l="textAreaLeft" t="textAreaTop" r="textAreaRight" b="textAreaBottom"/>
              <a:pathLst>
                <a:path w="21083" h="416943">
                  <a:moveTo>
                    <a:pt x="0" y="0"/>
                  </a:moveTo>
                  <a:lnTo>
                    <a:pt x="21082" y="0"/>
                  </a:lnTo>
                  <a:lnTo>
                    <a:pt x="21082"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4" name="Freeform 37"/>
            <p:cNvSpPr/>
            <p:nvPr/>
          </p:nvSpPr>
          <p:spPr>
            <a:xfrm>
              <a:off x="3768480" y="3628440"/>
              <a:ext cx="20880" cy="417600"/>
            </a:xfrm>
            <a:custGeom>
              <a:avLst/>
              <a:gdLst>
                <a:gd name="textAreaLeft" fmla="*/ 0 w 20880"/>
                <a:gd name="textAreaRight" fmla="*/ 20880 w 20880"/>
                <a:gd name="textAreaTop" fmla="*/ 0 h 417600"/>
                <a:gd name="textAreaBottom" fmla="*/ 417960 h 417600"/>
              </a:gdLst>
              <a:ahLst/>
              <a:rect l="textAreaLeft" t="textAreaTop" r="textAreaRight" b="textAreaBottom"/>
              <a:pathLst>
                <a:path w="21083" h="416943">
                  <a:moveTo>
                    <a:pt x="0" y="0"/>
                  </a:moveTo>
                  <a:lnTo>
                    <a:pt x="21082" y="0"/>
                  </a:lnTo>
                  <a:lnTo>
                    <a:pt x="21082"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5" name="Freeform 38"/>
            <p:cNvSpPr/>
            <p:nvPr/>
          </p:nvSpPr>
          <p:spPr>
            <a:xfrm>
              <a:off x="8519400" y="3645720"/>
              <a:ext cx="20880" cy="417600"/>
            </a:xfrm>
            <a:custGeom>
              <a:avLst/>
              <a:gdLst>
                <a:gd name="textAreaLeft" fmla="*/ 0 w 20880"/>
                <a:gd name="textAreaRight" fmla="*/ 21240 w 20880"/>
                <a:gd name="textAreaTop" fmla="*/ 0 h 417600"/>
                <a:gd name="textAreaBottom" fmla="*/ 417960 h 417600"/>
              </a:gdLst>
              <a:ahLst/>
              <a:rect l="textAreaLeft" t="textAreaTop" r="textAreaRight" b="textAreaBottom"/>
              <a:pathLst>
                <a:path w="21210" h="416943">
                  <a:moveTo>
                    <a:pt x="0" y="0"/>
                  </a:moveTo>
                  <a:lnTo>
                    <a:pt x="21209" y="0"/>
                  </a:lnTo>
                  <a:lnTo>
                    <a:pt x="21209"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6" name="Freeform 39"/>
            <p:cNvSpPr/>
            <p:nvPr/>
          </p:nvSpPr>
          <p:spPr>
            <a:xfrm>
              <a:off x="7740720" y="3645720"/>
              <a:ext cx="20880" cy="417600"/>
            </a:xfrm>
            <a:custGeom>
              <a:avLst/>
              <a:gdLst>
                <a:gd name="textAreaLeft" fmla="*/ 0 w 20880"/>
                <a:gd name="textAreaRight" fmla="*/ 21240 w 20880"/>
                <a:gd name="textAreaTop" fmla="*/ 0 h 417600"/>
                <a:gd name="textAreaBottom" fmla="*/ 417960 h 417600"/>
              </a:gdLst>
              <a:ahLst/>
              <a:rect l="textAreaLeft" t="textAreaTop" r="textAreaRight" b="textAreaBottom"/>
              <a:pathLst>
                <a:path w="21082" h="416943">
                  <a:moveTo>
                    <a:pt x="0" y="0"/>
                  </a:moveTo>
                  <a:lnTo>
                    <a:pt x="21081" y="0"/>
                  </a:lnTo>
                  <a:lnTo>
                    <a:pt x="21081"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7" name="Freeform 40"/>
            <p:cNvSpPr/>
            <p:nvPr/>
          </p:nvSpPr>
          <p:spPr>
            <a:xfrm>
              <a:off x="6962400" y="3645720"/>
              <a:ext cx="20880" cy="417600"/>
            </a:xfrm>
            <a:custGeom>
              <a:avLst/>
              <a:gdLst>
                <a:gd name="textAreaLeft" fmla="*/ 0 w 20880"/>
                <a:gd name="textAreaRight" fmla="*/ 21240 w 20880"/>
                <a:gd name="textAreaTop" fmla="*/ 0 h 417600"/>
                <a:gd name="textAreaBottom" fmla="*/ 417960 h 417600"/>
              </a:gdLst>
              <a:ahLst/>
              <a:rect l="textAreaLeft" t="textAreaTop" r="textAreaRight" b="textAreaBottom"/>
              <a:pathLst>
                <a:path w="21082" h="416943">
                  <a:moveTo>
                    <a:pt x="0" y="0"/>
                  </a:moveTo>
                  <a:lnTo>
                    <a:pt x="21081" y="0"/>
                  </a:lnTo>
                  <a:lnTo>
                    <a:pt x="21081" y="416942"/>
                  </a:lnTo>
                  <a:lnTo>
                    <a:pt x="0" y="416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8" name="TextBox 41"/>
            <p:cNvSpPr/>
            <p:nvPr/>
          </p:nvSpPr>
          <p:spPr>
            <a:xfrm>
              <a:off x="4356000" y="4115160"/>
              <a:ext cx="5079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1</a:t>
              </a:r>
              <a:endParaRPr b="0" lang="en-US" sz="1500" spc="-1" strike="noStrike">
                <a:solidFill>
                  <a:srgbClr val="000000"/>
                </a:solidFill>
                <a:latin typeface="Calibri"/>
              </a:endParaRPr>
            </a:p>
          </p:txBody>
        </p:sp>
        <p:sp>
          <p:nvSpPr>
            <p:cNvPr id="989" name="TextBox 42"/>
            <p:cNvSpPr/>
            <p:nvPr/>
          </p:nvSpPr>
          <p:spPr>
            <a:xfrm>
              <a:off x="3962520" y="4115160"/>
              <a:ext cx="3808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2</a:t>
              </a:r>
              <a:endParaRPr b="0" lang="en-US" sz="1500" spc="-1" strike="noStrike">
                <a:solidFill>
                  <a:srgbClr val="000000"/>
                </a:solidFill>
                <a:latin typeface="Calibri"/>
              </a:endParaRPr>
            </a:p>
          </p:txBody>
        </p:sp>
        <p:sp>
          <p:nvSpPr>
            <p:cNvPr id="990" name="TextBox 43"/>
            <p:cNvSpPr/>
            <p:nvPr/>
          </p:nvSpPr>
          <p:spPr>
            <a:xfrm>
              <a:off x="3556080" y="411516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3</a:t>
              </a:r>
              <a:endParaRPr b="0" lang="en-US" sz="1500" spc="-1" strike="noStrike">
                <a:solidFill>
                  <a:srgbClr val="000000"/>
                </a:solidFill>
                <a:latin typeface="Calibri"/>
              </a:endParaRPr>
            </a:p>
          </p:txBody>
        </p:sp>
        <p:sp>
          <p:nvSpPr>
            <p:cNvPr id="991" name="TextBox 44"/>
            <p:cNvSpPr/>
            <p:nvPr/>
          </p:nvSpPr>
          <p:spPr>
            <a:xfrm>
              <a:off x="3162240" y="411516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4</a:t>
              </a:r>
              <a:endParaRPr b="0" lang="en-US" sz="1500" spc="-1" strike="noStrike">
                <a:solidFill>
                  <a:srgbClr val="000000"/>
                </a:solidFill>
                <a:latin typeface="Calibri"/>
              </a:endParaRPr>
            </a:p>
          </p:txBody>
        </p:sp>
        <p:sp>
          <p:nvSpPr>
            <p:cNvPr id="992" name="TextBox 45"/>
            <p:cNvSpPr/>
            <p:nvPr/>
          </p:nvSpPr>
          <p:spPr>
            <a:xfrm>
              <a:off x="2793960" y="411516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5</a:t>
              </a:r>
              <a:endParaRPr b="0" lang="en-US" sz="1500" spc="-1" strike="noStrike">
                <a:solidFill>
                  <a:srgbClr val="000000"/>
                </a:solidFill>
                <a:latin typeface="Calibri"/>
              </a:endParaRPr>
            </a:p>
          </p:txBody>
        </p:sp>
        <p:sp>
          <p:nvSpPr>
            <p:cNvPr id="993" name="TextBox 46"/>
            <p:cNvSpPr/>
            <p:nvPr/>
          </p:nvSpPr>
          <p:spPr>
            <a:xfrm>
              <a:off x="2374920" y="411516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6</a:t>
              </a:r>
              <a:endParaRPr b="0" lang="en-US" sz="1500" spc="-1" strike="noStrike">
                <a:solidFill>
                  <a:srgbClr val="000000"/>
                </a:solidFill>
                <a:latin typeface="Calibri"/>
              </a:endParaRPr>
            </a:p>
          </p:txBody>
        </p:sp>
        <p:sp>
          <p:nvSpPr>
            <p:cNvPr id="994" name="TextBox 47"/>
            <p:cNvSpPr/>
            <p:nvPr/>
          </p:nvSpPr>
          <p:spPr>
            <a:xfrm>
              <a:off x="1968480" y="411516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7</a:t>
              </a:r>
              <a:endParaRPr b="0" lang="en-US" sz="1500" spc="-1" strike="noStrike">
                <a:solidFill>
                  <a:srgbClr val="000000"/>
                </a:solidFill>
                <a:latin typeface="Calibri"/>
              </a:endParaRPr>
            </a:p>
          </p:txBody>
        </p:sp>
        <p:sp>
          <p:nvSpPr>
            <p:cNvPr id="995" name="TextBox 48"/>
            <p:cNvSpPr/>
            <p:nvPr/>
          </p:nvSpPr>
          <p:spPr>
            <a:xfrm>
              <a:off x="1587240" y="411516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8</a:t>
              </a:r>
              <a:endParaRPr b="0" lang="en-US" sz="1500" spc="-1" strike="noStrike">
                <a:solidFill>
                  <a:srgbClr val="000000"/>
                </a:solidFill>
                <a:latin typeface="Calibri"/>
              </a:endParaRPr>
            </a:p>
          </p:txBody>
        </p:sp>
        <p:sp>
          <p:nvSpPr>
            <p:cNvPr id="996" name="TextBox 49"/>
            <p:cNvSpPr/>
            <p:nvPr/>
          </p:nvSpPr>
          <p:spPr>
            <a:xfrm>
              <a:off x="1193760" y="411516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2"/>
                </a:rPr>
                <a:t>-9</a:t>
              </a:r>
              <a:endParaRPr b="0" lang="en-US" sz="1500" spc="-1" strike="noStrike">
                <a:solidFill>
                  <a:srgbClr val="000000"/>
                </a:solidFill>
                <a:latin typeface="Calibri"/>
              </a:endParaRPr>
            </a:p>
          </p:txBody>
        </p:sp>
        <p:sp>
          <p:nvSpPr>
            <p:cNvPr id="997" name="TextBox 50"/>
            <p:cNvSpPr/>
            <p:nvPr/>
          </p:nvSpPr>
          <p:spPr>
            <a:xfrm>
              <a:off x="723600" y="4115160"/>
              <a:ext cx="660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 12"/>
                </a:rPr>
                <a:t>-10</a:t>
              </a:r>
              <a:endParaRPr b="0" lang="en-US" sz="1400" spc="-1" strike="noStrike">
                <a:solidFill>
                  <a:srgbClr val="000000"/>
                </a:solidFill>
                <a:latin typeface="Calibri"/>
              </a:endParaRPr>
            </a:p>
          </p:txBody>
        </p:sp>
      </p:grpSp>
      <p:sp>
        <p:nvSpPr>
          <p:cNvPr id="998" name="Straight Connector 52"/>
          <p:cNvSpPr/>
          <p:nvPr/>
        </p:nvSpPr>
        <p:spPr>
          <a:xfrm>
            <a:off x="723960" y="5079960"/>
            <a:ext cx="571320" cy="0"/>
          </a:xfrm>
          <a:prstGeom prst="line">
            <a:avLst/>
          </a:prstGeom>
          <a:ln w="3816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9" name="Straight Connector 53"/>
          <p:cNvSpPr/>
          <p:nvPr/>
        </p:nvSpPr>
        <p:spPr>
          <a:xfrm flipH="1">
            <a:off x="736560" y="5460840"/>
            <a:ext cx="596880" cy="0"/>
          </a:xfrm>
          <a:prstGeom prst="line">
            <a:avLst/>
          </a:prstGeom>
          <a:ln w="3816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0" name="TextBox 54"/>
          <p:cNvSpPr/>
          <p:nvPr/>
        </p:nvSpPr>
        <p:spPr>
          <a:xfrm>
            <a:off x="2260440" y="5638680"/>
            <a:ext cx="485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ff"/>
                </a:solidFill>
                <a:latin typeface="Comic Sans MS - 24"/>
              </a:rPr>
              <a:t>Try "Show You Know" on p. 33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TextBox 1"/>
          <p:cNvSpPr/>
          <p:nvPr/>
        </p:nvSpPr>
        <p:spPr>
          <a:xfrm>
            <a:off x="533520" y="1333440"/>
            <a:ext cx="4089240" cy="224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ff"/>
                </a:solidFill>
                <a:latin typeface="Comic Sans MS - 48"/>
              </a:rPr>
              <a:t>(+3) - (+6) =</a:t>
            </a:r>
            <a:endParaRPr b="0" lang="en-US" sz="4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ff"/>
                </a:solidFill>
                <a:latin typeface="Comic Sans MS - 48"/>
              </a:rPr>
              <a:t>(-2) - (+3) =</a:t>
            </a:r>
            <a:endParaRPr b="0" lang="en-US" sz="4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ff"/>
                </a:solidFill>
                <a:latin typeface="Comic Sans MS - 48"/>
              </a:rPr>
              <a:t>(-4) - (-8) =</a:t>
            </a:r>
            <a:endParaRPr b="0" lang="en-US" sz="4700" spc="-1" strike="noStrike">
              <a:solidFill>
                <a:srgbClr val="000000"/>
              </a:solidFill>
              <a:latin typeface="Calibri"/>
            </a:endParaRPr>
          </a:p>
        </p:txBody>
      </p:sp>
      <p:sp>
        <p:nvSpPr>
          <p:cNvPr id="1002" name="TextBox 2"/>
          <p:cNvSpPr/>
          <p:nvPr/>
        </p:nvSpPr>
        <p:spPr>
          <a:xfrm>
            <a:off x="431640" y="0"/>
            <a:ext cx="7594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ff"/>
                </a:solidFill>
                <a:latin typeface="Comic Sans MS - 72"/>
              </a:rPr>
              <a:t>Show You Know</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TextBox 1"/>
          <p:cNvSpPr/>
          <p:nvPr/>
        </p:nvSpPr>
        <p:spPr>
          <a:xfrm>
            <a:off x="101520" y="216000"/>
            <a:ext cx="10185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ff"/>
                </a:solidFill>
                <a:latin typeface="Comic Sans MS - 36"/>
              </a:rPr>
              <a:t>Example 2: Calculate and Explain a Difference</a:t>
            </a:r>
            <a:endParaRPr b="0" lang="en-US" sz="3600" spc="-1" strike="noStrike">
              <a:solidFill>
                <a:srgbClr val="000000"/>
              </a:solidFill>
              <a:latin typeface="Calibri"/>
            </a:endParaRPr>
          </a:p>
        </p:txBody>
      </p:sp>
      <p:sp>
        <p:nvSpPr>
          <p:cNvPr id="1004" name="TextBox 2"/>
          <p:cNvSpPr/>
          <p:nvPr/>
        </p:nvSpPr>
        <p:spPr>
          <a:xfrm>
            <a:off x="291960" y="939960"/>
            <a:ext cx="5004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ff"/>
                </a:solidFill>
                <a:latin typeface="Comic Sans MS - 24"/>
              </a:rPr>
              <a:t>The elevation of a lake is the height of its surface from sea level.  The elevation of the Caspian Sea is 28 m below sea level.  The elevation of Lake Winnipeg is 217m above sea level.  Calculate and explain the difference between these elevations.</a:t>
            </a:r>
            <a:endParaRPr b="0" lang="en-US" sz="2400" spc="-1" strike="noStrike">
              <a:solidFill>
                <a:srgbClr val="000000"/>
              </a:solidFill>
              <a:latin typeface="Calibri"/>
            </a:endParaRPr>
          </a:p>
        </p:txBody>
      </p:sp>
      <p:grpSp>
        <p:nvGrpSpPr>
          <p:cNvPr id="1005" name="Group 53"/>
          <p:cNvGrpSpPr/>
          <p:nvPr/>
        </p:nvGrpSpPr>
        <p:grpSpPr>
          <a:xfrm>
            <a:off x="6330960" y="797040"/>
            <a:ext cx="527040" cy="6084720"/>
            <a:chOff x="6330960" y="797040"/>
            <a:chExt cx="527040" cy="6084720"/>
          </a:xfrm>
        </p:grpSpPr>
        <p:grpSp>
          <p:nvGrpSpPr>
            <p:cNvPr id="1006" name="Group 51"/>
            <p:cNvGrpSpPr/>
            <p:nvPr/>
          </p:nvGrpSpPr>
          <p:grpSpPr>
            <a:xfrm>
              <a:off x="6330960" y="797040"/>
              <a:ext cx="527040" cy="6084720"/>
              <a:chOff x="6330960" y="797040"/>
              <a:chExt cx="527040" cy="6084720"/>
            </a:xfrm>
          </p:grpSpPr>
          <p:sp>
            <p:nvSpPr>
              <p:cNvPr id="1007" name="TextBox 3"/>
              <p:cNvSpPr/>
              <p:nvPr/>
            </p:nvSpPr>
            <p:spPr>
              <a:xfrm rot="16200000">
                <a:off x="6541560" y="33901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1</a:t>
                </a:r>
                <a:endParaRPr b="0" lang="en-US" sz="1000" spc="-1" strike="noStrike">
                  <a:solidFill>
                    <a:srgbClr val="000000"/>
                  </a:solidFill>
                  <a:latin typeface="Calibri"/>
                </a:endParaRPr>
              </a:p>
            </p:txBody>
          </p:sp>
          <p:sp>
            <p:nvSpPr>
              <p:cNvPr id="1008" name="TextBox 4"/>
              <p:cNvSpPr/>
              <p:nvPr/>
            </p:nvSpPr>
            <p:spPr>
              <a:xfrm rot="16200000">
                <a:off x="6548040" y="3675600"/>
                <a:ext cx="355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0</a:t>
                </a:r>
                <a:endParaRPr b="0" lang="en-US" sz="1000" spc="-1" strike="noStrike">
                  <a:solidFill>
                    <a:srgbClr val="000000"/>
                  </a:solidFill>
                  <a:latin typeface="Calibri"/>
                </a:endParaRPr>
              </a:p>
            </p:txBody>
          </p:sp>
          <p:sp>
            <p:nvSpPr>
              <p:cNvPr id="1009" name="TextBox 5"/>
              <p:cNvSpPr/>
              <p:nvPr/>
            </p:nvSpPr>
            <p:spPr>
              <a:xfrm rot="16200000">
                <a:off x="6567840" y="3160440"/>
                <a:ext cx="304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2</a:t>
                </a:r>
                <a:endParaRPr b="0" lang="en-US" sz="1000" spc="-1" strike="noStrike">
                  <a:solidFill>
                    <a:srgbClr val="000000"/>
                  </a:solidFill>
                  <a:latin typeface="Calibri"/>
                </a:endParaRPr>
              </a:p>
            </p:txBody>
          </p:sp>
          <p:sp>
            <p:nvSpPr>
              <p:cNvPr id="1010" name="TextBox 6"/>
              <p:cNvSpPr/>
              <p:nvPr/>
            </p:nvSpPr>
            <p:spPr>
              <a:xfrm rot="16200000">
                <a:off x="6528600" y="2857320"/>
                <a:ext cx="40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3</a:t>
                </a:r>
                <a:endParaRPr b="0" lang="en-US" sz="1000" spc="-1" strike="noStrike">
                  <a:solidFill>
                    <a:srgbClr val="000000"/>
                  </a:solidFill>
                  <a:latin typeface="Calibri"/>
                </a:endParaRPr>
              </a:p>
            </p:txBody>
          </p:sp>
          <p:sp>
            <p:nvSpPr>
              <p:cNvPr id="1011" name="TextBox 7"/>
              <p:cNvSpPr/>
              <p:nvPr/>
            </p:nvSpPr>
            <p:spPr>
              <a:xfrm rot="16200000">
                <a:off x="6528600" y="2603160"/>
                <a:ext cx="40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4</a:t>
                </a:r>
                <a:endParaRPr b="0" lang="en-US" sz="1000" spc="-1" strike="noStrike">
                  <a:solidFill>
                    <a:srgbClr val="000000"/>
                  </a:solidFill>
                  <a:latin typeface="Calibri"/>
                </a:endParaRPr>
              </a:p>
            </p:txBody>
          </p:sp>
          <p:sp>
            <p:nvSpPr>
              <p:cNvPr id="1012" name="TextBox 8"/>
              <p:cNvSpPr/>
              <p:nvPr/>
            </p:nvSpPr>
            <p:spPr>
              <a:xfrm rot="16200000">
                <a:off x="6528600" y="2336400"/>
                <a:ext cx="40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5</a:t>
                </a:r>
                <a:endParaRPr b="0" lang="en-US" sz="1000" spc="-1" strike="noStrike">
                  <a:solidFill>
                    <a:srgbClr val="000000"/>
                  </a:solidFill>
                  <a:latin typeface="Calibri"/>
                </a:endParaRPr>
              </a:p>
            </p:txBody>
          </p:sp>
          <p:sp>
            <p:nvSpPr>
              <p:cNvPr id="1013" name="TextBox 9"/>
              <p:cNvSpPr/>
              <p:nvPr/>
            </p:nvSpPr>
            <p:spPr>
              <a:xfrm rot="16200000">
                <a:off x="6528600" y="2095200"/>
                <a:ext cx="40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6</a:t>
                </a:r>
                <a:endParaRPr b="0" lang="en-US" sz="1000" spc="-1" strike="noStrike">
                  <a:solidFill>
                    <a:srgbClr val="000000"/>
                  </a:solidFill>
                  <a:latin typeface="Calibri"/>
                </a:endParaRPr>
              </a:p>
            </p:txBody>
          </p:sp>
          <p:sp>
            <p:nvSpPr>
              <p:cNvPr id="1014" name="TextBox 10"/>
              <p:cNvSpPr/>
              <p:nvPr/>
            </p:nvSpPr>
            <p:spPr>
              <a:xfrm rot="16200000">
                <a:off x="6528600" y="1828440"/>
                <a:ext cx="40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7</a:t>
                </a:r>
                <a:endParaRPr b="0" lang="en-US" sz="1000" spc="-1" strike="noStrike">
                  <a:solidFill>
                    <a:srgbClr val="000000"/>
                  </a:solidFill>
                  <a:latin typeface="Calibri"/>
                </a:endParaRPr>
              </a:p>
            </p:txBody>
          </p:sp>
          <p:sp>
            <p:nvSpPr>
              <p:cNvPr id="1015" name="TextBox 11"/>
              <p:cNvSpPr/>
              <p:nvPr/>
            </p:nvSpPr>
            <p:spPr>
              <a:xfrm rot="16200000">
                <a:off x="6515640" y="1561680"/>
                <a:ext cx="40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8</a:t>
                </a:r>
                <a:endParaRPr b="0" lang="en-US" sz="1000" spc="-1" strike="noStrike">
                  <a:solidFill>
                    <a:srgbClr val="000000"/>
                  </a:solidFill>
                  <a:latin typeface="Calibri"/>
                </a:endParaRPr>
              </a:p>
            </p:txBody>
          </p:sp>
          <p:sp>
            <p:nvSpPr>
              <p:cNvPr id="1016" name="TextBox 12"/>
              <p:cNvSpPr/>
              <p:nvPr/>
            </p:nvSpPr>
            <p:spPr>
              <a:xfrm rot="16200000">
                <a:off x="6515640" y="1307880"/>
                <a:ext cx="40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9</a:t>
                </a:r>
                <a:endParaRPr b="0" lang="en-US" sz="1000" spc="-1" strike="noStrike">
                  <a:solidFill>
                    <a:srgbClr val="000000"/>
                  </a:solidFill>
                  <a:latin typeface="Calibri"/>
                </a:endParaRPr>
              </a:p>
            </p:txBody>
          </p:sp>
          <p:sp>
            <p:nvSpPr>
              <p:cNvPr id="1017" name="TextBox 13"/>
              <p:cNvSpPr/>
              <p:nvPr/>
            </p:nvSpPr>
            <p:spPr>
              <a:xfrm rot="16200000">
                <a:off x="6468480" y="1024920"/>
                <a:ext cx="482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10</a:t>
                </a:r>
                <a:endParaRPr b="0" lang="en-US" sz="1000" spc="-1" strike="noStrike">
                  <a:solidFill>
                    <a:srgbClr val="000000"/>
                  </a:solidFill>
                  <a:latin typeface="Calibri"/>
                </a:endParaRPr>
              </a:p>
            </p:txBody>
          </p:sp>
          <p:grpSp>
            <p:nvGrpSpPr>
              <p:cNvPr id="1018" name="Group 19"/>
              <p:cNvGrpSpPr/>
              <p:nvPr/>
            </p:nvGrpSpPr>
            <p:grpSpPr>
              <a:xfrm>
                <a:off x="6330960" y="797040"/>
                <a:ext cx="291960" cy="6084720"/>
                <a:chOff x="6330960" y="797040"/>
                <a:chExt cx="291960" cy="6084720"/>
              </a:xfrm>
            </p:grpSpPr>
            <p:sp>
              <p:nvSpPr>
                <p:cNvPr id="1019" name="Freeform 14"/>
                <p:cNvSpPr/>
                <p:nvPr/>
              </p:nvSpPr>
              <p:spPr>
                <a:xfrm rot="16200000">
                  <a:off x="3438000" y="3830400"/>
                  <a:ext cx="6075000" cy="10800"/>
                </a:xfrm>
                <a:custGeom>
                  <a:avLst/>
                  <a:gdLst>
                    <a:gd name="textAreaLeft" fmla="*/ 0 w 6075000"/>
                    <a:gd name="textAreaRight" fmla="*/ 6075360 w 6075000"/>
                    <a:gd name="textAreaTop" fmla="*/ 0 h 10800"/>
                    <a:gd name="textAreaBottom" fmla="*/ 11160 h 10800"/>
                  </a:gdLst>
                  <a:ahLst/>
                  <a:rect l="textAreaLeft" t="textAreaTop" r="textAreaRight" b="textAreaBottom"/>
                  <a:pathLst>
                    <a:path w="6075046" h="11050">
                      <a:moveTo>
                        <a:pt x="0" y="11049"/>
                      </a:moveTo>
                      <a:lnTo>
                        <a:pt x="0" y="0"/>
                      </a:lnTo>
                      <a:lnTo>
                        <a:pt x="6075045" y="0"/>
                      </a:lnTo>
                      <a:lnTo>
                        <a:pt x="6075045" y="11049"/>
                      </a:lnTo>
                      <a:close/>
                    </a:path>
                  </a:pathLst>
                </a:custGeom>
                <a:solidFill>
                  <a:srgbClr val="000000"/>
                </a:solidFill>
                <a:ln w="0">
                  <a:solidFill>
                    <a:srgbClr val="000000"/>
                  </a:solidFill>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Calibri"/>
                  </a:endParaRPr>
                </a:p>
              </p:txBody>
            </p:sp>
            <p:sp>
              <p:nvSpPr>
                <p:cNvPr id="1020" name="Freeform 15"/>
                <p:cNvSpPr/>
                <p:nvPr/>
              </p:nvSpPr>
              <p:spPr>
                <a:xfrm rot="16200000">
                  <a:off x="6319440" y="6717600"/>
                  <a:ext cx="175320" cy="152640"/>
                </a:xfrm>
                <a:custGeom>
                  <a:avLst/>
                  <a:gdLst>
                    <a:gd name="textAreaLeft" fmla="*/ 0 w 175320"/>
                    <a:gd name="textAreaRight" fmla="*/ 175680 w 175320"/>
                    <a:gd name="textAreaTop" fmla="*/ 0 h 152640"/>
                    <a:gd name="textAreaBottom" fmla="*/ 152640 h 152640"/>
                  </a:gdLst>
                  <a:ahLst/>
                  <a:rect l="textAreaLeft" t="textAreaTop" r="textAreaRight" b="textAreaBottom"/>
                  <a:pathLst>
                    <a:path w="175515" h="152655">
                      <a:moveTo>
                        <a:pt x="8509" y="152654"/>
                      </a:moveTo>
                      <a:lnTo>
                        <a:pt x="0" y="144780"/>
                      </a:lnTo>
                      <a:lnTo>
                        <a:pt x="166878" y="0"/>
                      </a:lnTo>
                      <a:lnTo>
                        <a:pt x="175514" y="762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21" name="Freeform 16"/>
                <p:cNvSpPr/>
                <p:nvPr/>
              </p:nvSpPr>
              <p:spPr>
                <a:xfrm rot="16200000">
                  <a:off x="6458400" y="6715440"/>
                  <a:ext cx="175320" cy="152640"/>
                </a:xfrm>
                <a:custGeom>
                  <a:avLst/>
                  <a:gdLst>
                    <a:gd name="textAreaLeft" fmla="*/ 0 w 175320"/>
                    <a:gd name="textAreaRight" fmla="*/ 175680 w 175320"/>
                    <a:gd name="textAreaTop" fmla="*/ 0 h 152640"/>
                    <a:gd name="textAreaBottom" fmla="*/ 152640 h 152640"/>
                  </a:gdLst>
                  <a:ahLst/>
                  <a:rect l="textAreaLeft" t="textAreaTop" r="textAreaRight" b="textAreaBottom"/>
                  <a:pathLst>
                    <a:path w="175516" h="152528">
                      <a:moveTo>
                        <a:pt x="0" y="7620"/>
                      </a:moveTo>
                      <a:lnTo>
                        <a:pt x="8636" y="0"/>
                      </a:lnTo>
                      <a:lnTo>
                        <a:pt x="175515" y="144780"/>
                      </a:lnTo>
                      <a:lnTo>
                        <a:pt x="167005" y="15252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22" name="Freeform 17"/>
                <p:cNvSpPr/>
                <p:nvPr/>
              </p:nvSpPr>
              <p:spPr>
                <a:xfrm rot="16200000">
                  <a:off x="6319800" y="808200"/>
                  <a:ext cx="175320" cy="152640"/>
                </a:xfrm>
                <a:custGeom>
                  <a:avLst/>
                  <a:gdLst>
                    <a:gd name="textAreaLeft" fmla="*/ 0 w 175320"/>
                    <a:gd name="textAreaRight" fmla="*/ 175680 w 175320"/>
                    <a:gd name="textAreaTop" fmla="*/ 0 h 152640"/>
                    <a:gd name="textAreaBottom" fmla="*/ 152640 h 152640"/>
                  </a:gdLst>
                  <a:ahLst/>
                  <a:rect l="textAreaLeft" t="textAreaTop" r="textAreaRight" b="textAreaBottom"/>
                  <a:pathLst>
                    <a:path w="175515" h="152528">
                      <a:moveTo>
                        <a:pt x="175514" y="144780"/>
                      </a:moveTo>
                      <a:lnTo>
                        <a:pt x="167005" y="152527"/>
                      </a:lnTo>
                      <a:lnTo>
                        <a:pt x="0" y="7620"/>
                      </a:lnTo>
                      <a:lnTo>
                        <a:pt x="8382"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23" name="Freeform 18"/>
                <p:cNvSpPr/>
                <p:nvPr/>
              </p:nvSpPr>
              <p:spPr>
                <a:xfrm rot="16200000">
                  <a:off x="6458760" y="810720"/>
                  <a:ext cx="175320" cy="152640"/>
                </a:xfrm>
                <a:custGeom>
                  <a:avLst/>
                  <a:gdLst>
                    <a:gd name="textAreaLeft" fmla="*/ 0 w 175320"/>
                    <a:gd name="textAreaRight" fmla="*/ 175680 w 175320"/>
                    <a:gd name="textAreaTop" fmla="*/ 0 h 152640"/>
                    <a:gd name="textAreaBottom" fmla="*/ 152640 h 152640"/>
                  </a:gdLst>
                  <a:ahLst/>
                  <a:rect l="textAreaLeft" t="textAreaTop" r="textAreaRight" b="textAreaBottom"/>
                  <a:pathLst>
                    <a:path w="175642" h="152528">
                      <a:moveTo>
                        <a:pt x="167005" y="0"/>
                      </a:moveTo>
                      <a:lnTo>
                        <a:pt x="175641" y="7747"/>
                      </a:lnTo>
                      <a:lnTo>
                        <a:pt x="8636" y="152527"/>
                      </a:lnTo>
                      <a:lnTo>
                        <a:pt x="0" y="14478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024" name="Freeform 20"/>
              <p:cNvSpPr/>
              <p:nvPr/>
            </p:nvSpPr>
            <p:spPr>
              <a:xfrm rot="16200000">
                <a:off x="6447960" y="1116000"/>
                <a:ext cx="13680" cy="230040"/>
              </a:xfrm>
              <a:custGeom>
                <a:avLst/>
                <a:gdLst>
                  <a:gd name="textAreaLeft" fmla="*/ 0 w 13680"/>
                  <a:gd name="textAreaRight" fmla="*/ 14040 w 13680"/>
                  <a:gd name="textAreaTop" fmla="*/ 0 h 230040"/>
                  <a:gd name="textAreaBottom" fmla="*/ 230400 h 230040"/>
                </a:gdLst>
                <a:ahLst/>
                <a:rect l="textAreaLeft" t="textAreaTop" r="textAreaRight" b="textAreaBottom"/>
                <a:pathLst>
                  <a:path w="13971" h="229998">
                    <a:moveTo>
                      <a:pt x="0" y="0"/>
                    </a:moveTo>
                    <a:lnTo>
                      <a:pt x="13970" y="0"/>
                    </a:lnTo>
                    <a:lnTo>
                      <a:pt x="13970" y="229997"/>
                    </a:lnTo>
                    <a:lnTo>
                      <a:pt x="0" y="22999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25" name="Freeform 21"/>
              <p:cNvSpPr/>
              <p:nvPr/>
            </p:nvSpPr>
            <p:spPr>
              <a:xfrm rot="16200000">
                <a:off x="6448320" y="1627920"/>
                <a:ext cx="13680" cy="230040"/>
              </a:xfrm>
              <a:custGeom>
                <a:avLst/>
                <a:gdLst>
                  <a:gd name="textAreaLeft" fmla="*/ 0 w 13680"/>
                  <a:gd name="textAreaRight" fmla="*/ 14040 w 13680"/>
                  <a:gd name="textAreaTop" fmla="*/ 0 h 230040"/>
                  <a:gd name="textAreaBottom" fmla="*/ 230400 h 230040"/>
                </a:gdLst>
                <a:ahLst/>
                <a:rect l="textAreaLeft" t="textAreaTop" r="textAreaRight" b="textAreaBottom"/>
                <a:pathLst>
                  <a:path w="13844" h="229998">
                    <a:moveTo>
                      <a:pt x="0" y="0"/>
                    </a:moveTo>
                    <a:lnTo>
                      <a:pt x="13843" y="0"/>
                    </a:lnTo>
                    <a:lnTo>
                      <a:pt x="13843" y="229997"/>
                    </a:lnTo>
                    <a:lnTo>
                      <a:pt x="0" y="22999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26" name="Freeform 22"/>
              <p:cNvSpPr/>
              <p:nvPr/>
            </p:nvSpPr>
            <p:spPr>
              <a:xfrm rot="16200000">
                <a:off x="6448320" y="2171520"/>
                <a:ext cx="13680" cy="230040"/>
              </a:xfrm>
              <a:custGeom>
                <a:avLst/>
                <a:gdLst>
                  <a:gd name="textAreaLeft" fmla="*/ 0 w 13680"/>
                  <a:gd name="textAreaRight" fmla="*/ 14040 w 13680"/>
                  <a:gd name="textAreaTop" fmla="*/ 0 h 230040"/>
                  <a:gd name="textAreaBottom" fmla="*/ 230400 h 230040"/>
                </a:gdLst>
                <a:ahLst/>
                <a:rect l="textAreaLeft" t="textAreaTop" r="textAreaRight" b="textAreaBottom"/>
                <a:pathLst>
                  <a:path w="13843" h="229998">
                    <a:moveTo>
                      <a:pt x="0" y="0"/>
                    </a:moveTo>
                    <a:lnTo>
                      <a:pt x="13842" y="0"/>
                    </a:lnTo>
                    <a:lnTo>
                      <a:pt x="13842" y="229997"/>
                    </a:lnTo>
                    <a:lnTo>
                      <a:pt x="0" y="22999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27" name="Freeform 23"/>
              <p:cNvSpPr/>
              <p:nvPr/>
            </p:nvSpPr>
            <p:spPr>
              <a:xfrm rot="16200000">
                <a:off x="6448320" y="2683800"/>
                <a:ext cx="13680" cy="230040"/>
              </a:xfrm>
              <a:custGeom>
                <a:avLst/>
                <a:gdLst>
                  <a:gd name="textAreaLeft" fmla="*/ 0 w 13680"/>
                  <a:gd name="textAreaRight" fmla="*/ 14040 w 13680"/>
                  <a:gd name="textAreaTop" fmla="*/ 0 h 230040"/>
                  <a:gd name="textAreaBottom" fmla="*/ 230400 h 230040"/>
                </a:gdLst>
                <a:ahLst/>
                <a:rect l="textAreaLeft" t="textAreaTop" r="textAreaRight" b="textAreaBottom"/>
                <a:pathLst>
                  <a:path w="13844" h="229998">
                    <a:moveTo>
                      <a:pt x="0" y="0"/>
                    </a:moveTo>
                    <a:lnTo>
                      <a:pt x="13843" y="0"/>
                    </a:lnTo>
                    <a:lnTo>
                      <a:pt x="13843" y="229997"/>
                    </a:lnTo>
                    <a:lnTo>
                      <a:pt x="0" y="22999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28" name="Freeform 24"/>
              <p:cNvSpPr/>
              <p:nvPr/>
            </p:nvSpPr>
            <p:spPr>
              <a:xfrm rot="16200000">
                <a:off x="6448320" y="3195720"/>
                <a:ext cx="13680" cy="230040"/>
              </a:xfrm>
              <a:custGeom>
                <a:avLst/>
                <a:gdLst>
                  <a:gd name="textAreaLeft" fmla="*/ 0 w 13680"/>
                  <a:gd name="textAreaRight" fmla="*/ 14040 w 13680"/>
                  <a:gd name="textAreaTop" fmla="*/ 0 h 230040"/>
                  <a:gd name="textAreaBottom" fmla="*/ 230400 h 230040"/>
                </a:gdLst>
                <a:ahLst/>
                <a:rect l="textAreaLeft" t="textAreaTop" r="textAreaRight" b="textAreaBottom"/>
                <a:pathLst>
                  <a:path w="13844" h="229998">
                    <a:moveTo>
                      <a:pt x="0" y="0"/>
                    </a:moveTo>
                    <a:lnTo>
                      <a:pt x="13843" y="0"/>
                    </a:lnTo>
                    <a:lnTo>
                      <a:pt x="13843" y="229997"/>
                    </a:lnTo>
                    <a:lnTo>
                      <a:pt x="0" y="22999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29" name="Freeform 25"/>
              <p:cNvSpPr/>
              <p:nvPr/>
            </p:nvSpPr>
            <p:spPr>
              <a:xfrm rot="16200000">
                <a:off x="6457680" y="4262040"/>
                <a:ext cx="13680" cy="230040"/>
              </a:xfrm>
              <a:custGeom>
                <a:avLst/>
                <a:gdLst>
                  <a:gd name="textAreaLeft" fmla="*/ 0 w 13680"/>
                  <a:gd name="textAreaRight" fmla="*/ 14040 w 13680"/>
                  <a:gd name="textAreaTop" fmla="*/ 0 h 230040"/>
                  <a:gd name="textAreaBottom" fmla="*/ 230400 h 230040"/>
                </a:gdLst>
                <a:ahLst/>
                <a:rect l="textAreaLeft" t="textAreaTop" r="textAreaRight" b="textAreaBottom"/>
                <a:pathLst>
                  <a:path w="13971" h="229998">
                    <a:moveTo>
                      <a:pt x="0" y="0"/>
                    </a:moveTo>
                    <a:lnTo>
                      <a:pt x="13970" y="0"/>
                    </a:lnTo>
                    <a:lnTo>
                      <a:pt x="13970" y="229997"/>
                    </a:lnTo>
                    <a:lnTo>
                      <a:pt x="0" y="22999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0" name="Freeform 26"/>
              <p:cNvSpPr/>
              <p:nvPr/>
            </p:nvSpPr>
            <p:spPr>
              <a:xfrm rot="16200000">
                <a:off x="6457680" y="4773960"/>
                <a:ext cx="13680" cy="230040"/>
              </a:xfrm>
              <a:custGeom>
                <a:avLst/>
                <a:gdLst>
                  <a:gd name="textAreaLeft" fmla="*/ 0 w 13680"/>
                  <a:gd name="textAreaRight" fmla="*/ 14040 w 13680"/>
                  <a:gd name="textAreaTop" fmla="*/ 0 h 230040"/>
                  <a:gd name="textAreaBottom" fmla="*/ 230400 h 230040"/>
                </a:gdLst>
                <a:ahLst/>
                <a:rect l="textAreaLeft" t="textAreaTop" r="textAreaRight" b="textAreaBottom"/>
                <a:pathLst>
                  <a:path w="13971" h="229999">
                    <a:moveTo>
                      <a:pt x="0" y="0"/>
                    </a:moveTo>
                    <a:lnTo>
                      <a:pt x="13970" y="0"/>
                    </a:lnTo>
                    <a:lnTo>
                      <a:pt x="13970" y="229998"/>
                    </a:lnTo>
                    <a:lnTo>
                      <a:pt x="0" y="22999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1" name="Freeform 27"/>
              <p:cNvSpPr/>
              <p:nvPr/>
            </p:nvSpPr>
            <p:spPr>
              <a:xfrm rot="16200000">
                <a:off x="6457680" y="5317560"/>
                <a:ext cx="13680" cy="230040"/>
              </a:xfrm>
              <a:custGeom>
                <a:avLst/>
                <a:gdLst>
                  <a:gd name="textAreaLeft" fmla="*/ 0 w 13680"/>
                  <a:gd name="textAreaRight" fmla="*/ 14040 w 13680"/>
                  <a:gd name="textAreaTop" fmla="*/ 0 h 230040"/>
                  <a:gd name="textAreaBottom" fmla="*/ 230400 h 230040"/>
                </a:gdLst>
                <a:ahLst/>
                <a:rect l="textAreaLeft" t="textAreaTop" r="textAreaRight" b="textAreaBottom"/>
                <a:pathLst>
                  <a:path w="13971" h="229998">
                    <a:moveTo>
                      <a:pt x="0" y="0"/>
                    </a:moveTo>
                    <a:lnTo>
                      <a:pt x="13970" y="0"/>
                    </a:lnTo>
                    <a:lnTo>
                      <a:pt x="13970" y="229997"/>
                    </a:lnTo>
                    <a:lnTo>
                      <a:pt x="0" y="22999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2" name="Freeform 28"/>
              <p:cNvSpPr/>
              <p:nvPr/>
            </p:nvSpPr>
            <p:spPr>
              <a:xfrm rot="16200000">
                <a:off x="6457680" y="5829480"/>
                <a:ext cx="13680" cy="230040"/>
              </a:xfrm>
              <a:custGeom>
                <a:avLst/>
                <a:gdLst>
                  <a:gd name="textAreaLeft" fmla="*/ 0 w 13680"/>
                  <a:gd name="textAreaRight" fmla="*/ 14040 w 13680"/>
                  <a:gd name="textAreaTop" fmla="*/ 0 h 230040"/>
                  <a:gd name="textAreaBottom" fmla="*/ 230400 h 230040"/>
                </a:gdLst>
                <a:ahLst/>
                <a:rect l="textAreaLeft" t="textAreaTop" r="textAreaRight" b="textAreaBottom"/>
                <a:pathLst>
                  <a:path w="13971" h="229998">
                    <a:moveTo>
                      <a:pt x="0" y="0"/>
                    </a:moveTo>
                    <a:lnTo>
                      <a:pt x="13970" y="0"/>
                    </a:lnTo>
                    <a:lnTo>
                      <a:pt x="13970" y="229997"/>
                    </a:lnTo>
                    <a:lnTo>
                      <a:pt x="0" y="22999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3" name="Freeform 29"/>
              <p:cNvSpPr/>
              <p:nvPr/>
            </p:nvSpPr>
            <p:spPr>
              <a:xfrm rot="16200000">
                <a:off x="6457680" y="6342120"/>
                <a:ext cx="13680" cy="229680"/>
              </a:xfrm>
              <a:custGeom>
                <a:avLst/>
                <a:gdLst>
                  <a:gd name="textAreaLeft" fmla="*/ 0 w 13680"/>
                  <a:gd name="textAreaRight" fmla="*/ 14040 w 13680"/>
                  <a:gd name="textAreaTop" fmla="*/ 0 h 229680"/>
                  <a:gd name="textAreaBottom" fmla="*/ 230040 h 229680"/>
                </a:gdLst>
                <a:ahLst/>
                <a:rect l="textAreaLeft" t="textAreaTop" r="textAreaRight" b="textAreaBottom"/>
                <a:pathLst>
                  <a:path w="13971" h="229872">
                    <a:moveTo>
                      <a:pt x="0" y="0"/>
                    </a:moveTo>
                    <a:lnTo>
                      <a:pt x="13970" y="0"/>
                    </a:lnTo>
                    <a:lnTo>
                      <a:pt x="13970" y="229871"/>
                    </a:lnTo>
                    <a:lnTo>
                      <a:pt x="0" y="22987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4" name="Freeform 30"/>
              <p:cNvSpPr/>
              <p:nvPr/>
            </p:nvSpPr>
            <p:spPr>
              <a:xfrm rot="16200000">
                <a:off x="6448320" y="3728880"/>
                <a:ext cx="13680" cy="230040"/>
              </a:xfrm>
              <a:custGeom>
                <a:avLst/>
                <a:gdLst>
                  <a:gd name="textAreaLeft" fmla="*/ 0 w 13680"/>
                  <a:gd name="textAreaRight" fmla="*/ 14040 w 13680"/>
                  <a:gd name="textAreaTop" fmla="*/ 0 h 230040"/>
                  <a:gd name="textAreaBottom" fmla="*/ 230400 h 230040"/>
                </a:gdLst>
                <a:ahLst/>
                <a:rect l="textAreaLeft" t="textAreaTop" r="textAreaRight" b="textAreaBottom"/>
                <a:pathLst>
                  <a:path w="13843" h="229998">
                    <a:moveTo>
                      <a:pt x="0" y="0"/>
                    </a:moveTo>
                    <a:lnTo>
                      <a:pt x="13842" y="0"/>
                    </a:lnTo>
                    <a:lnTo>
                      <a:pt x="13842" y="229997"/>
                    </a:lnTo>
                    <a:lnTo>
                      <a:pt x="0" y="22999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5" name="Freeform 31"/>
              <p:cNvSpPr/>
              <p:nvPr/>
            </p:nvSpPr>
            <p:spPr>
              <a:xfrm rot="16200000">
                <a:off x="6457680" y="5024880"/>
                <a:ext cx="13680" cy="230040"/>
              </a:xfrm>
              <a:custGeom>
                <a:avLst/>
                <a:gdLst>
                  <a:gd name="textAreaLeft" fmla="*/ 0 w 13680"/>
                  <a:gd name="textAreaRight" fmla="*/ 14040 w 13680"/>
                  <a:gd name="textAreaTop" fmla="*/ 0 h 230040"/>
                  <a:gd name="textAreaBottom" fmla="*/ 230400 h 230040"/>
                </a:gdLst>
                <a:ahLst/>
                <a:rect l="textAreaLeft" t="textAreaTop" r="textAreaRight" b="textAreaBottom"/>
                <a:pathLst>
                  <a:path w="13971" h="229999">
                    <a:moveTo>
                      <a:pt x="0" y="0"/>
                    </a:moveTo>
                    <a:lnTo>
                      <a:pt x="13970" y="0"/>
                    </a:lnTo>
                    <a:lnTo>
                      <a:pt x="13970" y="229998"/>
                    </a:lnTo>
                    <a:lnTo>
                      <a:pt x="0" y="22999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6" name="Freeform 32"/>
              <p:cNvSpPr/>
              <p:nvPr/>
            </p:nvSpPr>
            <p:spPr>
              <a:xfrm rot="16200000">
                <a:off x="6457680" y="5568480"/>
                <a:ext cx="13680" cy="230040"/>
              </a:xfrm>
              <a:custGeom>
                <a:avLst/>
                <a:gdLst>
                  <a:gd name="textAreaLeft" fmla="*/ 0 w 13680"/>
                  <a:gd name="textAreaRight" fmla="*/ 14040 w 13680"/>
                  <a:gd name="textAreaTop" fmla="*/ 0 h 230040"/>
                  <a:gd name="textAreaBottom" fmla="*/ 230400 h 230040"/>
                </a:gdLst>
                <a:ahLst/>
                <a:rect l="textAreaLeft" t="textAreaTop" r="textAreaRight" b="textAreaBottom"/>
                <a:pathLst>
                  <a:path w="13971" h="229998">
                    <a:moveTo>
                      <a:pt x="0" y="0"/>
                    </a:moveTo>
                    <a:lnTo>
                      <a:pt x="13970" y="0"/>
                    </a:lnTo>
                    <a:lnTo>
                      <a:pt x="13970" y="229997"/>
                    </a:lnTo>
                    <a:lnTo>
                      <a:pt x="0" y="22999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7" name="Freeform 33"/>
              <p:cNvSpPr/>
              <p:nvPr/>
            </p:nvSpPr>
            <p:spPr>
              <a:xfrm rot="16200000">
                <a:off x="6457680" y="6080400"/>
                <a:ext cx="13680" cy="230040"/>
              </a:xfrm>
              <a:custGeom>
                <a:avLst/>
                <a:gdLst>
                  <a:gd name="textAreaLeft" fmla="*/ 0 w 13680"/>
                  <a:gd name="textAreaRight" fmla="*/ 14040 w 13680"/>
                  <a:gd name="textAreaTop" fmla="*/ 0 h 230040"/>
                  <a:gd name="textAreaBottom" fmla="*/ 230400 h 230040"/>
                </a:gdLst>
                <a:ahLst/>
                <a:rect l="textAreaLeft" t="textAreaTop" r="textAreaRight" b="textAreaBottom"/>
                <a:pathLst>
                  <a:path w="13971" h="229998">
                    <a:moveTo>
                      <a:pt x="0" y="0"/>
                    </a:moveTo>
                    <a:lnTo>
                      <a:pt x="13970" y="0"/>
                    </a:lnTo>
                    <a:lnTo>
                      <a:pt x="13970" y="229997"/>
                    </a:lnTo>
                    <a:lnTo>
                      <a:pt x="0" y="22999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8" name="Freeform 34"/>
              <p:cNvSpPr/>
              <p:nvPr/>
            </p:nvSpPr>
            <p:spPr>
              <a:xfrm rot="16200000">
                <a:off x="6448320" y="2955600"/>
                <a:ext cx="13680" cy="229680"/>
              </a:xfrm>
              <a:custGeom>
                <a:avLst/>
                <a:gdLst>
                  <a:gd name="textAreaLeft" fmla="*/ 0 w 13680"/>
                  <a:gd name="textAreaRight" fmla="*/ 14040 w 13680"/>
                  <a:gd name="textAreaTop" fmla="*/ 0 h 229680"/>
                  <a:gd name="textAreaBottom" fmla="*/ 230040 h 229680"/>
                </a:gdLst>
                <a:ahLst/>
                <a:rect l="textAreaLeft" t="textAreaTop" r="textAreaRight" b="textAreaBottom"/>
                <a:pathLst>
                  <a:path w="13843" h="229871">
                    <a:moveTo>
                      <a:pt x="0" y="0"/>
                    </a:moveTo>
                    <a:lnTo>
                      <a:pt x="13842" y="0"/>
                    </a:lnTo>
                    <a:lnTo>
                      <a:pt x="13842" y="229870"/>
                    </a:lnTo>
                    <a:lnTo>
                      <a:pt x="0" y="22987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9" name="Freeform 35"/>
              <p:cNvSpPr/>
              <p:nvPr/>
            </p:nvSpPr>
            <p:spPr>
              <a:xfrm rot="16200000">
                <a:off x="6448320" y="3467520"/>
                <a:ext cx="13680" cy="230040"/>
              </a:xfrm>
              <a:custGeom>
                <a:avLst/>
                <a:gdLst>
                  <a:gd name="textAreaLeft" fmla="*/ 0 w 13680"/>
                  <a:gd name="textAreaRight" fmla="*/ 14040 w 13680"/>
                  <a:gd name="textAreaTop" fmla="*/ 0 h 230040"/>
                  <a:gd name="textAreaBottom" fmla="*/ 230400 h 230040"/>
                </a:gdLst>
                <a:ahLst/>
                <a:rect l="textAreaLeft" t="textAreaTop" r="textAreaRight" b="textAreaBottom"/>
                <a:pathLst>
                  <a:path w="13843" h="229998">
                    <a:moveTo>
                      <a:pt x="0" y="0"/>
                    </a:moveTo>
                    <a:lnTo>
                      <a:pt x="13842" y="0"/>
                    </a:lnTo>
                    <a:lnTo>
                      <a:pt x="13842" y="229997"/>
                    </a:lnTo>
                    <a:lnTo>
                      <a:pt x="0" y="22999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40" name="Freeform 36"/>
              <p:cNvSpPr/>
              <p:nvPr/>
            </p:nvSpPr>
            <p:spPr>
              <a:xfrm rot="16200000">
                <a:off x="6448320" y="4011120"/>
                <a:ext cx="13680" cy="230040"/>
              </a:xfrm>
              <a:custGeom>
                <a:avLst/>
                <a:gdLst>
                  <a:gd name="textAreaLeft" fmla="*/ 0 w 13680"/>
                  <a:gd name="textAreaRight" fmla="*/ 14040 w 13680"/>
                  <a:gd name="textAreaTop" fmla="*/ 0 h 230040"/>
                  <a:gd name="textAreaBottom" fmla="*/ 230400 h 230040"/>
                </a:gdLst>
                <a:ahLst/>
                <a:rect l="textAreaLeft" t="textAreaTop" r="textAreaRight" b="textAreaBottom"/>
                <a:pathLst>
                  <a:path w="13844" h="229998">
                    <a:moveTo>
                      <a:pt x="0" y="0"/>
                    </a:moveTo>
                    <a:lnTo>
                      <a:pt x="13843" y="0"/>
                    </a:lnTo>
                    <a:lnTo>
                      <a:pt x="13843" y="229997"/>
                    </a:lnTo>
                    <a:lnTo>
                      <a:pt x="0" y="22999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41" name="Freeform 37"/>
              <p:cNvSpPr/>
              <p:nvPr/>
            </p:nvSpPr>
            <p:spPr>
              <a:xfrm rot="16200000">
                <a:off x="6448320" y="4523040"/>
                <a:ext cx="13680" cy="230040"/>
              </a:xfrm>
              <a:custGeom>
                <a:avLst/>
                <a:gdLst>
                  <a:gd name="textAreaLeft" fmla="*/ 0 w 13680"/>
                  <a:gd name="textAreaRight" fmla="*/ 14040 w 13680"/>
                  <a:gd name="textAreaTop" fmla="*/ 0 h 230040"/>
                  <a:gd name="textAreaBottom" fmla="*/ 230400 h 230040"/>
                </a:gdLst>
                <a:ahLst/>
                <a:rect l="textAreaLeft" t="textAreaTop" r="textAreaRight" b="textAreaBottom"/>
                <a:pathLst>
                  <a:path w="13844" h="229998">
                    <a:moveTo>
                      <a:pt x="0" y="0"/>
                    </a:moveTo>
                    <a:lnTo>
                      <a:pt x="13843" y="0"/>
                    </a:lnTo>
                    <a:lnTo>
                      <a:pt x="13843" y="229997"/>
                    </a:lnTo>
                    <a:lnTo>
                      <a:pt x="0" y="22999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42" name="Freeform 38"/>
              <p:cNvSpPr/>
              <p:nvPr/>
            </p:nvSpPr>
            <p:spPr>
              <a:xfrm rot="16200000">
                <a:off x="6457680" y="1398240"/>
                <a:ext cx="13680" cy="230040"/>
              </a:xfrm>
              <a:custGeom>
                <a:avLst/>
                <a:gdLst>
                  <a:gd name="textAreaLeft" fmla="*/ 0 w 13680"/>
                  <a:gd name="textAreaRight" fmla="*/ 14040 w 13680"/>
                  <a:gd name="textAreaTop" fmla="*/ 0 h 230040"/>
                  <a:gd name="textAreaBottom" fmla="*/ 230400 h 230040"/>
                </a:gdLst>
                <a:ahLst/>
                <a:rect l="textAreaLeft" t="textAreaTop" r="textAreaRight" b="textAreaBottom"/>
                <a:pathLst>
                  <a:path w="13971" h="229998">
                    <a:moveTo>
                      <a:pt x="0" y="0"/>
                    </a:moveTo>
                    <a:lnTo>
                      <a:pt x="13970" y="0"/>
                    </a:lnTo>
                    <a:lnTo>
                      <a:pt x="13970" y="229997"/>
                    </a:lnTo>
                    <a:lnTo>
                      <a:pt x="0" y="22999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43" name="Freeform 39"/>
              <p:cNvSpPr/>
              <p:nvPr/>
            </p:nvSpPr>
            <p:spPr>
              <a:xfrm rot="16200000">
                <a:off x="6457680" y="1910160"/>
                <a:ext cx="13680" cy="230040"/>
              </a:xfrm>
              <a:custGeom>
                <a:avLst/>
                <a:gdLst>
                  <a:gd name="textAreaLeft" fmla="*/ 0 w 13680"/>
                  <a:gd name="textAreaRight" fmla="*/ 14040 w 13680"/>
                  <a:gd name="textAreaTop" fmla="*/ 0 h 230040"/>
                  <a:gd name="textAreaBottom" fmla="*/ 230400 h 230040"/>
                </a:gdLst>
                <a:ahLst/>
                <a:rect l="textAreaLeft" t="textAreaTop" r="textAreaRight" b="textAreaBottom"/>
                <a:pathLst>
                  <a:path w="13971" h="229998">
                    <a:moveTo>
                      <a:pt x="0" y="0"/>
                    </a:moveTo>
                    <a:lnTo>
                      <a:pt x="13970" y="0"/>
                    </a:lnTo>
                    <a:lnTo>
                      <a:pt x="13970" y="229997"/>
                    </a:lnTo>
                    <a:lnTo>
                      <a:pt x="0" y="22999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44" name="Freeform 40"/>
              <p:cNvSpPr/>
              <p:nvPr/>
            </p:nvSpPr>
            <p:spPr>
              <a:xfrm rot="16200000">
                <a:off x="6457680" y="2422440"/>
                <a:ext cx="13680" cy="230040"/>
              </a:xfrm>
              <a:custGeom>
                <a:avLst/>
                <a:gdLst>
                  <a:gd name="textAreaLeft" fmla="*/ 0 w 13680"/>
                  <a:gd name="textAreaRight" fmla="*/ 14040 w 13680"/>
                  <a:gd name="textAreaTop" fmla="*/ 0 h 230040"/>
                  <a:gd name="textAreaBottom" fmla="*/ 230400 h 230040"/>
                </a:gdLst>
                <a:ahLst/>
                <a:rect l="textAreaLeft" t="textAreaTop" r="textAreaRight" b="textAreaBottom"/>
                <a:pathLst>
                  <a:path w="13971" h="229998">
                    <a:moveTo>
                      <a:pt x="0" y="0"/>
                    </a:moveTo>
                    <a:lnTo>
                      <a:pt x="13970" y="0"/>
                    </a:lnTo>
                    <a:lnTo>
                      <a:pt x="13970" y="229997"/>
                    </a:lnTo>
                    <a:lnTo>
                      <a:pt x="0" y="22999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45" name="TextBox 41"/>
              <p:cNvSpPr/>
              <p:nvPr/>
            </p:nvSpPr>
            <p:spPr>
              <a:xfrm rot="16200000">
                <a:off x="6541560" y="397404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1</a:t>
                </a:r>
                <a:endParaRPr b="0" lang="en-US" sz="1000" spc="-1" strike="noStrike">
                  <a:solidFill>
                    <a:srgbClr val="000000"/>
                  </a:solidFill>
                  <a:latin typeface="Calibri"/>
                </a:endParaRPr>
              </a:p>
            </p:txBody>
          </p:sp>
          <p:sp>
            <p:nvSpPr>
              <p:cNvPr id="1046" name="TextBox 42"/>
              <p:cNvSpPr/>
              <p:nvPr/>
            </p:nvSpPr>
            <p:spPr>
              <a:xfrm rot="16200000">
                <a:off x="6567840" y="4278240"/>
                <a:ext cx="304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2</a:t>
                </a:r>
                <a:endParaRPr b="0" lang="en-US" sz="1000" spc="-1" strike="noStrike">
                  <a:solidFill>
                    <a:srgbClr val="000000"/>
                  </a:solidFill>
                  <a:latin typeface="Calibri"/>
                </a:endParaRPr>
              </a:p>
            </p:txBody>
          </p:sp>
          <p:sp>
            <p:nvSpPr>
              <p:cNvPr id="1047" name="TextBox 43"/>
              <p:cNvSpPr/>
              <p:nvPr/>
            </p:nvSpPr>
            <p:spPr>
              <a:xfrm rot="16200000">
                <a:off x="6528600" y="4495680"/>
                <a:ext cx="40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3</a:t>
                </a:r>
                <a:endParaRPr b="0" lang="en-US" sz="1000" spc="-1" strike="noStrike">
                  <a:solidFill>
                    <a:srgbClr val="000000"/>
                  </a:solidFill>
                  <a:latin typeface="Calibri"/>
                </a:endParaRPr>
              </a:p>
            </p:txBody>
          </p:sp>
          <p:sp>
            <p:nvSpPr>
              <p:cNvPr id="1048" name="TextBox 44"/>
              <p:cNvSpPr/>
              <p:nvPr/>
            </p:nvSpPr>
            <p:spPr>
              <a:xfrm rot="16200000">
                <a:off x="6528600" y="4762440"/>
                <a:ext cx="40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4</a:t>
                </a:r>
                <a:endParaRPr b="0" lang="en-US" sz="1000" spc="-1" strike="noStrike">
                  <a:solidFill>
                    <a:srgbClr val="000000"/>
                  </a:solidFill>
                  <a:latin typeface="Calibri"/>
                </a:endParaRPr>
              </a:p>
            </p:txBody>
          </p:sp>
          <p:sp>
            <p:nvSpPr>
              <p:cNvPr id="1049" name="TextBox 45"/>
              <p:cNvSpPr/>
              <p:nvPr/>
            </p:nvSpPr>
            <p:spPr>
              <a:xfrm rot="16200000">
                <a:off x="6528600" y="5003640"/>
                <a:ext cx="40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5</a:t>
                </a:r>
                <a:endParaRPr b="0" lang="en-US" sz="1000" spc="-1" strike="noStrike">
                  <a:solidFill>
                    <a:srgbClr val="000000"/>
                  </a:solidFill>
                  <a:latin typeface="Calibri"/>
                </a:endParaRPr>
              </a:p>
            </p:txBody>
          </p:sp>
          <p:sp>
            <p:nvSpPr>
              <p:cNvPr id="1050" name="TextBox 46"/>
              <p:cNvSpPr/>
              <p:nvPr/>
            </p:nvSpPr>
            <p:spPr>
              <a:xfrm rot="16200000">
                <a:off x="6528600" y="5270400"/>
                <a:ext cx="40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6</a:t>
                </a:r>
                <a:endParaRPr b="0" lang="en-US" sz="1000" spc="-1" strike="noStrike">
                  <a:solidFill>
                    <a:srgbClr val="000000"/>
                  </a:solidFill>
                  <a:latin typeface="Calibri"/>
                </a:endParaRPr>
              </a:p>
            </p:txBody>
          </p:sp>
          <p:sp>
            <p:nvSpPr>
              <p:cNvPr id="1051" name="TextBox 47"/>
              <p:cNvSpPr/>
              <p:nvPr/>
            </p:nvSpPr>
            <p:spPr>
              <a:xfrm rot="16200000">
                <a:off x="6528600" y="5537160"/>
                <a:ext cx="40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7</a:t>
                </a:r>
                <a:endParaRPr b="0" lang="en-US" sz="1000" spc="-1" strike="noStrike">
                  <a:solidFill>
                    <a:srgbClr val="000000"/>
                  </a:solidFill>
                  <a:latin typeface="Calibri"/>
                </a:endParaRPr>
              </a:p>
            </p:txBody>
          </p:sp>
          <p:sp>
            <p:nvSpPr>
              <p:cNvPr id="1052" name="TextBox 48"/>
              <p:cNvSpPr/>
              <p:nvPr/>
            </p:nvSpPr>
            <p:spPr>
              <a:xfrm rot="16200000">
                <a:off x="6528600" y="5790960"/>
                <a:ext cx="40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8</a:t>
                </a:r>
                <a:endParaRPr b="0" lang="en-US" sz="1000" spc="-1" strike="noStrike">
                  <a:solidFill>
                    <a:srgbClr val="000000"/>
                  </a:solidFill>
                  <a:latin typeface="Calibri"/>
                </a:endParaRPr>
              </a:p>
            </p:txBody>
          </p:sp>
          <p:sp>
            <p:nvSpPr>
              <p:cNvPr id="1053" name="TextBox 49"/>
              <p:cNvSpPr/>
              <p:nvPr/>
            </p:nvSpPr>
            <p:spPr>
              <a:xfrm rot="16200000">
                <a:off x="6528600" y="6045120"/>
                <a:ext cx="40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9</a:t>
                </a:r>
                <a:endParaRPr b="0" lang="en-US" sz="1000" spc="-1" strike="noStrike">
                  <a:solidFill>
                    <a:srgbClr val="000000"/>
                  </a:solidFill>
                  <a:latin typeface="Calibri"/>
                </a:endParaRPr>
              </a:p>
            </p:txBody>
          </p:sp>
          <p:sp>
            <p:nvSpPr>
              <p:cNvPr id="1054" name="TextBox 50"/>
              <p:cNvSpPr/>
              <p:nvPr/>
            </p:nvSpPr>
            <p:spPr>
              <a:xfrm rot="16200000">
                <a:off x="6493680" y="6308280"/>
                <a:ext cx="482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10</a:t>
                </a:r>
                <a:endParaRPr b="0" lang="en-US" sz="1000" spc="-1" strike="noStrike">
                  <a:solidFill>
                    <a:srgbClr val="000000"/>
                  </a:solidFill>
                  <a:latin typeface="Calibri"/>
                </a:endParaRPr>
              </a:p>
            </p:txBody>
          </p:sp>
        </p:grpSp>
        <p:sp>
          <p:nvSpPr>
            <p:cNvPr id="1055" name="Freeform 52"/>
            <p:cNvSpPr/>
            <p:nvPr/>
          </p:nvSpPr>
          <p:spPr>
            <a:xfrm>
              <a:off x="6618600" y="1194480"/>
              <a:ext cx="149760" cy="5486400"/>
            </a:xfrm>
            <a:custGeom>
              <a:avLst/>
              <a:gdLst>
                <a:gd name="textAreaLeft" fmla="*/ 0 w 149760"/>
                <a:gd name="textAreaRight" fmla="*/ 150120 w 149760"/>
                <a:gd name="textAreaTop" fmla="*/ 0 h 5486400"/>
                <a:gd name="textAreaBottom" fmla="*/ 5486760 h 5486400"/>
              </a:gdLst>
              <a:ahLst/>
              <a:rect l="textAreaLeft" t="textAreaTop" r="textAreaRight" b="textAreaBottom"/>
              <a:pathLst>
                <a:path w="149861" h="5486401">
                  <a:moveTo>
                    <a:pt x="86360" y="0"/>
                  </a:moveTo>
                  <a:lnTo>
                    <a:pt x="86360" y="115569"/>
                  </a:lnTo>
                  <a:lnTo>
                    <a:pt x="85090" y="125730"/>
                  </a:lnTo>
                  <a:lnTo>
                    <a:pt x="82550" y="133350"/>
                  </a:lnTo>
                  <a:lnTo>
                    <a:pt x="80010" y="139700"/>
                  </a:lnTo>
                  <a:lnTo>
                    <a:pt x="76200" y="144780"/>
                  </a:lnTo>
                  <a:lnTo>
                    <a:pt x="72390" y="149860"/>
                  </a:lnTo>
                  <a:lnTo>
                    <a:pt x="68579" y="154939"/>
                  </a:lnTo>
                  <a:lnTo>
                    <a:pt x="66040" y="161289"/>
                  </a:lnTo>
                  <a:lnTo>
                    <a:pt x="62229" y="181610"/>
                  </a:lnTo>
                  <a:lnTo>
                    <a:pt x="60960" y="220980"/>
                  </a:lnTo>
                  <a:lnTo>
                    <a:pt x="62229" y="228600"/>
                  </a:lnTo>
                  <a:lnTo>
                    <a:pt x="64769" y="236219"/>
                  </a:lnTo>
                  <a:lnTo>
                    <a:pt x="78740" y="264160"/>
                  </a:lnTo>
                  <a:lnTo>
                    <a:pt x="82550" y="276860"/>
                  </a:lnTo>
                  <a:lnTo>
                    <a:pt x="86360" y="288289"/>
                  </a:lnTo>
                  <a:lnTo>
                    <a:pt x="88900" y="294639"/>
                  </a:lnTo>
                  <a:lnTo>
                    <a:pt x="92710" y="302260"/>
                  </a:lnTo>
                  <a:lnTo>
                    <a:pt x="99060" y="341630"/>
                  </a:lnTo>
                  <a:lnTo>
                    <a:pt x="101600" y="349250"/>
                  </a:lnTo>
                  <a:lnTo>
                    <a:pt x="105410" y="355600"/>
                  </a:lnTo>
                  <a:lnTo>
                    <a:pt x="109219" y="370839"/>
                  </a:lnTo>
                  <a:lnTo>
                    <a:pt x="109219" y="378460"/>
                  </a:lnTo>
                  <a:lnTo>
                    <a:pt x="107950" y="384810"/>
                  </a:lnTo>
                  <a:lnTo>
                    <a:pt x="102869" y="389889"/>
                  </a:lnTo>
                  <a:lnTo>
                    <a:pt x="97790" y="396239"/>
                  </a:lnTo>
                  <a:lnTo>
                    <a:pt x="93979" y="403860"/>
                  </a:lnTo>
                  <a:lnTo>
                    <a:pt x="90169" y="422910"/>
                  </a:lnTo>
                  <a:lnTo>
                    <a:pt x="87629" y="452120"/>
                  </a:lnTo>
                  <a:lnTo>
                    <a:pt x="83819" y="457200"/>
                  </a:lnTo>
                  <a:lnTo>
                    <a:pt x="78740" y="462279"/>
                  </a:lnTo>
                  <a:lnTo>
                    <a:pt x="73660" y="464820"/>
                  </a:lnTo>
                  <a:lnTo>
                    <a:pt x="68579" y="468629"/>
                  </a:lnTo>
                  <a:lnTo>
                    <a:pt x="66040" y="474979"/>
                  </a:lnTo>
                  <a:lnTo>
                    <a:pt x="64769" y="481329"/>
                  </a:lnTo>
                  <a:lnTo>
                    <a:pt x="64769" y="482600"/>
                  </a:lnTo>
                  <a:lnTo>
                    <a:pt x="68579" y="471170"/>
                  </a:lnTo>
                  <a:lnTo>
                    <a:pt x="68579" y="464820"/>
                  </a:lnTo>
                  <a:lnTo>
                    <a:pt x="67310" y="459739"/>
                  </a:lnTo>
                  <a:lnTo>
                    <a:pt x="66040" y="454660"/>
                  </a:lnTo>
                  <a:lnTo>
                    <a:pt x="60960" y="449579"/>
                  </a:lnTo>
                  <a:lnTo>
                    <a:pt x="55879" y="445770"/>
                  </a:lnTo>
                  <a:lnTo>
                    <a:pt x="48260" y="440689"/>
                  </a:lnTo>
                  <a:lnTo>
                    <a:pt x="44450" y="434339"/>
                  </a:lnTo>
                  <a:lnTo>
                    <a:pt x="41910" y="427989"/>
                  </a:lnTo>
                  <a:lnTo>
                    <a:pt x="39369" y="420369"/>
                  </a:lnTo>
                  <a:lnTo>
                    <a:pt x="36829" y="417830"/>
                  </a:lnTo>
                  <a:lnTo>
                    <a:pt x="33019" y="416560"/>
                  </a:lnTo>
                  <a:lnTo>
                    <a:pt x="30479" y="417830"/>
                  </a:lnTo>
                  <a:lnTo>
                    <a:pt x="27940" y="420369"/>
                  </a:lnTo>
                  <a:lnTo>
                    <a:pt x="25400" y="431800"/>
                  </a:lnTo>
                  <a:lnTo>
                    <a:pt x="22860" y="490220"/>
                  </a:lnTo>
                  <a:lnTo>
                    <a:pt x="26669" y="508000"/>
                  </a:lnTo>
                  <a:lnTo>
                    <a:pt x="29210" y="515620"/>
                  </a:lnTo>
                  <a:lnTo>
                    <a:pt x="35560" y="567689"/>
                  </a:lnTo>
                  <a:lnTo>
                    <a:pt x="38100" y="579120"/>
                  </a:lnTo>
                  <a:lnTo>
                    <a:pt x="41910" y="589279"/>
                  </a:lnTo>
                  <a:lnTo>
                    <a:pt x="45719" y="598170"/>
                  </a:lnTo>
                  <a:lnTo>
                    <a:pt x="49529" y="608329"/>
                  </a:lnTo>
                  <a:lnTo>
                    <a:pt x="53340" y="617220"/>
                  </a:lnTo>
                  <a:lnTo>
                    <a:pt x="58419" y="627379"/>
                  </a:lnTo>
                  <a:lnTo>
                    <a:pt x="64769" y="638810"/>
                  </a:lnTo>
                  <a:lnTo>
                    <a:pt x="72390" y="650239"/>
                  </a:lnTo>
                  <a:lnTo>
                    <a:pt x="77469" y="661670"/>
                  </a:lnTo>
                  <a:lnTo>
                    <a:pt x="80010" y="674370"/>
                  </a:lnTo>
                  <a:lnTo>
                    <a:pt x="85090" y="707389"/>
                  </a:lnTo>
                  <a:lnTo>
                    <a:pt x="87629" y="848360"/>
                  </a:lnTo>
                  <a:lnTo>
                    <a:pt x="90169" y="855979"/>
                  </a:lnTo>
                  <a:lnTo>
                    <a:pt x="92710" y="862329"/>
                  </a:lnTo>
                  <a:lnTo>
                    <a:pt x="96519" y="877570"/>
                  </a:lnTo>
                  <a:lnTo>
                    <a:pt x="100329" y="965200"/>
                  </a:lnTo>
                  <a:lnTo>
                    <a:pt x="102869" y="972820"/>
                  </a:lnTo>
                  <a:lnTo>
                    <a:pt x="105410" y="979170"/>
                  </a:lnTo>
                  <a:lnTo>
                    <a:pt x="105410" y="982979"/>
                  </a:lnTo>
                  <a:lnTo>
                    <a:pt x="101600" y="985520"/>
                  </a:lnTo>
                  <a:lnTo>
                    <a:pt x="96519" y="986789"/>
                  </a:lnTo>
                  <a:lnTo>
                    <a:pt x="90169" y="988060"/>
                  </a:lnTo>
                  <a:lnTo>
                    <a:pt x="83819" y="989329"/>
                  </a:lnTo>
                  <a:lnTo>
                    <a:pt x="76200" y="989329"/>
                  </a:lnTo>
                  <a:lnTo>
                    <a:pt x="71119" y="995679"/>
                  </a:lnTo>
                  <a:lnTo>
                    <a:pt x="67310" y="1004570"/>
                  </a:lnTo>
                  <a:lnTo>
                    <a:pt x="63500" y="1037589"/>
                  </a:lnTo>
                  <a:lnTo>
                    <a:pt x="60960" y="1101089"/>
                  </a:lnTo>
                  <a:lnTo>
                    <a:pt x="64769" y="1117600"/>
                  </a:lnTo>
                  <a:lnTo>
                    <a:pt x="67310" y="1126489"/>
                  </a:lnTo>
                  <a:lnTo>
                    <a:pt x="71119" y="1134110"/>
                  </a:lnTo>
                  <a:lnTo>
                    <a:pt x="74929" y="1143000"/>
                  </a:lnTo>
                  <a:lnTo>
                    <a:pt x="78740" y="1151889"/>
                  </a:lnTo>
                  <a:lnTo>
                    <a:pt x="82550" y="1168400"/>
                  </a:lnTo>
                  <a:lnTo>
                    <a:pt x="83819" y="1177289"/>
                  </a:lnTo>
                  <a:lnTo>
                    <a:pt x="87629" y="1183639"/>
                  </a:lnTo>
                  <a:lnTo>
                    <a:pt x="92710" y="1189989"/>
                  </a:lnTo>
                  <a:lnTo>
                    <a:pt x="99060" y="1195070"/>
                  </a:lnTo>
                  <a:lnTo>
                    <a:pt x="102869" y="1200150"/>
                  </a:lnTo>
                  <a:lnTo>
                    <a:pt x="107950" y="1210310"/>
                  </a:lnTo>
                  <a:lnTo>
                    <a:pt x="113029" y="1235710"/>
                  </a:lnTo>
                  <a:lnTo>
                    <a:pt x="115569" y="1242060"/>
                  </a:lnTo>
                  <a:lnTo>
                    <a:pt x="118110" y="1247139"/>
                  </a:lnTo>
                  <a:lnTo>
                    <a:pt x="121919" y="1253489"/>
                  </a:lnTo>
                  <a:lnTo>
                    <a:pt x="129540" y="1267460"/>
                  </a:lnTo>
                  <a:lnTo>
                    <a:pt x="140969" y="1291589"/>
                  </a:lnTo>
                  <a:lnTo>
                    <a:pt x="146050" y="1308100"/>
                  </a:lnTo>
                  <a:lnTo>
                    <a:pt x="149860" y="1367789"/>
                  </a:lnTo>
                  <a:lnTo>
                    <a:pt x="148590" y="1374139"/>
                  </a:lnTo>
                  <a:lnTo>
                    <a:pt x="146050" y="1380489"/>
                  </a:lnTo>
                  <a:lnTo>
                    <a:pt x="143510" y="1385570"/>
                  </a:lnTo>
                  <a:lnTo>
                    <a:pt x="139700" y="1399539"/>
                  </a:lnTo>
                  <a:lnTo>
                    <a:pt x="138429" y="1407160"/>
                  </a:lnTo>
                  <a:lnTo>
                    <a:pt x="137160" y="1413510"/>
                  </a:lnTo>
                  <a:lnTo>
                    <a:pt x="134619" y="1419860"/>
                  </a:lnTo>
                  <a:lnTo>
                    <a:pt x="130810" y="1424939"/>
                  </a:lnTo>
                  <a:lnTo>
                    <a:pt x="127000" y="1437639"/>
                  </a:lnTo>
                  <a:lnTo>
                    <a:pt x="124460" y="1463039"/>
                  </a:lnTo>
                  <a:lnTo>
                    <a:pt x="120650" y="1464310"/>
                  </a:lnTo>
                  <a:lnTo>
                    <a:pt x="113029" y="1464310"/>
                  </a:lnTo>
                  <a:lnTo>
                    <a:pt x="104140" y="1463039"/>
                  </a:lnTo>
                  <a:lnTo>
                    <a:pt x="96519" y="1460500"/>
                  </a:lnTo>
                  <a:lnTo>
                    <a:pt x="90169" y="1457960"/>
                  </a:lnTo>
                  <a:lnTo>
                    <a:pt x="85090" y="1454150"/>
                  </a:lnTo>
                  <a:lnTo>
                    <a:pt x="78740" y="1450339"/>
                  </a:lnTo>
                  <a:lnTo>
                    <a:pt x="63500" y="1442720"/>
                  </a:lnTo>
                  <a:lnTo>
                    <a:pt x="59690" y="1442720"/>
                  </a:lnTo>
                  <a:lnTo>
                    <a:pt x="58419" y="1446529"/>
                  </a:lnTo>
                  <a:lnTo>
                    <a:pt x="59690" y="1450339"/>
                  </a:lnTo>
                  <a:lnTo>
                    <a:pt x="62229" y="1459229"/>
                  </a:lnTo>
                  <a:lnTo>
                    <a:pt x="67310" y="1471929"/>
                  </a:lnTo>
                  <a:lnTo>
                    <a:pt x="73660" y="1484629"/>
                  </a:lnTo>
                  <a:lnTo>
                    <a:pt x="81279" y="1496060"/>
                  </a:lnTo>
                  <a:lnTo>
                    <a:pt x="88900" y="1507489"/>
                  </a:lnTo>
                  <a:lnTo>
                    <a:pt x="96519" y="1516379"/>
                  </a:lnTo>
                  <a:lnTo>
                    <a:pt x="104140" y="1527810"/>
                  </a:lnTo>
                  <a:lnTo>
                    <a:pt x="120650" y="1550670"/>
                  </a:lnTo>
                  <a:lnTo>
                    <a:pt x="127000" y="1559560"/>
                  </a:lnTo>
                  <a:lnTo>
                    <a:pt x="133350" y="1564639"/>
                  </a:lnTo>
                  <a:lnTo>
                    <a:pt x="138429" y="1567179"/>
                  </a:lnTo>
                  <a:lnTo>
                    <a:pt x="142240" y="1573529"/>
                  </a:lnTo>
                  <a:lnTo>
                    <a:pt x="146050" y="1586229"/>
                  </a:lnTo>
                  <a:lnTo>
                    <a:pt x="149860" y="1671320"/>
                  </a:lnTo>
                  <a:lnTo>
                    <a:pt x="147319" y="1678939"/>
                  </a:lnTo>
                  <a:lnTo>
                    <a:pt x="142240" y="1685289"/>
                  </a:lnTo>
                  <a:lnTo>
                    <a:pt x="135890" y="1690370"/>
                  </a:lnTo>
                  <a:lnTo>
                    <a:pt x="129540" y="1695450"/>
                  </a:lnTo>
                  <a:lnTo>
                    <a:pt x="121919" y="1700529"/>
                  </a:lnTo>
                  <a:lnTo>
                    <a:pt x="114300" y="1705610"/>
                  </a:lnTo>
                  <a:lnTo>
                    <a:pt x="107950" y="1709420"/>
                  </a:lnTo>
                  <a:lnTo>
                    <a:pt x="101600" y="1714500"/>
                  </a:lnTo>
                  <a:lnTo>
                    <a:pt x="96519" y="1718310"/>
                  </a:lnTo>
                  <a:lnTo>
                    <a:pt x="90169" y="1723389"/>
                  </a:lnTo>
                  <a:lnTo>
                    <a:pt x="83819" y="1727200"/>
                  </a:lnTo>
                  <a:lnTo>
                    <a:pt x="76200" y="1731010"/>
                  </a:lnTo>
                  <a:lnTo>
                    <a:pt x="71119" y="1737360"/>
                  </a:lnTo>
                  <a:lnTo>
                    <a:pt x="67310" y="1743710"/>
                  </a:lnTo>
                  <a:lnTo>
                    <a:pt x="66040" y="1751329"/>
                  </a:lnTo>
                  <a:lnTo>
                    <a:pt x="64769" y="1758950"/>
                  </a:lnTo>
                  <a:lnTo>
                    <a:pt x="68579" y="1774189"/>
                  </a:lnTo>
                  <a:lnTo>
                    <a:pt x="72390" y="1781810"/>
                  </a:lnTo>
                  <a:lnTo>
                    <a:pt x="74929" y="1786889"/>
                  </a:lnTo>
                  <a:lnTo>
                    <a:pt x="78740" y="1793239"/>
                  </a:lnTo>
                  <a:lnTo>
                    <a:pt x="82550" y="1809750"/>
                  </a:lnTo>
                  <a:lnTo>
                    <a:pt x="86360" y="1830070"/>
                  </a:lnTo>
                  <a:lnTo>
                    <a:pt x="88900" y="1840229"/>
                  </a:lnTo>
                  <a:lnTo>
                    <a:pt x="92710" y="1849120"/>
                  </a:lnTo>
                  <a:lnTo>
                    <a:pt x="96519" y="1874520"/>
                  </a:lnTo>
                  <a:lnTo>
                    <a:pt x="99060" y="2043429"/>
                  </a:lnTo>
                  <a:lnTo>
                    <a:pt x="99060" y="2052320"/>
                  </a:lnTo>
                  <a:lnTo>
                    <a:pt x="97790" y="2059940"/>
                  </a:lnTo>
                  <a:lnTo>
                    <a:pt x="95250" y="2066290"/>
                  </a:lnTo>
                  <a:lnTo>
                    <a:pt x="92710" y="2071370"/>
                  </a:lnTo>
                  <a:lnTo>
                    <a:pt x="87629" y="2076450"/>
                  </a:lnTo>
                  <a:lnTo>
                    <a:pt x="81279" y="2081529"/>
                  </a:lnTo>
                  <a:lnTo>
                    <a:pt x="74929" y="2086609"/>
                  </a:lnTo>
                  <a:lnTo>
                    <a:pt x="69850" y="2092959"/>
                  </a:lnTo>
                  <a:lnTo>
                    <a:pt x="67310" y="2103120"/>
                  </a:lnTo>
                  <a:lnTo>
                    <a:pt x="64769" y="2113279"/>
                  </a:lnTo>
                  <a:lnTo>
                    <a:pt x="62229" y="2118359"/>
                  </a:lnTo>
                  <a:lnTo>
                    <a:pt x="58419" y="2120900"/>
                  </a:lnTo>
                  <a:lnTo>
                    <a:pt x="55879" y="2120900"/>
                  </a:lnTo>
                  <a:lnTo>
                    <a:pt x="53340" y="2117090"/>
                  </a:lnTo>
                  <a:lnTo>
                    <a:pt x="50800" y="2100579"/>
                  </a:lnTo>
                  <a:lnTo>
                    <a:pt x="48260" y="2061209"/>
                  </a:lnTo>
                  <a:lnTo>
                    <a:pt x="49529" y="2054860"/>
                  </a:lnTo>
                  <a:lnTo>
                    <a:pt x="52069" y="2052320"/>
                  </a:lnTo>
                  <a:lnTo>
                    <a:pt x="54610" y="2053589"/>
                  </a:lnTo>
                  <a:lnTo>
                    <a:pt x="57150" y="2059940"/>
                  </a:lnTo>
                  <a:lnTo>
                    <a:pt x="59690" y="2076450"/>
                  </a:lnTo>
                  <a:lnTo>
                    <a:pt x="62229" y="2086609"/>
                  </a:lnTo>
                  <a:lnTo>
                    <a:pt x="67310" y="2098040"/>
                  </a:lnTo>
                  <a:lnTo>
                    <a:pt x="73660" y="2110740"/>
                  </a:lnTo>
                  <a:lnTo>
                    <a:pt x="77469" y="2120900"/>
                  </a:lnTo>
                  <a:lnTo>
                    <a:pt x="85090" y="2148840"/>
                  </a:lnTo>
                  <a:lnTo>
                    <a:pt x="88900" y="2157729"/>
                  </a:lnTo>
                  <a:lnTo>
                    <a:pt x="91440" y="2166620"/>
                  </a:lnTo>
                  <a:lnTo>
                    <a:pt x="96519" y="2180590"/>
                  </a:lnTo>
                  <a:lnTo>
                    <a:pt x="99060" y="2207259"/>
                  </a:lnTo>
                  <a:lnTo>
                    <a:pt x="95250" y="2223770"/>
                  </a:lnTo>
                  <a:lnTo>
                    <a:pt x="92710" y="2231390"/>
                  </a:lnTo>
                  <a:lnTo>
                    <a:pt x="87629" y="2237740"/>
                  </a:lnTo>
                  <a:lnTo>
                    <a:pt x="81279" y="2244090"/>
                  </a:lnTo>
                  <a:lnTo>
                    <a:pt x="74929" y="2249170"/>
                  </a:lnTo>
                  <a:lnTo>
                    <a:pt x="68579" y="2258059"/>
                  </a:lnTo>
                  <a:lnTo>
                    <a:pt x="63500" y="2266950"/>
                  </a:lnTo>
                  <a:lnTo>
                    <a:pt x="58419" y="2277109"/>
                  </a:lnTo>
                  <a:lnTo>
                    <a:pt x="53340" y="2286000"/>
                  </a:lnTo>
                  <a:lnTo>
                    <a:pt x="49529" y="2293620"/>
                  </a:lnTo>
                  <a:lnTo>
                    <a:pt x="44450" y="2298700"/>
                  </a:lnTo>
                  <a:lnTo>
                    <a:pt x="41910" y="2307590"/>
                  </a:lnTo>
                  <a:lnTo>
                    <a:pt x="38100" y="2327909"/>
                  </a:lnTo>
                  <a:lnTo>
                    <a:pt x="34290" y="2336800"/>
                  </a:lnTo>
                  <a:lnTo>
                    <a:pt x="29210" y="2343150"/>
                  </a:lnTo>
                  <a:lnTo>
                    <a:pt x="7619" y="2364740"/>
                  </a:lnTo>
                  <a:lnTo>
                    <a:pt x="3810" y="2371090"/>
                  </a:lnTo>
                  <a:lnTo>
                    <a:pt x="0" y="2385059"/>
                  </a:lnTo>
                  <a:lnTo>
                    <a:pt x="1269" y="2391409"/>
                  </a:lnTo>
                  <a:lnTo>
                    <a:pt x="2540" y="2397759"/>
                  </a:lnTo>
                  <a:lnTo>
                    <a:pt x="6350" y="2407920"/>
                  </a:lnTo>
                  <a:lnTo>
                    <a:pt x="8890" y="2416809"/>
                  </a:lnTo>
                  <a:lnTo>
                    <a:pt x="12700" y="2425700"/>
                  </a:lnTo>
                  <a:lnTo>
                    <a:pt x="16510" y="2429509"/>
                  </a:lnTo>
                  <a:lnTo>
                    <a:pt x="20319" y="2435859"/>
                  </a:lnTo>
                  <a:lnTo>
                    <a:pt x="24129" y="2442209"/>
                  </a:lnTo>
                  <a:lnTo>
                    <a:pt x="27940" y="2449829"/>
                  </a:lnTo>
                  <a:lnTo>
                    <a:pt x="31750" y="2468879"/>
                  </a:lnTo>
                  <a:lnTo>
                    <a:pt x="35560" y="2625090"/>
                  </a:lnTo>
                  <a:lnTo>
                    <a:pt x="36829" y="2631440"/>
                  </a:lnTo>
                  <a:lnTo>
                    <a:pt x="39369" y="2637790"/>
                  </a:lnTo>
                  <a:lnTo>
                    <a:pt x="45719" y="2649220"/>
                  </a:lnTo>
                  <a:lnTo>
                    <a:pt x="53340" y="2664459"/>
                  </a:lnTo>
                  <a:lnTo>
                    <a:pt x="57150" y="2680970"/>
                  </a:lnTo>
                  <a:lnTo>
                    <a:pt x="60960" y="2848609"/>
                  </a:lnTo>
                  <a:lnTo>
                    <a:pt x="60960" y="2901950"/>
                  </a:lnTo>
                  <a:lnTo>
                    <a:pt x="58419" y="2910840"/>
                  </a:lnTo>
                  <a:lnTo>
                    <a:pt x="53340" y="2919729"/>
                  </a:lnTo>
                  <a:lnTo>
                    <a:pt x="46990" y="2928620"/>
                  </a:lnTo>
                  <a:lnTo>
                    <a:pt x="40640" y="2934970"/>
                  </a:lnTo>
                  <a:lnTo>
                    <a:pt x="33019" y="2938779"/>
                  </a:lnTo>
                  <a:lnTo>
                    <a:pt x="25400" y="2941320"/>
                  </a:lnTo>
                  <a:lnTo>
                    <a:pt x="20319" y="2947670"/>
                  </a:lnTo>
                  <a:lnTo>
                    <a:pt x="16510" y="2955290"/>
                  </a:lnTo>
                  <a:lnTo>
                    <a:pt x="15240" y="2965450"/>
                  </a:lnTo>
                  <a:lnTo>
                    <a:pt x="16510" y="2990850"/>
                  </a:lnTo>
                  <a:lnTo>
                    <a:pt x="17779" y="3006090"/>
                  </a:lnTo>
                  <a:lnTo>
                    <a:pt x="21590" y="3018790"/>
                  </a:lnTo>
                  <a:lnTo>
                    <a:pt x="24129" y="3030220"/>
                  </a:lnTo>
                  <a:lnTo>
                    <a:pt x="27940" y="3040379"/>
                  </a:lnTo>
                  <a:lnTo>
                    <a:pt x="31750" y="3063240"/>
                  </a:lnTo>
                  <a:lnTo>
                    <a:pt x="36829" y="3114040"/>
                  </a:lnTo>
                  <a:lnTo>
                    <a:pt x="39369" y="3122929"/>
                  </a:lnTo>
                  <a:lnTo>
                    <a:pt x="41910" y="3131820"/>
                  </a:lnTo>
                  <a:lnTo>
                    <a:pt x="48260" y="3175000"/>
                  </a:lnTo>
                  <a:lnTo>
                    <a:pt x="50800" y="3185159"/>
                  </a:lnTo>
                  <a:lnTo>
                    <a:pt x="54610" y="3194050"/>
                  </a:lnTo>
                  <a:lnTo>
                    <a:pt x="58419" y="3228340"/>
                  </a:lnTo>
                  <a:lnTo>
                    <a:pt x="60960" y="3394709"/>
                  </a:lnTo>
                  <a:lnTo>
                    <a:pt x="60960" y="3747770"/>
                  </a:lnTo>
                  <a:lnTo>
                    <a:pt x="64769" y="3764279"/>
                  </a:lnTo>
                  <a:lnTo>
                    <a:pt x="67310" y="3771900"/>
                  </a:lnTo>
                  <a:lnTo>
                    <a:pt x="72390" y="3801109"/>
                  </a:lnTo>
                  <a:lnTo>
                    <a:pt x="74929" y="3839209"/>
                  </a:lnTo>
                  <a:lnTo>
                    <a:pt x="77469" y="3846829"/>
                  </a:lnTo>
                  <a:lnTo>
                    <a:pt x="80010" y="3855720"/>
                  </a:lnTo>
                  <a:lnTo>
                    <a:pt x="85090" y="3882390"/>
                  </a:lnTo>
                  <a:lnTo>
                    <a:pt x="86360" y="4046220"/>
                  </a:lnTo>
                  <a:lnTo>
                    <a:pt x="85090" y="4071620"/>
                  </a:lnTo>
                  <a:lnTo>
                    <a:pt x="82550" y="4080509"/>
                  </a:lnTo>
                  <a:lnTo>
                    <a:pt x="80010" y="4088129"/>
                  </a:lnTo>
                  <a:lnTo>
                    <a:pt x="74929" y="4110990"/>
                  </a:lnTo>
                  <a:lnTo>
                    <a:pt x="73660" y="4269740"/>
                  </a:lnTo>
                  <a:lnTo>
                    <a:pt x="74929" y="4406900"/>
                  </a:lnTo>
                  <a:lnTo>
                    <a:pt x="77469" y="4417059"/>
                  </a:lnTo>
                  <a:lnTo>
                    <a:pt x="80010" y="4425950"/>
                  </a:lnTo>
                  <a:lnTo>
                    <a:pt x="85090" y="4466590"/>
                  </a:lnTo>
                  <a:lnTo>
                    <a:pt x="86360" y="4546600"/>
                  </a:lnTo>
                  <a:lnTo>
                    <a:pt x="82550" y="4564379"/>
                  </a:lnTo>
                  <a:lnTo>
                    <a:pt x="80010" y="4570729"/>
                  </a:lnTo>
                  <a:lnTo>
                    <a:pt x="76200" y="4585970"/>
                  </a:lnTo>
                  <a:lnTo>
                    <a:pt x="73660" y="4752340"/>
                  </a:lnTo>
                  <a:lnTo>
                    <a:pt x="69850" y="4772659"/>
                  </a:lnTo>
                  <a:lnTo>
                    <a:pt x="67310" y="4781550"/>
                  </a:lnTo>
                  <a:lnTo>
                    <a:pt x="62229" y="4808220"/>
                  </a:lnTo>
                  <a:lnTo>
                    <a:pt x="60960" y="4936490"/>
                  </a:lnTo>
                  <a:lnTo>
                    <a:pt x="64769" y="4953000"/>
                  </a:lnTo>
                  <a:lnTo>
                    <a:pt x="67310" y="4961890"/>
                  </a:lnTo>
                  <a:lnTo>
                    <a:pt x="71119" y="4969509"/>
                  </a:lnTo>
                  <a:lnTo>
                    <a:pt x="74929" y="4978400"/>
                  </a:lnTo>
                  <a:lnTo>
                    <a:pt x="78740" y="4987290"/>
                  </a:lnTo>
                  <a:lnTo>
                    <a:pt x="82550" y="5003800"/>
                  </a:lnTo>
                  <a:lnTo>
                    <a:pt x="85090" y="5038090"/>
                  </a:lnTo>
                  <a:lnTo>
                    <a:pt x="82550" y="5044440"/>
                  </a:lnTo>
                  <a:lnTo>
                    <a:pt x="78740" y="5050790"/>
                  </a:lnTo>
                  <a:lnTo>
                    <a:pt x="72390" y="5055870"/>
                  </a:lnTo>
                  <a:lnTo>
                    <a:pt x="68579" y="5064759"/>
                  </a:lnTo>
                  <a:lnTo>
                    <a:pt x="64769" y="5083809"/>
                  </a:lnTo>
                  <a:lnTo>
                    <a:pt x="64769" y="5092700"/>
                  </a:lnTo>
                  <a:lnTo>
                    <a:pt x="66040" y="5100320"/>
                  </a:lnTo>
                  <a:lnTo>
                    <a:pt x="68579" y="5105400"/>
                  </a:lnTo>
                  <a:lnTo>
                    <a:pt x="72390" y="5128259"/>
                  </a:lnTo>
                  <a:lnTo>
                    <a:pt x="73660" y="5251450"/>
                  </a:lnTo>
                  <a:lnTo>
                    <a:pt x="72390" y="5257800"/>
                  </a:lnTo>
                  <a:lnTo>
                    <a:pt x="69850" y="5261609"/>
                  </a:lnTo>
                  <a:lnTo>
                    <a:pt x="67310" y="5265420"/>
                  </a:lnTo>
                  <a:lnTo>
                    <a:pt x="64769" y="5269229"/>
                  </a:lnTo>
                  <a:lnTo>
                    <a:pt x="54610" y="5318759"/>
                  </a:lnTo>
                  <a:lnTo>
                    <a:pt x="50800" y="5328919"/>
                  </a:lnTo>
                  <a:lnTo>
                    <a:pt x="46990" y="5337809"/>
                  </a:lnTo>
                  <a:lnTo>
                    <a:pt x="43179" y="5345430"/>
                  </a:lnTo>
                  <a:lnTo>
                    <a:pt x="41910" y="5354319"/>
                  </a:lnTo>
                  <a:lnTo>
                    <a:pt x="44450" y="5375909"/>
                  </a:lnTo>
                  <a:lnTo>
                    <a:pt x="48260" y="5386069"/>
                  </a:lnTo>
                  <a:lnTo>
                    <a:pt x="54610" y="5394959"/>
                  </a:lnTo>
                  <a:lnTo>
                    <a:pt x="60960" y="5403850"/>
                  </a:lnTo>
                  <a:lnTo>
                    <a:pt x="64769" y="5414009"/>
                  </a:lnTo>
                  <a:lnTo>
                    <a:pt x="67310" y="5421630"/>
                  </a:lnTo>
                  <a:lnTo>
                    <a:pt x="72390" y="5438140"/>
                  </a:lnTo>
                  <a:lnTo>
                    <a:pt x="76200" y="5444490"/>
                  </a:lnTo>
                  <a:lnTo>
                    <a:pt x="86360" y="5486400"/>
                  </a:lnTo>
                </a:path>
              </a:pathLst>
            </a:custGeom>
            <a:noFill/>
            <a:ln w="35568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056" name="Straight Connector 54"/>
          <p:cNvSpPr/>
          <p:nvPr/>
        </p:nvSpPr>
        <p:spPr>
          <a:xfrm flipV="1">
            <a:off x="5486400" y="6197760"/>
            <a:ext cx="0" cy="596880"/>
          </a:xfrm>
          <a:prstGeom prst="line">
            <a:avLst/>
          </a:prstGeom>
          <a:ln w="3816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7" name="Straight Connector 55"/>
          <p:cNvSpPr/>
          <p:nvPr/>
        </p:nvSpPr>
        <p:spPr>
          <a:xfrm>
            <a:off x="5715000" y="6172200"/>
            <a:ext cx="0" cy="596880"/>
          </a:xfrm>
          <a:prstGeom prst="line">
            <a:avLst/>
          </a:prstGeom>
          <a:ln w="3816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8" name="TextBox 56"/>
          <p:cNvSpPr/>
          <p:nvPr/>
        </p:nvSpPr>
        <p:spPr>
          <a:xfrm>
            <a:off x="5943600" y="5435640"/>
            <a:ext cx="43164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6"/>
              </a:rPr>
              <a:t>0</a:t>
            </a:r>
            <a:endParaRPr b="0" lang="en-US" sz="1500" spc="-1" strike="noStrike">
              <a:solidFill>
                <a:srgbClr val="000000"/>
              </a:solidFill>
              <a:latin typeface="Calibri"/>
            </a:endParaRPr>
          </a:p>
        </p:txBody>
      </p:sp>
      <p:sp>
        <p:nvSpPr>
          <p:cNvPr id="1059" name="TextBox 57"/>
          <p:cNvSpPr/>
          <p:nvPr/>
        </p:nvSpPr>
        <p:spPr>
          <a:xfrm>
            <a:off x="5803920" y="5969160"/>
            <a:ext cx="6094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6"/>
              </a:rPr>
              <a:t>-40</a:t>
            </a:r>
            <a:endParaRPr b="0" lang="en-US" sz="1500" spc="-1" strike="noStrike">
              <a:solidFill>
                <a:srgbClr val="000000"/>
              </a:solidFill>
              <a:latin typeface="Calibri"/>
            </a:endParaRPr>
          </a:p>
        </p:txBody>
      </p:sp>
      <p:sp>
        <p:nvSpPr>
          <p:cNvPr id="1060" name="TextBox 58"/>
          <p:cNvSpPr/>
          <p:nvPr/>
        </p:nvSpPr>
        <p:spPr>
          <a:xfrm>
            <a:off x="5854680" y="4889520"/>
            <a:ext cx="55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 16"/>
              </a:rPr>
              <a:t>40</a:t>
            </a:r>
            <a:endParaRPr b="0" lang="en-US" sz="1600" spc="-1" strike="noStrike">
              <a:solidFill>
                <a:srgbClr val="000000"/>
              </a:solidFill>
              <a:latin typeface="Calibri"/>
            </a:endParaRPr>
          </a:p>
        </p:txBody>
      </p:sp>
      <p:sp>
        <p:nvSpPr>
          <p:cNvPr id="1061" name="TextBox 59"/>
          <p:cNvSpPr/>
          <p:nvPr/>
        </p:nvSpPr>
        <p:spPr>
          <a:xfrm>
            <a:off x="5867280" y="4368960"/>
            <a:ext cx="55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 16"/>
              </a:rPr>
              <a:t>80</a:t>
            </a:r>
            <a:endParaRPr b="0" lang="en-US" sz="1600" spc="-1" strike="noStrike">
              <a:solidFill>
                <a:srgbClr val="000000"/>
              </a:solidFill>
              <a:latin typeface="Calibri"/>
            </a:endParaRPr>
          </a:p>
        </p:txBody>
      </p:sp>
      <p:sp>
        <p:nvSpPr>
          <p:cNvPr id="1062" name="TextBox 60"/>
          <p:cNvSpPr/>
          <p:nvPr/>
        </p:nvSpPr>
        <p:spPr>
          <a:xfrm>
            <a:off x="5740560" y="3848040"/>
            <a:ext cx="660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 16"/>
              </a:rPr>
              <a:t>120</a:t>
            </a:r>
            <a:endParaRPr b="0" lang="en-US" sz="1600" spc="-1" strike="noStrike">
              <a:solidFill>
                <a:srgbClr val="000000"/>
              </a:solidFill>
              <a:latin typeface="Calibri"/>
            </a:endParaRPr>
          </a:p>
        </p:txBody>
      </p:sp>
      <p:sp>
        <p:nvSpPr>
          <p:cNvPr id="1063" name="TextBox 61"/>
          <p:cNvSpPr/>
          <p:nvPr/>
        </p:nvSpPr>
        <p:spPr>
          <a:xfrm>
            <a:off x="5727600" y="3327480"/>
            <a:ext cx="66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 16"/>
              </a:rPr>
              <a:t>160</a:t>
            </a:r>
            <a:endParaRPr b="0" lang="en-US" sz="1600" spc="-1" strike="noStrike">
              <a:solidFill>
                <a:srgbClr val="000000"/>
              </a:solidFill>
              <a:latin typeface="Calibri"/>
            </a:endParaRPr>
          </a:p>
        </p:txBody>
      </p:sp>
      <p:sp>
        <p:nvSpPr>
          <p:cNvPr id="1064" name="TextBox 62"/>
          <p:cNvSpPr/>
          <p:nvPr/>
        </p:nvSpPr>
        <p:spPr>
          <a:xfrm>
            <a:off x="5740560" y="2832120"/>
            <a:ext cx="660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 16"/>
              </a:rPr>
              <a:t>200</a:t>
            </a:r>
            <a:endParaRPr b="0" lang="en-US" sz="1600" spc="-1" strike="noStrike">
              <a:solidFill>
                <a:srgbClr val="000000"/>
              </a:solidFill>
              <a:latin typeface="Calibri"/>
            </a:endParaRPr>
          </a:p>
        </p:txBody>
      </p:sp>
      <p:sp>
        <p:nvSpPr>
          <p:cNvPr id="1065" name="TextBox 63"/>
          <p:cNvSpPr/>
          <p:nvPr/>
        </p:nvSpPr>
        <p:spPr>
          <a:xfrm>
            <a:off x="5702400" y="231156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 16"/>
              </a:rPr>
              <a:t>240</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TextBox 1"/>
          <p:cNvSpPr/>
          <p:nvPr/>
        </p:nvSpPr>
        <p:spPr>
          <a:xfrm>
            <a:off x="241200" y="0"/>
            <a:ext cx="271800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omic Sans MS - 36"/>
              </a:rPr>
              <a:t>Key Ideas</a:t>
            </a:r>
            <a:endParaRPr b="0" lang="en-US" sz="3500" spc="-1" strike="noStrike">
              <a:solidFill>
                <a:srgbClr val="000000"/>
              </a:solidFill>
              <a:latin typeface="Calibri"/>
            </a:endParaRPr>
          </a:p>
        </p:txBody>
      </p:sp>
      <p:sp>
        <p:nvSpPr>
          <p:cNvPr id="1067" name="TextBox 2"/>
          <p:cNvSpPr/>
          <p:nvPr/>
        </p:nvSpPr>
        <p:spPr>
          <a:xfrm>
            <a:off x="254160" y="673200"/>
            <a:ext cx="10058400" cy="114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Symbol - 24"/>
              </a:rPr>
              <a:t>·</a:t>
            </a:r>
            <a:r>
              <a:rPr b="0" lang="en-CA" sz="2300" spc="-1" strike="noStrike">
                <a:solidFill>
                  <a:srgbClr val="0000ff"/>
                </a:solidFill>
                <a:latin typeface="Comic Sans MS - 24"/>
              </a:rPr>
              <a:t>You can subtract an integer by adding the opposite.</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You can represent integer subtraction by adding the opposite on a vertical or horizontal number line.</a:t>
            </a:r>
            <a:endParaRPr b="0" lang="en-US" sz="2300" spc="-1" strike="noStrike">
              <a:solidFill>
                <a:srgbClr val="000000"/>
              </a:solidFill>
              <a:latin typeface="Calibri"/>
            </a:endParaRPr>
          </a:p>
        </p:txBody>
      </p:sp>
      <p:grpSp>
        <p:nvGrpSpPr>
          <p:cNvPr id="1068" name="Group 31"/>
          <p:cNvGrpSpPr/>
          <p:nvPr/>
        </p:nvGrpSpPr>
        <p:grpSpPr>
          <a:xfrm>
            <a:off x="388800" y="4662360"/>
            <a:ext cx="5683320" cy="608040"/>
            <a:chOff x="388800" y="4662360"/>
            <a:chExt cx="5683320" cy="608040"/>
          </a:xfrm>
        </p:grpSpPr>
        <p:sp>
          <p:nvSpPr>
            <p:cNvPr id="1069" name="TextBox 3"/>
            <p:cNvSpPr/>
            <p:nvPr/>
          </p:nvSpPr>
          <p:spPr>
            <a:xfrm>
              <a:off x="2565000" y="490212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1</a:t>
              </a:r>
              <a:endParaRPr b="0" lang="en-US" sz="900" spc="-1" strike="noStrike">
                <a:solidFill>
                  <a:srgbClr val="000000"/>
                </a:solidFill>
                <a:latin typeface="Calibri"/>
              </a:endParaRPr>
            </a:p>
          </p:txBody>
        </p:sp>
        <p:sp>
          <p:nvSpPr>
            <p:cNvPr id="1070" name="TextBox 4"/>
            <p:cNvSpPr/>
            <p:nvPr/>
          </p:nvSpPr>
          <p:spPr>
            <a:xfrm>
              <a:off x="3123720" y="4914720"/>
              <a:ext cx="3045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0</a:t>
              </a:r>
              <a:endParaRPr b="0" lang="en-US" sz="900" spc="-1" strike="noStrike">
                <a:solidFill>
                  <a:srgbClr val="000000"/>
                </a:solidFill>
                <a:latin typeface="Calibri"/>
              </a:endParaRPr>
            </a:p>
          </p:txBody>
        </p:sp>
        <p:sp>
          <p:nvSpPr>
            <p:cNvPr id="1071" name="TextBox 5"/>
            <p:cNvSpPr/>
            <p:nvPr/>
          </p:nvSpPr>
          <p:spPr>
            <a:xfrm>
              <a:off x="2120400" y="4902120"/>
              <a:ext cx="27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2</a:t>
              </a:r>
              <a:endParaRPr b="0" lang="en-US" sz="900" spc="-1" strike="noStrike">
                <a:solidFill>
                  <a:srgbClr val="000000"/>
                </a:solidFill>
                <a:latin typeface="Calibri"/>
              </a:endParaRPr>
            </a:p>
          </p:txBody>
        </p:sp>
        <p:sp>
          <p:nvSpPr>
            <p:cNvPr id="1072" name="TextBox 6"/>
            <p:cNvSpPr/>
            <p:nvPr/>
          </p:nvSpPr>
          <p:spPr>
            <a:xfrm>
              <a:off x="1625040" y="49021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3</a:t>
              </a:r>
              <a:endParaRPr b="0" lang="en-US" sz="1000" spc="-1" strike="noStrike">
                <a:solidFill>
                  <a:srgbClr val="000000"/>
                </a:solidFill>
                <a:latin typeface="Calibri"/>
              </a:endParaRPr>
            </a:p>
          </p:txBody>
        </p:sp>
        <p:sp>
          <p:nvSpPr>
            <p:cNvPr id="1073" name="TextBox 7"/>
            <p:cNvSpPr/>
            <p:nvPr/>
          </p:nvSpPr>
          <p:spPr>
            <a:xfrm>
              <a:off x="1154880" y="49021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4</a:t>
              </a:r>
              <a:endParaRPr b="0" lang="en-US" sz="1000" spc="-1" strike="noStrike">
                <a:solidFill>
                  <a:srgbClr val="000000"/>
                </a:solidFill>
                <a:latin typeface="Calibri"/>
              </a:endParaRPr>
            </a:p>
          </p:txBody>
        </p:sp>
        <p:sp>
          <p:nvSpPr>
            <p:cNvPr id="1074" name="TextBox 8"/>
            <p:cNvSpPr/>
            <p:nvPr/>
          </p:nvSpPr>
          <p:spPr>
            <a:xfrm>
              <a:off x="710280" y="49021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5</a:t>
              </a:r>
              <a:endParaRPr b="0" lang="en-US" sz="1000" spc="-1" strike="noStrike">
                <a:solidFill>
                  <a:srgbClr val="000000"/>
                </a:solidFill>
                <a:latin typeface="Calibri"/>
              </a:endParaRPr>
            </a:p>
          </p:txBody>
        </p:sp>
        <p:sp>
          <p:nvSpPr>
            <p:cNvPr id="1075" name="TextBox 9"/>
            <p:cNvSpPr/>
            <p:nvPr/>
          </p:nvSpPr>
          <p:spPr>
            <a:xfrm>
              <a:off x="3593880" y="490212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1</a:t>
              </a:r>
              <a:endParaRPr b="0" lang="en-US" sz="900" spc="-1" strike="noStrike">
                <a:solidFill>
                  <a:srgbClr val="000000"/>
                </a:solidFill>
                <a:latin typeface="Calibri"/>
              </a:endParaRPr>
            </a:p>
          </p:txBody>
        </p:sp>
        <p:sp>
          <p:nvSpPr>
            <p:cNvPr id="1076" name="TextBox 10"/>
            <p:cNvSpPr/>
            <p:nvPr/>
          </p:nvSpPr>
          <p:spPr>
            <a:xfrm>
              <a:off x="4076640" y="4902120"/>
              <a:ext cx="279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2</a:t>
              </a:r>
              <a:endParaRPr b="0" lang="en-US" sz="900" spc="-1" strike="noStrike">
                <a:solidFill>
                  <a:srgbClr val="000000"/>
                </a:solidFill>
                <a:latin typeface="Calibri"/>
              </a:endParaRPr>
            </a:p>
          </p:txBody>
        </p:sp>
        <p:sp>
          <p:nvSpPr>
            <p:cNvPr id="1077" name="TextBox 11"/>
            <p:cNvSpPr/>
            <p:nvPr/>
          </p:nvSpPr>
          <p:spPr>
            <a:xfrm>
              <a:off x="4521240" y="49147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3</a:t>
              </a:r>
              <a:endParaRPr b="0" lang="en-US" sz="1000" spc="-1" strike="noStrike">
                <a:solidFill>
                  <a:srgbClr val="000000"/>
                </a:solidFill>
                <a:latin typeface="Calibri"/>
              </a:endParaRPr>
            </a:p>
          </p:txBody>
        </p:sp>
        <p:sp>
          <p:nvSpPr>
            <p:cNvPr id="1078" name="TextBox 12"/>
            <p:cNvSpPr/>
            <p:nvPr/>
          </p:nvSpPr>
          <p:spPr>
            <a:xfrm>
              <a:off x="4991040" y="49147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4</a:t>
              </a:r>
              <a:endParaRPr b="0" lang="en-US" sz="1000" spc="-1" strike="noStrike">
                <a:solidFill>
                  <a:srgbClr val="000000"/>
                </a:solidFill>
                <a:latin typeface="Calibri"/>
              </a:endParaRPr>
            </a:p>
          </p:txBody>
        </p:sp>
        <p:sp>
          <p:nvSpPr>
            <p:cNvPr id="1079" name="TextBox 13"/>
            <p:cNvSpPr/>
            <p:nvPr/>
          </p:nvSpPr>
          <p:spPr>
            <a:xfrm>
              <a:off x="5461200" y="49021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5</a:t>
              </a:r>
              <a:endParaRPr b="0" lang="en-US" sz="1000" spc="-1" strike="noStrike">
                <a:solidFill>
                  <a:srgbClr val="000000"/>
                </a:solidFill>
                <a:latin typeface="Calibri"/>
              </a:endParaRPr>
            </a:p>
          </p:txBody>
        </p:sp>
        <p:grpSp>
          <p:nvGrpSpPr>
            <p:cNvPr id="1080" name="Group 19"/>
            <p:cNvGrpSpPr/>
            <p:nvPr/>
          </p:nvGrpSpPr>
          <p:grpSpPr>
            <a:xfrm>
              <a:off x="388800" y="4662360"/>
              <a:ext cx="5683320" cy="258120"/>
              <a:chOff x="388800" y="4662360"/>
              <a:chExt cx="5683320" cy="258120"/>
            </a:xfrm>
          </p:grpSpPr>
          <p:sp>
            <p:nvSpPr>
              <p:cNvPr id="1081" name="Freeform 14"/>
              <p:cNvSpPr/>
              <p:nvPr/>
            </p:nvSpPr>
            <p:spPr>
              <a:xfrm>
                <a:off x="396360" y="4785480"/>
                <a:ext cx="5674320" cy="9720"/>
              </a:xfrm>
              <a:custGeom>
                <a:avLst/>
                <a:gdLst>
                  <a:gd name="textAreaLeft" fmla="*/ 0 w 5674320"/>
                  <a:gd name="textAreaRight" fmla="*/ 5674680 w 5674320"/>
                  <a:gd name="textAreaTop" fmla="*/ 0 h 9720"/>
                  <a:gd name="textAreaBottom" fmla="*/ 10080 h 9720"/>
                </a:gdLst>
                <a:ahLst/>
                <a:rect l="textAreaLeft" t="textAreaTop" r="textAreaRight" b="textAreaBottom"/>
                <a:pathLst>
                  <a:path w="5673471" h="9779">
                    <a:moveTo>
                      <a:pt x="0" y="9778"/>
                    </a:moveTo>
                    <a:lnTo>
                      <a:pt x="0" y="0"/>
                    </a:lnTo>
                    <a:lnTo>
                      <a:pt x="5673470" y="0"/>
                    </a:lnTo>
                    <a:lnTo>
                      <a:pt x="5673470" y="9778"/>
                    </a:lnTo>
                    <a:close/>
                  </a:path>
                </a:pathLst>
              </a:custGeom>
              <a:solidFill>
                <a:srgbClr val="000000"/>
              </a:solidFill>
              <a:ln w="0">
                <a:solidFill>
                  <a:srgbClr val="000000"/>
                </a:solidFill>
              </a:ln>
            </p:spPr>
            <p:style>
              <a:lnRef idx="0"/>
              <a:fillRef idx="0"/>
              <a:effectRef idx="0"/>
              <a:fontRef idx="minor"/>
            </p:style>
            <p:txBody>
              <a:bodyPr lIns="90000" rIns="90000" tIns="-36720" bIns="-36720" anchor="ctr">
                <a:noAutofit/>
              </a:bodyPr>
              <a:p>
                <a:endParaRPr b="0" lang="en-US" sz="1800" spc="-1" strike="noStrike">
                  <a:solidFill>
                    <a:srgbClr val="000000"/>
                  </a:solidFill>
                  <a:latin typeface="Calibri"/>
                </a:endParaRPr>
              </a:p>
            </p:txBody>
          </p:sp>
          <p:sp>
            <p:nvSpPr>
              <p:cNvPr id="1082" name="Freeform 15"/>
              <p:cNvSpPr/>
              <p:nvPr/>
            </p:nvSpPr>
            <p:spPr>
              <a:xfrm>
                <a:off x="388800" y="466236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0" h="134747">
                    <a:moveTo>
                      <a:pt x="7874" y="134746"/>
                    </a:moveTo>
                    <a:lnTo>
                      <a:pt x="0" y="127889"/>
                    </a:lnTo>
                    <a:lnTo>
                      <a:pt x="155828" y="0"/>
                    </a:lnTo>
                    <a:lnTo>
                      <a:pt x="163829" y="673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3" name="Freeform 16"/>
              <p:cNvSpPr/>
              <p:nvPr/>
            </p:nvSpPr>
            <p:spPr>
              <a:xfrm>
                <a:off x="390960" y="478512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1" h="134749">
                    <a:moveTo>
                      <a:pt x="0" y="6731"/>
                    </a:moveTo>
                    <a:lnTo>
                      <a:pt x="8000" y="0"/>
                    </a:lnTo>
                    <a:lnTo>
                      <a:pt x="163830" y="127890"/>
                    </a:lnTo>
                    <a:lnTo>
                      <a:pt x="155956" y="13474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4" name="Freeform 17"/>
              <p:cNvSpPr/>
              <p:nvPr/>
            </p:nvSpPr>
            <p:spPr>
              <a:xfrm>
                <a:off x="5908320" y="466272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1" h="134620">
                    <a:moveTo>
                      <a:pt x="163830" y="127888"/>
                    </a:moveTo>
                    <a:lnTo>
                      <a:pt x="155956" y="134619"/>
                    </a:lnTo>
                    <a:lnTo>
                      <a:pt x="0" y="6857"/>
                    </a:lnTo>
                    <a:lnTo>
                      <a:pt x="7874"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5" name="Freeform 18"/>
              <p:cNvSpPr/>
              <p:nvPr/>
            </p:nvSpPr>
            <p:spPr>
              <a:xfrm>
                <a:off x="5906160" y="478548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1" h="134621">
                    <a:moveTo>
                      <a:pt x="155956" y="0"/>
                    </a:moveTo>
                    <a:lnTo>
                      <a:pt x="163830" y="6858"/>
                    </a:lnTo>
                    <a:lnTo>
                      <a:pt x="8002" y="134620"/>
                    </a:lnTo>
                    <a:lnTo>
                      <a:pt x="0" y="12788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086" name="Freeform 20"/>
            <p:cNvSpPr/>
            <p:nvPr/>
          </p:nvSpPr>
          <p:spPr>
            <a:xfrm>
              <a:off x="5565600" y="468648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4" h="195709">
                  <a:moveTo>
                    <a:pt x="0" y="0"/>
                  </a:moveTo>
                  <a:lnTo>
                    <a:pt x="12573" y="0"/>
                  </a:lnTo>
                  <a:lnTo>
                    <a:pt x="12573"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7" name="Freeform 21"/>
            <p:cNvSpPr/>
            <p:nvPr/>
          </p:nvSpPr>
          <p:spPr>
            <a:xfrm>
              <a:off x="5104440" y="468648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446" h="195709">
                  <a:moveTo>
                    <a:pt x="0" y="0"/>
                  </a:moveTo>
                  <a:lnTo>
                    <a:pt x="12445" y="0"/>
                  </a:lnTo>
                  <a:lnTo>
                    <a:pt x="12445"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8" name="Freeform 22"/>
            <p:cNvSpPr/>
            <p:nvPr/>
          </p:nvSpPr>
          <p:spPr>
            <a:xfrm>
              <a:off x="4615200" y="468648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4" h="195709">
                  <a:moveTo>
                    <a:pt x="0" y="0"/>
                  </a:moveTo>
                  <a:lnTo>
                    <a:pt x="12573" y="0"/>
                  </a:lnTo>
                  <a:lnTo>
                    <a:pt x="12573"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9" name="Freeform 23"/>
            <p:cNvSpPr/>
            <p:nvPr/>
          </p:nvSpPr>
          <p:spPr>
            <a:xfrm>
              <a:off x="4153680" y="468648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5" h="195709">
                  <a:moveTo>
                    <a:pt x="0" y="0"/>
                  </a:moveTo>
                  <a:lnTo>
                    <a:pt x="12574" y="0"/>
                  </a:lnTo>
                  <a:lnTo>
                    <a:pt x="12574"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0" name="Freeform 24"/>
            <p:cNvSpPr/>
            <p:nvPr/>
          </p:nvSpPr>
          <p:spPr>
            <a:xfrm>
              <a:off x="3692520" y="468648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448" h="195709">
                  <a:moveTo>
                    <a:pt x="0" y="0"/>
                  </a:moveTo>
                  <a:lnTo>
                    <a:pt x="12447" y="0"/>
                  </a:lnTo>
                  <a:lnTo>
                    <a:pt x="12447"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1" name="Freeform 25"/>
            <p:cNvSpPr/>
            <p:nvPr/>
          </p:nvSpPr>
          <p:spPr>
            <a:xfrm>
              <a:off x="2732400" y="46944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4" h="195834">
                  <a:moveTo>
                    <a:pt x="0" y="0"/>
                  </a:moveTo>
                  <a:lnTo>
                    <a:pt x="12573" y="0"/>
                  </a:lnTo>
                  <a:lnTo>
                    <a:pt x="12573"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2" name="Freeform 26"/>
            <p:cNvSpPr/>
            <p:nvPr/>
          </p:nvSpPr>
          <p:spPr>
            <a:xfrm>
              <a:off x="2271240" y="46944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5" h="195834">
                  <a:moveTo>
                    <a:pt x="0" y="0"/>
                  </a:moveTo>
                  <a:lnTo>
                    <a:pt x="12574" y="0"/>
                  </a:lnTo>
                  <a:lnTo>
                    <a:pt x="12574"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3" name="Freeform 27"/>
            <p:cNvSpPr/>
            <p:nvPr/>
          </p:nvSpPr>
          <p:spPr>
            <a:xfrm>
              <a:off x="1781640" y="46944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5" h="195834">
                  <a:moveTo>
                    <a:pt x="0" y="0"/>
                  </a:moveTo>
                  <a:lnTo>
                    <a:pt x="12574" y="0"/>
                  </a:lnTo>
                  <a:lnTo>
                    <a:pt x="12574"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4" name="Freeform 28"/>
            <p:cNvSpPr/>
            <p:nvPr/>
          </p:nvSpPr>
          <p:spPr>
            <a:xfrm>
              <a:off x="1320480" y="46944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4" h="195834">
                  <a:moveTo>
                    <a:pt x="0" y="0"/>
                  </a:moveTo>
                  <a:lnTo>
                    <a:pt x="12573" y="0"/>
                  </a:lnTo>
                  <a:lnTo>
                    <a:pt x="12573"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5" name="Freeform 29"/>
            <p:cNvSpPr/>
            <p:nvPr/>
          </p:nvSpPr>
          <p:spPr>
            <a:xfrm>
              <a:off x="859320" y="46944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3" h="195834">
                  <a:moveTo>
                    <a:pt x="0" y="0"/>
                  </a:moveTo>
                  <a:lnTo>
                    <a:pt x="12572" y="0"/>
                  </a:lnTo>
                  <a:lnTo>
                    <a:pt x="12572"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6" name="Freeform 30"/>
            <p:cNvSpPr/>
            <p:nvPr/>
          </p:nvSpPr>
          <p:spPr>
            <a:xfrm>
              <a:off x="3212640" y="468648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448" h="195709">
                  <a:moveTo>
                    <a:pt x="0" y="0"/>
                  </a:moveTo>
                  <a:lnTo>
                    <a:pt x="12447" y="0"/>
                  </a:lnTo>
                  <a:lnTo>
                    <a:pt x="12447"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097" name="Group 60"/>
          <p:cNvGrpSpPr/>
          <p:nvPr/>
        </p:nvGrpSpPr>
        <p:grpSpPr>
          <a:xfrm>
            <a:off x="363600" y="6249960"/>
            <a:ext cx="5683320" cy="607680"/>
            <a:chOff x="363600" y="6249960"/>
            <a:chExt cx="5683320" cy="607680"/>
          </a:xfrm>
        </p:grpSpPr>
        <p:sp>
          <p:nvSpPr>
            <p:cNvPr id="1098" name="TextBox 32"/>
            <p:cNvSpPr/>
            <p:nvPr/>
          </p:nvSpPr>
          <p:spPr>
            <a:xfrm>
              <a:off x="2539800" y="648936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1</a:t>
              </a:r>
              <a:endParaRPr b="0" lang="en-US" sz="900" spc="-1" strike="noStrike">
                <a:solidFill>
                  <a:srgbClr val="000000"/>
                </a:solidFill>
                <a:latin typeface="Calibri"/>
              </a:endParaRPr>
            </a:p>
          </p:txBody>
        </p:sp>
        <p:sp>
          <p:nvSpPr>
            <p:cNvPr id="1099" name="TextBox 33"/>
            <p:cNvSpPr/>
            <p:nvPr/>
          </p:nvSpPr>
          <p:spPr>
            <a:xfrm>
              <a:off x="3098520" y="6502320"/>
              <a:ext cx="3045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0</a:t>
              </a:r>
              <a:endParaRPr b="0" lang="en-US" sz="900" spc="-1" strike="noStrike">
                <a:solidFill>
                  <a:srgbClr val="000000"/>
                </a:solidFill>
                <a:latin typeface="Calibri"/>
              </a:endParaRPr>
            </a:p>
          </p:txBody>
        </p:sp>
        <p:sp>
          <p:nvSpPr>
            <p:cNvPr id="1100" name="TextBox 34"/>
            <p:cNvSpPr/>
            <p:nvPr/>
          </p:nvSpPr>
          <p:spPr>
            <a:xfrm>
              <a:off x="2095200" y="6489360"/>
              <a:ext cx="27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2</a:t>
              </a:r>
              <a:endParaRPr b="0" lang="en-US" sz="900" spc="-1" strike="noStrike">
                <a:solidFill>
                  <a:srgbClr val="000000"/>
                </a:solidFill>
                <a:latin typeface="Calibri"/>
              </a:endParaRPr>
            </a:p>
          </p:txBody>
        </p:sp>
        <p:sp>
          <p:nvSpPr>
            <p:cNvPr id="1101" name="TextBox 35"/>
            <p:cNvSpPr/>
            <p:nvPr/>
          </p:nvSpPr>
          <p:spPr>
            <a:xfrm>
              <a:off x="1599840" y="648936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3</a:t>
              </a:r>
              <a:endParaRPr b="0" lang="en-US" sz="1000" spc="-1" strike="noStrike">
                <a:solidFill>
                  <a:srgbClr val="000000"/>
                </a:solidFill>
                <a:latin typeface="Calibri"/>
              </a:endParaRPr>
            </a:p>
          </p:txBody>
        </p:sp>
        <p:sp>
          <p:nvSpPr>
            <p:cNvPr id="1102" name="TextBox 36"/>
            <p:cNvSpPr/>
            <p:nvPr/>
          </p:nvSpPr>
          <p:spPr>
            <a:xfrm>
              <a:off x="1129680" y="648936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4</a:t>
              </a:r>
              <a:endParaRPr b="0" lang="en-US" sz="1000" spc="-1" strike="noStrike">
                <a:solidFill>
                  <a:srgbClr val="000000"/>
                </a:solidFill>
                <a:latin typeface="Calibri"/>
              </a:endParaRPr>
            </a:p>
          </p:txBody>
        </p:sp>
        <p:sp>
          <p:nvSpPr>
            <p:cNvPr id="1103" name="TextBox 37"/>
            <p:cNvSpPr/>
            <p:nvPr/>
          </p:nvSpPr>
          <p:spPr>
            <a:xfrm>
              <a:off x="685080" y="648936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5</a:t>
              </a:r>
              <a:endParaRPr b="0" lang="en-US" sz="1000" spc="-1" strike="noStrike">
                <a:solidFill>
                  <a:srgbClr val="000000"/>
                </a:solidFill>
                <a:latin typeface="Calibri"/>
              </a:endParaRPr>
            </a:p>
          </p:txBody>
        </p:sp>
        <p:sp>
          <p:nvSpPr>
            <p:cNvPr id="1104" name="TextBox 38"/>
            <p:cNvSpPr/>
            <p:nvPr/>
          </p:nvSpPr>
          <p:spPr>
            <a:xfrm>
              <a:off x="3568680" y="648936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1</a:t>
              </a:r>
              <a:endParaRPr b="0" lang="en-US" sz="900" spc="-1" strike="noStrike">
                <a:solidFill>
                  <a:srgbClr val="000000"/>
                </a:solidFill>
                <a:latin typeface="Calibri"/>
              </a:endParaRPr>
            </a:p>
          </p:txBody>
        </p:sp>
        <p:sp>
          <p:nvSpPr>
            <p:cNvPr id="1105" name="TextBox 39"/>
            <p:cNvSpPr/>
            <p:nvPr/>
          </p:nvSpPr>
          <p:spPr>
            <a:xfrm>
              <a:off x="4051440" y="6489360"/>
              <a:ext cx="279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2</a:t>
              </a:r>
              <a:endParaRPr b="0" lang="en-US" sz="900" spc="-1" strike="noStrike">
                <a:solidFill>
                  <a:srgbClr val="000000"/>
                </a:solidFill>
                <a:latin typeface="Calibri"/>
              </a:endParaRPr>
            </a:p>
          </p:txBody>
        </p:sp>
        <p:sp>
          <p:nvSpPr>
            <p:cNvPr id="1106" name="TextBox 40"/>
            <p:cNvSpPr/>
            <p:nvPr/>
          </p:nvSpPr>
          <p:spPr>
            <a:xfrm>
              <a:off x="4496040" y="65023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3</a:t>
              </a:r>
              <a:endParaRPr b="0" lang="en-US" sz="1000" spc="-1" strike="noStrike">
                <a:solidFill>
                  <a:srgbClr val="000000"/>
                </a:solidFill>
                <a:latin typeface="Calibri"/>
              </a:endParaRPr>
            </a:p>
          </p:txBody>
        </p:sp>
        <p:sp>
          <p:nvSpPr>
            <p:cNvPr id="1107" name="TextBox 41"/>
            <p:cNvSpPr/>
            <p:nvPr/>
          </p:nvSpPr>
          <p:spPr>
            <a:xfrm>
              <a:off x="4965840" y="65023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4</a:t>
              </a:r>
              <a:endParaRPr b="0" lang="en-US" sz="1000" spc="-1" strike="noStrike">
                <a:solidFill>
                  <a:srgbClr val="000000"/>
                </a:solidFill>
                <a:latin typeface="Calibri"/>
              </a:endParaRPr>
            </a:p>
          </p:txBody>
        </p:sp>
        <p:sp>
          <p:nvSpPr>
            <p:cNvPr id="1108" name="TextBox 42"/>
            <p:cNvSpPr/>
            <p:nvPr/>
          </p:nvSpPr>
          <p:spPr>
            <a:xfrm>
              <a:off x="5436000" y="648936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5</a:t>
              </a:r>
              <a:endParaRPr b="0" lang="en-US" sz="1000" spc="-1" strike="noStrike">
                <a:solidFill>
                  <a:srgbClr val="000000"/>
                </a:solidFill>
                <a:latin typeface="Calibri"/>
              </a:endParaRPr>
            </a:p>
          </p:txBody>
        </p:sp>
        <p:grpSp>
          <p:nvGrpSpPr>
            <p:cNvPr id="1109" name="Group 48"/>
            <p:cNvGrpSpPr/>
            <p:nvPr/>
          </p:nvGrpSpPr>
          <p:grpSpPr>
            <a:xfrm>
              <a:off x="363600" y="6249960"/>
              <a:ext cx="5683320" cy="258120"/>
              <a:chOff x="363600" y="6249960"/>
              <a:chExt cx="5683320" cy="258120"/>
            </a:xfrm>
          </p:grpSpPr>
          <p:sp>
            <p:nvSpPr>
              <p:cNvPr id="1110" name="Freeform 43"/>
              <p:cNvSpPr/>
              <p:nvPr/>
            </p:nvSpPr>
            <p:spPr>
              <a:xfrm>
                <a:off x="371160" y="6373080"/>
                <a:ext cx="5674320" cy="9720"/>
              </a:xfrm>
              <a:custGeom>
                <a:avLst/>
                <a:gdLst>
                  <a:gd name="textAreaLeft" fmla="*/ 0 w 5674320"/>
                  <a:gd name="textAreaRight" fmla="*/ 5674680 w 5674320"/>
                  <a:gd name="textAreaTop" fmla="*/ 0 h 9720"/>
                  <a:gd name="textAreaBottom" fmla="*/ 10080 h 9720"/>
                </a:gdLst>
                <a:ahLst/>
                <a:rect l="textAreaLeft" t="textAreaTop" r="textAreaRight" b="textAreaBottom"/>
                <a:pathLst>
                  <a:path w="5673471" h="9779">
                    <a:moveTo>
                      <a:pt x="0" y="9778"/>
                    </a:moveTo>
                    <a:lnTo>
                      <a:pt x="0" y="0"/>
                    </a:lnTo>
                    <a:lnTo>
                      <a:pt x="5673470" y="0"/>
                    </a:lnTo>
                    <a:lnTo>
                      <a:pt x="5673470" y="9778"/>
                    </a:lnTo>
                    <a:close/>
                  </a:path>
                </a:pathLst>
              </a:custGeom>
              <a:solidFill>
                <a:srgbClr val="000000"/>
              </a:solidFill>
              <a:ln w="0">
                <a:solidFill>
                  <a:srgbClr val="000000"/>
                </a:solidFill>
              </a:ln>
            </p:spPr>
            <p:style>
              <a:lnRef idx="0"/>
              <a:fillRef idx="0"/>
              <a:effectRef idx="0"/>
              <a:fontRef idx="minor"/>
            </p:style>
            <p:txBody>
              <a:bodyPr lIns="90000" rIns="90000" tIns="-36720" bIns="-36720" anchor="ctr">
                <a:noAutofit/>
              </a:bodyPr>
              <a:p>
                <a:endParaRPr b="0" lang="en-US" sz="1800" spc="-1" strike="noStrike">
                  <a:solidFill>
                    <a:srgbClr val="000000"/>
                  </a:solidFill>
                  <a:latin typeface="Calibri"/>
                </a:endParaRPr>
              </a:p>
            </p:txBody>
          </p:sp>
          <p:sp>
            <p:nvSpPr>
              <p:cNvPr id="1111" name="Freeform 44"/>
              <p:cNvSpPr/>
              <p:nvPr/>
            </p:nvSpPr>
            <p:spPr>
              <a:xfrm>
                <a:off x="363600" y="624996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0" h="134747">
                    <a:moveTo>
                      <a:pt x="7874" y="134746"/>
                    </a:moveTo>
                    <a:lnTo>
                      <a:pt x="0" y="127889"/>
                    </a:lnTo>
                    <a:lnTo>
                      <a:pt x="155828" y="0"/>
                    </a:lnTo>
                    <a:lnTo>
                      <a:pt x="163829" y="673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2" name="Freeform 45"/>
              <p:cNvSpPr/>
              <p:nvPr/>
            </p:nvSpPr>
            <p:spPr>
              <a:xfrm>
                <a:off x="365760" y="637272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1" h="134748">
                    <a:moveTo>
                      <a:pt x="0" y="6731"/>
                    </a:moveTo>
                    <a:lnTo>
                      <a:pt x="8000" y="0"/>
                    </a:lnTo>
                    <a:lnTo>
                      <a:pt x="163830" y="127890"/>
                    </a:lnTo>
                    <a:lnTo>
                      <a:pt x="155956" y="13474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3" name="Freeform 46"/>
              <p:cNvSpPr/>
              <p:nvPr/>
            </p:nvSpPr>
            <p:spPr>
              <a:xfrm>
                <a:off x="5883120" y="625032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1" h="134620">
                    <a:moveTo>
                      <a:pt x="163830" y="127888"/>
                    </a:moveTo>
                    <a:lnTo>
                      <a:pt x="155956" y="134619"/>
                    </a:lnTo>
                    <a:lnTo>
                      <a:pt x="0" y="6857"/>
                    </a:lnTo>
                    <a:lnTo>
                      <a:pt x="7874"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4" name="Freeform 47"/>
              <p:cNvSpPr/>
              <p:nvPr/>
            </p:nvSpPr>
            <p:spPr>
              <a:xfrm>
                <a:off x="5880960" y="637308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1" h="134621">
                    <a:moveTo>
                      <a:pt x="155956" y="0"/>
                    </a:moveTo>
                    <a:lnTo>
                      <a:pt x="163830" y="6858"/>
                    </a:lnTo>
                    <a:lnTo>
                      <a:pt x="8002" y="134620"/>
                    </a:lnTo>
                    <a:lnTo>
                      <a:pt x="0" y="12788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115" name="Freeform 49"/>
            <p:cNvSpPr/>
            <p:nvPr/>
          </p:nvSpPr>
          <p:spPr>
            <a:xfrm>
              <a:off x="5540400" y="6274080"/>
              <a:ext cx="12240" cy="195840"/>
            </a:xfrm>
            <a:custGeom>
              <a:avLst/>
              <a:gdLst>
                <a:gd name="textAreaLeft" fmla="*/ 0 w 12240"/>
                <a:gd name="textAreaRight" fmla="*/ 12600 w 12240"/>
                <a:gd name="textAreaTop" fmla="*/ 0 h 195840"/>
                <a:gd name="textAreaBottom" fmla="*/ 196200 h 195840"/>
              </a:gdLst>
              <a:ahLst/>
              <a:rect l="textAreaLeft" t="textAreaTop" r="textAreaRight" b="textAreaBottom"/>
              <a:pathLst>
                <a:path w="12574" h="195709">
                  <a:moveTo>
                    <a:pt x="0" y="0"/>
                  </a:moveTo>
                  <a:lnTo>
                    <a:pt x="12573" y="0"/>
                  </a:lnTo>
                  <a:lnTo>
                    <a:pt x="12573"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6" name="Freeform 50"/>
            <p:cNvSpPr/>
            <p:nvPr/>
          </p:nvSpPr>
          <p:spPr>
            <a:xfrm>
              <a:off x="5079240" y="6274080"/>
              <a:ext cx="12240" cy="195840"/>
            </a:xfrm>
            <a:custGeom>
              <a:avLst/>
              <a:gdLst>
                <a:gd name="textAreaLeft" fmla="*/ 0 w 12240"/>
                <a:gd name="textAreaRight" fmla="*/ 12600 w 12240"/>
                <a:gd name="textAreaTop" fmla="*/ 0 h 195840"/>
                <a:gd name="textAreaBottom" fmla="*/ 196200 h 195840"/>
              </a:gdLst>
              <a:ahLst/>
              <a:rect l="textAreaLeft" t="textAreaTop" r="textAreaRight" b="textAreaBottom"/>
              <a:pathLst>
                <a:path w="12446" h="195709">
                  <a:moveTo>
                    <a:pt x="0" y="0"/>
                  </a:moveTo>
                  <a:lnTo>
                    <a:pt x="12445" y="0"/>
                  </a:lnTo>
                  <a:lnTo>
                    <a:pt x="12445"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7" name="Freeform 51"/>
            <p:cNvSpPr/>
            <p:nvPr/>
          </p:nvSpPr>
          <p:spPr>
            <a:xfrm>
              <a:off x="4590000" y="6274080"/>
              <a:ext cx="12240" cy="195840"/>
            </a:xfrm>
            <a:custGeom>
              <a:avLst/>
              <a:gdLst>
                <a:gd name="textAreaLeft" fmla="*/ 0 w 12240"/>
                <a:gd name="textAreaRight" fmla="*/ 12600 w 12240"/>
                <a:gd name="textAreaTop" fmla="*/ 0 h 195840"/>
                <a:gd name="textAreaBottom" fmla="*/ 196200 h 195840"/>
              </a:gdLst>
              <a:ahLst/>
              <a:rect l="textAreaLeft" t="textAreaTop" r="textAreaRight" b="textAreaBottom"/>
              <a:pathLst>
                <a:path w="12574" h="195709">
                  <a:moveTo>
                    <a:pt x="0" y="0"/>
                  </a:moveTo>
                  <a:lnTo>
                    <a:pt x="12573" y="0"/>
                  </a:lnTo>
                  <a:lnTo>
                    <a:pt x="12573"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8" name="Freeform 52"/>
            <p:cNvSpPr/>
            <p:nvPr/>
          </p:nvSpPr>
          <p:spPr>
            <a:xfrm>
              <a:off x="4128480" y="6274080"/>
              <a:ext cx="12240" cy="195840"/>
            </a:xfrm>
            <a:custGeom>
              <a:avLst/>
              <a:gdLst>
                <a:gd name="textAreaLeft" fmla="*/ 0 w 12240"/>
                <a:gd name="textAreaRight" fmla="*/ 12600 w 12240"/>
                <a:gd name="textAreaTop" fmla="*/ 0 h 195840"/>
                <a:gd name="textAreaBottom" fmla="*/ 196200 h 195840"/>
              </a:gdLst>
              <a:ahLst/>
              <a:rect l="textAreaLeft" t="textAreaTop" r="textAreaRight" b="textAreaBottom"/>
              <a:pathLst>
                <a:path w="12575" h="195709">
                  <a:moveTo>
                    <a:pt x="0" y="0"/>
                  </a:moveTo>
                  <a:lnTo>
                    <a:pt x="12574" y="0"/>
                  </a:lnTo>
                  <a:lnTo>
                    <a:pt x="12574"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9" name="Freeform 53"/>
            <p:cNvSpPr/>
            <p:nvPr/>
          </p:nvSpPr>
          <p:spPr>
            <a:xfrm>
              <a:off x="3667320" y="6274080"/>
              <a:ext cx="12240" cy="195840"/>
            </a:xfrm>
            <a:custGeom>
              <a:avLst/>
              <a:gdLst>
                <a:gd name="textAreaLeft" fmla="*/ 0 w 12240"/>
                <a:gd name="textAreaRight" fmla="*/ 12600 w 12240"/>
                <a:gd name="textAreaTop" fmla="*/ 0 h 195840"/>
                <a:gd name="textAreaBottom" fmla="*/ 196200 h 195840"/>
              </a:gdLst>
              <a:ahLst/>
              <a:rect l="textAreaLeft" t="textAreaTop" r="textAreaRight" b="textAreaBottom"/>
              <a:pathLst>
                <a:path w="12448" h="195709">
                  <a:moveTo>
                    <a:pt x="0" y="0"/>
                  </a:moveTo>
                  <a:lnTo>
                    <a:pt x="12447" y="0"/>
                  </a:lnTo>
                  <a:lnTo>
                    <a:pt x="12447"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0" name="Freeform 54"/>
            <p:cNvSpPr/>
            <p:nvPr/>
          </p:nvSpPr>
          <p:spPr>
            <a:xfrm>
              <a:off x="2707200" y="62820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4" h="195834">
                  <a:moveTo>
                    <a:pt x="0" y="0"/>
                  </a:moveTo>
                  <a:lnTo>
                    <a:pt x="12573" y="0"/>
                  </a:lnTo>
                  <a:lnTo>
                    <a:pt x="12573"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1" name="Freeform 55"/>
            <p:cNvSpPr/>
            <p:nvPr/>
          </p:nvSpPr>
          <p:spPr>
            <a:xfrm>
              <a:off x="2246040" y="62820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5" h="195834">
                  <a:moveTo>
                    <a:pt x="0" y="0"/>
                  </a:moveTo>
                  <a:lnTo>
                    <a:pt x="12574" y="0"/>
                  </a:lnTo>
                  <a:lnTo>
                    <a:pt x="12574"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2" name="Freeform 56"/>
            <p:cNvSpPr/>
            <p:nvPr/>
          </p:nvSpPr>
          <p:spPr>
            <a:xfrm>
              <a:off x="1756440" y="62820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5" h="195834">
                  <a:moveTo>
                    <a:pt x="0" y="0"/>
                  </a:moveTo>
                  <a:lnTo>
                    <a:pt x="12574" y="0"/>
                  </a:lnTo>
                  <a:lnTo>
                    <a:pt x="12574"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3" name="Freeform 57"/>
            <p:cNvSpPr/>
            <p:nvPr/>
          </p:nvSpPr>
          <p:spPr>
            <a:xfrm>
              <a:off x="1295280" y="62820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4" h="195834">
                  <a:moveTo>
                    <a:pt x="0" y="0"/>
                  </a:moveTo>
                  <a:lnTo>
                    <a:pt x="12573" y="0"/>
                  </a:lnTo>
                  <a:lnTo>
                    <a:pt x="12573"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4" name="Freeform 58"/>
            <p:cNvSpPr/>
            <p:nvPr/>
          </p:nvSpPr>
          <p:spPr>
            <a:xfrm>
              <a:off x="834120" y="62820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3" h="195834">
                  <a:moveTo>
                    <a:pt x="0" y="0"/>
                  </a:moveTo>
                  <a:lnTo>
                    <a:pt x="12572" y="0"/>
                  </a:lnTo>
                  <a:lnTo>
                    <a:pt x="12572"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5" name="Freeform 59"/>
            <p:cNvSpPr/>
            <p:nvPr/>
          </p:nvSpPr>
          <p:spPr>
            <a:xfrm>
              <a:off x="3187440" y="6274080"/>
              <a:ext cx="12240" cy="195840"/>
            </a:xfrm>
            <a:custGeom>
              <a:avLst/>
              <a:gdLst>
                <a:gd name="textAreaLeft" fmla="*/ 0 w 12240"/>
                <a:gd name="textAreaRight" fmla="*/ 12600 w 12240"/>
                <a:gd name="textAreaTop" fmla="*/ 0 h 195840"/>
                <a:gd name="textAreaBottom" fmla="*/ 196200 h 195840"/>
              </a:gdLst>
              <a:ahLst/>
              <a:rect l="textAreaLeft" t="textAreaTop" r="textAreaRight" b="textAreaBottom"/>
              <a:pathLst>
                <a:path w="12448" h="195709">
                  <a:moveTo>
                    <a:pt x="0" y="0"/>
                  </a:moveTo>
                  <a:lnTo>
                    <a:pt x="12447" y="0"/>
                  </a:lnTo>
                  <a:lnTo>
                    <a:pt x="12447"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126" name="Straight Connector 61"/>
          <p:cNvSpPr/>
          <p:nvPr/>
        </p:nvSpPr>
        <p:spPr>
          <a:xfrm>
            <a:off x="3200400" y="4419720"/>
            <a:ext cx="1371600" cy="0"/>
          </a:xfrm>
          <a:prstGeom prst="line">
            <a:avLst/>
          </a:prstGeom>
          <a:ln w="3816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7" name="Straight Connector 62"/>
          <p:cNvSpPr/>
          <p:nvPr/>
        </p:nvSpPr>
        <p:spPr>
          <a:xfrm flipH="1">
            <a:off x="863640" y="6070680"/>
            <a:ext cx="2311200" cy="0"/>
          </a:xfrm>
          <a:prstGeom prst="line">
            <a:avLst/>
          </a:prstGeom>
          <a:ln w="3816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8" name="TextBox 63"/>
          <p:cNvSpPr/>
          <p:nvPr/>
        </p:nvSpPr>
        <p:spPr>
          <a:xfrm>
            <a:off x="3632040" y="4152960"/>
            <a:ext cx="55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 16"/>
              </a:rPr>
              <a:t>+3</a:t>
            </a:r>
            <a:endParaRPr b="0" lang="en-US" sz="1600" spc="-1" strike="noStrike">
              <a:solidFill>
                <a:srgbClr val="000000"/>
              </a:solidFill>
              <a:latin typeface="Calibri"/>
            </a:endParaRPr>
          </a:p>
        </p:txBody>
      </p:sp>
      <p:sp>
        <p:nvSpPr>
          <p:cNvPr id="1129" name="TextBox 64"/>
          <p:cNvSpPr/>
          <p:nvPr/>
        </p:nvSpPr>
        <p:spPr>
          <a:xfrm>
            <a:off x="1765440" y="576576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mic Sans MS - 16"/>
              </a:rPr>
              <a:t>-5</a:t>
            </a:r>
            <a:endParaRPr b="0" lang="en-US" sz="1500" spc="-1" strike="noStrike">
              <a:solidFill>
                <a:srgbClr val="000000"/>
              </a:solidFill>
              <a:latin typeface="Calibri"/>
            </a:endParaRPr>
          </a:p>
        </p:txBody>
      </p:sp>
      <p:grpSp>
        <p:nvGrpSpPr>
          <p:cNvPr id="1130" name="Group 93"/>
          <p:cNvGrpSpPr/>
          <p:nvPr/>
        </p:nvGrpSpPr>
        <p:grpSpPr>
          <a:xfrm>
            <a:off x="7094520" y="3649680"/>
            <a:ext cx="405720" cy="3944880"/>
            <a:chOff x="7094520" y="3649680"/>
            <a:chExt cx="405720" cy="3944880"/>
          </a:xfrm>
        </p:grpSpPr>
        <p:sp>
          <p:nvSpPr>
            <p:cNvPr id="1131" name="TextBox 65"/>
            <p:cNvSpPr/>
            <p:nvPr/>
          </p:nvSpPr>
          <p:spPr>
            <a:xfrm rot="16200000">
              <a:off x="7176240" y="5866560"/>
              <a:ext cx="2793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1</a:t>
              </a:r>
              <a:endParaRPr b="0" lang="en-US" sz="600" spc="-1" strike="noStrike">
                <a:solidFill>
                  <a:srgbClr val="000000"/>
                </a:solidFill>
                <a:latin typeface="Calibri"/>
              </a:endParaRPr>
            </a:p>
          </p:txBody>
        </p:sp>
        <p:sp>
          <p:nvSpPr>
            <p:cNvPr id="1132" name="TextBox 66"/>
            <p:cNvSpPr/>
            <p:nvPr/>
          </p:nvSpPr>
          <p:spPr>
            <a:xfrm rot="16200000">
              <a:off x="7189200" y="5498640"/>
              <a:ext cx="25380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0</a:t>
              </a:r>
              <a:endParaRPr b="0" lang="en-US" sz="600" spc="-1" strike="noStrike">
                <a:solidFill>
                  <a:srgbClr val="000000"/>
                </a:solidFill>
                <a:latin typeface="Calibri"/>
              </a:endParaRPr>
            </a:p>
          </p:txBody>
        </p:sp>
        <p:sp>
          <p:nvSpPr>
            <p:cNvPr id="1133" name="TextBox 67"/>
            <p:cNvSpPr/>
            <p:nvPr/>
          </p:nvSpPr>
          <p:spPr>
            <a:xfrm rot="16200000">
              <a:off x="7247520" y="6150960"/>
              <a:ext cx="22824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2</a:t>
              </a:r>
              <a:endParaRPr b="0" lang="en-US" sz="600" spc="-1" strike="noStrike">
                <a:solidFill>
                  <a:srgbClr val="000000"/>
                </a:solidFill>
                <a:latin typeface="Calibri"/>
              </a:endParaRPr>
            </a:p>
          </p:txBody>
        </p:sp>
        <p:sp>
          <p:nvSpPr>
            <p:cNvPr id="1134" name="TextBox 68"/>
            <p:cNvSpPr/>
            <p:nvPr/>
          </p:nvSpPr>
          <p:spPr>
            <a:xfrm rot="16200000">
              <a:off x="7166520" y="651132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3</a:t>
              </a:r>
              <a:endParaRPr b="0" lang="en-US" sz="700" spc="-1" strike="noStrike">
                <a:solidFill>
                  <a:srgbClr val="000000"/>
                </a:solidFill>
                <a:latin typeface="Calibri"/>
              </a:endParaRPr>
            </a:p>
          </p:txBody>
        </p:sp>
        <p:sp>
          <p:nvSpPr>
            <p:cNvPr id="1135" name="TextBox 69"/>
            <p:cNvSpPr/>
            <p:nvPr/>
          </p:nvSpPr>
          <p:spPr>
            <a:xfrm rot="16200000">
              <a:off x="7166520" y="682848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4</a:t>
              </a:r>
              <a:endParaRPr b="0" lang="en-US" sz="700" spc="-1" strike="noStrike">
                <a:solidFill>
                  <a:srgbClr val="000000"/>
                </a:solidFill>
                <a:latin typeface="Calibri"/>
              </a:endParaRPr>
            </a:p>
          </p:txBody>
        </p:sp>
        <p:sp>
          <p:nvSpPr>
            <p:cNvPr id="1136" name="TextBox 70"/>
            <p:cNvSpPr/>
            <p:nvPr/>
          </p:nvSpPr>
          <p:spPr>
            <a:xfrm rot="16200000">
              <a:off x="7166520" y="714600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5</a:t>
              </a:r>
              <a:endParaRPr b="0" lang="en-US" sz="700" spc="-1" strike="noStrike">
                <a:solidFill>
                  <a:srgbClr val="000000"/>
                </a:solidFill>
                <a:latin typeface="Calibri"/>
              </a:endParaRPr>
            </a:p>
          </p:txBody>
        </p:sp>
        <p:sp>
          <p:nvSpPr>
            <p:cNvPr id="1137" name="TextBox 71"/>
            <p:cNvSpPr/>
            <p:nvPr/>
          </p:nvSpPr>
          <p:spPr>
            <a:xfrm rot="16200000">
              <a:off x="7176240" y="5142600"/>
              <a:ext cx="2793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1</a:t>
              </a:r>
              <a:endParaRPr b="0" lang="en-US" sz="600" spc="-1" strike="noStrike">
                <a:solidFill>
                  <a:srgbClr val="000000"/>
                </a:solidFill>
                <a:latin typeface="Calibri"/>
              </a:endParaRPr>
            </a:p>
          </p:txBody>
        </p:sp>
        <p:sp>
          <p:nvSpPr>
            <p:cNvPr id="1138" name="TextBox 72"/>
            <p:cNvSpPr/>
            <p:nvPr/>
          </p:nvSpPr>
          <p:spPr>
            <a:xfrm rot="16200000">
              <a:off x="7201800" y="4838040"/>
              <a:ext cx="2282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2</a:t>
              </a:r>
              <a:endParaRPr b="0" lang="en-US" sz="600" spc="-1" strike="noStrike">
                <a:solidFill>
                  <a:srgbClr val="000000"/>
                </a:solidFill>
                <a:latin typeface="Calibri"/>
              </a:endParaRPr>
            </a:p>
          </p:txBody>
        </p:sp>
        <p:sp>
          <p:nvSpPr>
            <p:cNvPr id="1139" name="TextBox 73"/>
            <p:cNvSpPr/>
            <p:nvPr/>
          </p:nvSpPr>
          <p:spPr>
            <a:xfrm rot="16200000">
              <a:off x="7179480" y="449208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3</a:t>
              </a:r>
              <a:endParaRPr b="0" lang="en-US" sz="700" spc="-1" strike="noStrike">
                <a:solidFill>
                  <a:srgbClr val="000000"/>
                </a:solidFill>
                <a:latin typeface="Calibri"/>
              </a:endParaRPr>
            </a:p>
          </p:txBody>
        </p:sp>
        <p:sp>
          <p:nvSpPr>
            <p:cNvPr id="1140" name="TextBox 74"/>
            <p:cNvSpPr/>
            <p:nvPr/>
          </p:nvSpPr>
          <p:spPr>
            <a:xfrm rot="16200000">
              <a:off x="7179480" y="417456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4</a:t>
              </a:r>
              <a:endParaRPr b="0" lang="en-US" sz="700" spc="-1" strike="noStrike">
                <a:solidFill>
                  <a:srgbClr val="000000"/>
                </a:solidFill>
                <a:latin typeface="Calibri"/>
              </a:endParaRPr>
            </a:p>
          </p:txBody>
        </p:sp>
        <p:sp>
          <p:nvSpPr>
            <p:cNvPr id="1141" name="TextBox 75"/>
            <p:cNvSpPr/>
            <p:nvPr/>
          </p:nvSpPr>
          <p:spPr>
            <a:xfrm rot="16200000">
              <a:off x="7166520" y="384408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5</a:t>
              </a:r>
              <a:endParaRPr b="0" lang="en-US" sz="700" spc="-1" strike="noStrike">
                <a:solidFill>
                  <a:srgbClr val="000000"/>
                </a:solidFill>
                <a:latin typeface="Calibri"/>
              </a:endParaRPr>
            </a:p>
          </p:txBody>
        </p:sp>
        <p:grpSp>
          <p:nvGrpSpPr>
            <p:cNvPr id="1142" name="Group 81"/>
            <p:cNvGrpSpPr/>
            <p:nvPr/>
          </p:nvGrpSpPr>
          <p:grpSpPr>
            <a:xfrm>
              <a:off x="7094520" y="3649680"/>
              <a:ext cx="139680" cy="3944880"/>
              <a:chOff x="7094520" y="3649680"/>
              <a:chExt cx="139680" cy="3944880"/>
            </a:xfrm>
          </p:grpSpPr>
          <p:sp>
            <p:nvSpPr>
              <p:cNvPr id="1143" name="Freeform 76"/>
              <p:cNvSpPr/>
              <p:nvPr/>
            </p:nvSpPr>
            <p:spPr>
              <a:xfrm rot="16200000">
                <a:off x="5194080" y="5617080"/>
                <a:ext cx="3938760" cy="5040"/>
              </a:xfrm>
              <a:custGeom>
                <a:avLst/>
                <a:gdLst>
                  <a:gd name="textAreaLeft" fmla="*/ 0 w 3938760"/>
                  <a:gd name="textAreaRight" fmla="*/ 3939120 w 3938760"/>
                  <a:gd name="textAreaTop" fmla="*/ 0 h 5040"/>
                  <a:gd name="textAreaBottom" fmla="*/ 5400 h 5040"/>
                </a:gdLst>
                <a:ahLst/>
                <a:rect l="textAreaLeft" t="textAreaTop" r="textAreaRight" b="textAreaBottom"/>
                <a:pathLst>
                  <a:path w="3939160" h="5207">
                    <a:moveTo>
                      <a:pt x="0" y="5206"/>
                    </a:moveTo>
                    <a:lnTo>
                      <a:pt x="0" y="0"/>
                    </a:lnTo>
                    <a:lnTo>
                      <a:pt x="3939159" y="0"/>
                    </a:lnTo>
                    <a:lnTo>
                      <a:pt x="3939159" y="5206"/>
                    </a:lnTo>
                    <a:close/>
                  </a:path>
                </a:pathLst>
              </a:custGeom>
              <a:solidFill>
                <a:srgbClr val="000000"/>
              </a:solidFill>
              <a:ln w="0">
                <a:solidFill>
                  <a:srgbClr val="000000"/>
                </a:solidFill>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Calibri"/>
                </a:endParaRPr>
              </a:p>
            </p:txBody>
          </p:sp>
          <p:sp>
            <p:nvSpPr>
              <p:cNvPr id="1144" name="Freeform 77"/>
              <p:cNvSpPr/>
              <p:nvPr/>
            </p:nvSpPr>
            <p:spPr>
              <a:xfrm rot="16200000">
                <a:off x="7074000" y="7500960"/>
                <a:ext cx="113760" cy="73080"/>
              </a:xfrm>
              <a:custGeom>
                <a:avLst/>
                <a:gdLst>
                  <a:gd name="textAreaLeft" fmla="*/ 0 w 113760"/>
                  <a:gd name="textAreaRight" fmla="*/ 114120 w 113760"/>
                  <a:gd name="textAreaTop" fmla="*/ 0 h 73080"/>
                  <a:gd name="textAreaBottom" fmla="*/ 73440 h 73080"/>
                </a:gdLst>
                <a:ahLst/>
                <a:rect l="textAreaLeft" t="textAreaTop" r="textAreaRight" b="textAreaBottom"/>
                <a:pathLst>
                  <a:path w="113793" h="72772">
                    <a:moveTo>
                      <a:pt x="5461" y="72771"/>
                    </a:moveTo>
                    <a:lnTo>
                      <a:pt x="0" y="69088"/>
                    </a:lnTo>
                    <a:lnTo>
                      <a:pt x="108204" y="0"/>
                    </a:lnTo>
                    <a:lnTo>
                      <a:pt x="113792" y="3556"/>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sp>
            <p:nvSpPr>
              <p:cNvPr id="1145" name="Freeform 78"/>
              <p:cNvSpPr/>
              <p:nvPr/>
            </p:nvSpPr>
            <p:spPr>
              <a:xfrm rot="16200000">
                <a:off x="7140240" y="7499520"/>
                <a:ext cx="113760" cy="73080"/>
              </a:xfrm>
              <a:custGeom>
                <a:avLst/>
                <a:gdLst>
                  <a:gd name="textAreaLeft" fmla="*/ 0 w 113760"/>
                  <a:gd name="textAreaRight" fmla="*/ 114120 w 113760"/>
                  <a:gd name="textAreaTop" fmla="*/ 0 h 73080"/>
                  <a:gd name="textAreaBottom" fmla="*/ 73440 h 73080"/>
                </a:gdLst>
                <a:ahLst/>
                <a:rect l="textAreaLeft" t="textAreaTop" r="textAreaRight" b="textAreaBottom"/>
                <a:pathLst>
                  <a:path w="113793" h="72899">
                    <a:moveTo>
                      <a:pt x="0" y="3683"/>
                    </a:moveTo>
                    <a:lnTo>
                      <a:pt x="5588" y="0"/>
                    </a:lnTo>
                    <a:lnTo>
                      <a:pt x="113792" y="69215"/>
                    </a:lnTo>
                    <a:lnTo>
                      <a:pt x="108331" y="72898"/>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sp>
            <p:nvSpPr>
              <p:cNvPr id="1146" name="Freeform 79"/>
              <p:cNvSpPr/>
              <p:nvPr/>
            </p:nvSpPr>
            <p:spPr>
              <a:xfrm rot="16200000">
                <a:off x="7074000" y="3669840"/>
                <a:ext cx="113760" cy="73080"/>
              </a:xfrm>
              <a:custGeom>
                <a:avLst/>
                <a:gdLst>
                  <a:gd name="textAreaLeft" fmla="*/ 0 w 113760"/>
                  <a:gd name="textAreaRight" fmla="*/ 114120 w 113760"/>
                  <a:gd name="textAreaTop" fmla="*/ 0 h 73080"/>
                  <a:gd name="textAreaBottom" fmla="*/ 73440 h 73080"/>
                </a:gdLst>
                <a:ahLst/>
                <a:rect l="textAreaLeft" t="textAreaTop" r="textAreaRight" b="textAreaBottom"/>
                <a:pathLst>
                  <a:path w="113793" h="72772">
                    <a:moveTo>
                      <a:pt x="113792" y="69088"/>
                    </a:moveTo>
                    <a:lnTo>
                      <a:pt x="108331" y="72771"/>
                    </a:lnTo>
                    <a:lnTo>
                      <a:pt x="0" y="3683"/>
                    </a:lnTo>
                    <a:lnTo>
                      <a:pt x="5461" y="0"/>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sp>
            <p:nvSpPr>
              <p:cNvPr id="1147" name="Freeform 80"/>
              <p:cNvSpPr/>
              <p:nvPr/>
            </p:nvSpPr>
            <p:spPr>
              <a:xfrm rot="16200000">
                <a:off x="7140960" y="3671640"/>
                <a:ext cx="113400" cy="73080"/>
              </a:xfrm>
              <a:custGeom>
                <a:avLst/>
                <a:gdLst>
                  <a:gd name="textAreaLeft" fmla="*/ 0 w 113400"/>
                  <a:gd name="textAreaRight" fmla="*/ 113760 w 113400"/>
                  <a:gd name="textAreaTop" fmla="*/ 0 h 73080"/>
                  <a:gd name="textAreaBottom" fmla="*/ 73440 h 73080"/>
                </a:gdLst>
                <a:ahLst/>
                <a:rect l="textAreaLeft" t="textAreaTop" r="textAreaRight" b="textAreaBottom"/>
                <a:pathLst>
                  <a:path w="113666" h="72771">
                    <a:moveTo>
                      <a:pt x="108204" y="0"/>
                    </a:moveTo>
                    <a:lnTo>
                      <a:pt x="113665" y="3682"/>
                    </a:lnTo>
                    <a:lnTo>
                      <a:pt x="5588" y="72770"/>
                    </a:lnTo>
                    <a:lnTo>
                      <a:pt x="0" y="69088"/>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grpSp>
        <p:sp>
          <p:nvSpPr>
            <p:cNvPr id="1148" name="Freeform 82"/>
            <p:cNvSpPr/>
            <p:nvPr/>
          </p:nvSpPr>
          <p:spPr>
            <a:xfrm rot="16200000">
              <a:off x="7156080" y="394344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49" name="Freeform 83"/>
            <p:cNvSpPr/>
            <p:nvPr/>
          </p:nvSpPr>
          <p:spPr>
            <a:xfrm rot="16200000">
              <a:off x="7156440" y="4263840"/>
              <a:ext cx="8280" cy="106200"/>
            </a:xfrm>
            <a:custGeom>
              <a:avLst/>
              <a:gdLst>
                <a:gd name="textAreaLeft" fmla="*/ 0 w 8280"/>
                <a:gd name="textAreaRight" fmla="*/ 8640 w 8280"/>
                <a:gd name="textAreaTop" fmla="*/ 0 h 106200"/>
                <a:gd name="textAreaBottom" fmla="*/ 106560 h 106200"/>
              </a:gdLst>
              <a:ahLst/>
              <a:rect l="textAreaLeft" t="textAreaTop" r="textAreaRight" b="textAreaBottom"/>
              <a:pathLst>
                <a:path w="8637" h="105919">
                  <a:moveTo>
                    <a:pt x="0" y="0"/>
                  </a:moveTo>
                  <a:lnTo>
                    <a:pt x="8636" y="0"/>
                  </a:lnTo>
                  <a:lnTo>
                    <a:pt x="8636"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0" name="Freeform 84"/>
            <p:cNvSpPr/>
            <p:nvPr/>
          </p:nvSpPr>
          <p:spPr>
            <a:xfrm rot="16200000">
              <a:off x="7156080" y="460332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1" name="Freeform 85"/>
            <p:cNvSpPr/>
            <p:nvPr/>
          </p:nvSpPr>
          <p:spPr>
            <a:xfrm rot="16200000">
              <a:off x="7156080" y="492372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2" name="Freeform 86"/>
            <p:cNvSpPr/>
            <p:nvPr/>
          </p:nvSpPr>
          <p:spPr>
            <a:xfrm rot="16200000">
              <a:off x="7156080" y="5244120"/>
              <a:ext cx="8280" cy="105840"/>
            </a:xfrm>
            <a:custGeom>
              <a:avLst/>
              <a:gdLst>
                <a:gd name="textAreaLeft" fmla="*/ 0 w 8280"/>
                <a:gd name="textAreaRight" fmla="*/ 8640 w 8280"/>
                <a:gd name="textAreaTop" fmla="*/ 0 h 105840"/>
                <a:gd name="textAreaBottom" fmla="*/ 106200 h 105840"/>
              </a:gdLst>
              <a:ahLst/>
              <a:rect l="textAreaLeft" t="textAreaTop" r="textAreaRight" b="textAreaBottom"/>
              <a:pathLst>
                <a:path w="8637" h="105793">
                  <a:moveTo>
                    <a:pt x="0" y="0"/>
                  </a:moveTo>
                  <a:lnTo>
                    <a:pt x="8636" y="0"/>
                  </a:lnTo>
                  <a:lnTo>
                    <a:pt x="8636" y="105792"/>
                  </a:lnTo>
                  <a:lnTo>
                    <a:pt x="0" y="10579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3" name="Freeform 87"/>
            <p:cNvSpPr/>
            <p:nvPr/>
          </p:nvSpPr>
          <p:spPr>
            <a:xfrm rot="16200000">
              <a:off x="7160760" y="5910480"/>
              <a:ext cx="8280" cy="106200"/>
            </a:xfrm>
            <a:custGeom>
              <a:avLst/>
              <a:gdLst>
                <a:gd name="textAreaLeft" fmla="*/ 0 w 8280"/>
                <a:gd name="textAreaRight" fmla="*/ 8640 w 8280"/>
                <a:gd name="textAreaTop" fmla="*/ 0 h 106200"/>
                <a:gd name="textAreaBottom" fmla="*/ 106560 h 106200"/>
              </a:gdLst>
              <a:ahLst/>
              <a:rect l="textAreaLeft" t="textAreaTop" r="textAreaRight" b="textAreaBottom"/>
              <a:pathLst>
                <a:path w="8637" h="105919">
                  <a:moveTo>
                    <a:pt x="0" y="0"/>
                  </a:moveTo>
                  <a:lnTo>
                    <a:pt x="8636" y="0"/>
                  </a:lnTo>
                  <a:lnTo>
                    <a:pt x="8636"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4" name="Freeform 88"/>
            <p:cNvSpPr/>
            <p:nvPr/>
          </p:nvSpPr>
          <p:spPr>
            <a:xfrm rot="16200000">
              <a:off x="7160760" y="6230520"/>
              <a:ext cx="8280" cy="106200"/>
            </a:xfrm>
            <a:custGeom>
              <a:avLst/>
              <a:gdLst>
                <a:gd name="textAreaLeft" fmla="*/ 0 w 8280"/>
                <a:gd name="textAreaRight" fmla="*/ 8640 w 8280"/>
                <a:gd name="textAreaTop" fmla="*/ 0 h 106200"/>
                <a:gd name="textAreaBottom" fmla="*/ 106560 h 106200"/>
              </a:gdLst>
              <a:ahLst/>
              <a:rect l="textAreaLeft" t="textAreaTop" r="textAreaRight" b="textAreaBottom"/>
              <a:pathLst>
                <a:path w="8636" h="105919">
                  <a:moveTo>
                    <a:pt x="0" y="0"/>
                  </a:moveTo>
                  <a:lnTo>
                    <a:pt x="8635" y="0"/>
                  </a:lnTo>
                  <a:lnTo>
                    <a:pt x="8635"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5" name="Freeform 89"/>
            <p:cNvSpPr/>
            <p:nvPr/>
          </p:nvSpPr>
          <p:spPr>
            <a:xfrm rot="16200000">
              <a:off x="7160400" y="657000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6" name="Freeform 90"/>
            <p:cNvSpPr/>
            <p:nvPr/>
          </p:nvSpPr>
          <p:spPr>
            <a:xfrm rot="16200000">
              <a:off x="7160400" y="689040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7" name="Freeform 91"/>
            <p:cNvSpPr/>
            <p:nvPr/>
          </p:nvSpPr>
          <p:spPr>
            <a:xfrm rot="16200000">
              <a:off x="7160400" y="721044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8" name="Freeform 92"/>
            <p:cNvSpPr/>
            <p:nvPr/>
          </p:nvSpPr>
          <p:spPr>
            <a:xfrm rot="16200000">
              <a:off x="7156440" y="5577120"/>
              <a:ext cx="8280" cy="106200"/>
            </a:xfrm>
            <a:custGeom>
              <a:avLst/>
              <a:gdLst>
                <a:gd name="textAreaLeft" fmla="*/ 0 w 8280"/>
                <a:gd name="textAreaRight" fmla="*/ 8640 w 8280"/>
                <a:gd name="textAreaTop" fmla="*/ 0 h 106200"/>
                <a:gd name="textAreaBottom" fmla="*/ 106560 h 106200"/>
              </a:gdLst>
              <a:ahLst/>
              <a:rect l="textAreaLeft" t="textAreaTop" r="textAreaRight" b="textAreaBottom"/>
              <a:pathLst>
                <a:path w="8637" h="105919">
                  <a:moveTo>
                    <a:pt x="0" y="0"/>
                  </a:moveTo>
                  <a:lnTo>
                    <a:pt x="8636" y="0"/>
                  </a:lnTo>
                  <a:lnTo>
                    <a:pt x="8636"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159" name="Group 122"/>
          <p:cNvGrpSpPr/>
          <p:nvPr/>
        </p:nvGrpSpPr>
        <p:grpSpPr>
          <a:xfrm>
            <a:off x="8593200" y="3675240"/>
            <a:ext cx="405720" cy="3944880"/>
            <a:chOff x="8593200" y="3675240"/>
            <a:chExt cx="405720" cy="3944880"/>
          </a:xfrm>
        </p:grpSpPr>
        <p:sp>
          <p:nvSpPr>
            <p:cNvPr id="1160" name="TextBox 94"/>
            <p:cNvSpPr/>
            <p:nvPr/>
          </p:nvSpPr>
          <p:spPr>
            <a:xfrm rot="16200000">
              <a:off x="8674920" y="5892120"/>
              <a:ext cx="2793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1</a:t>
              </a:r>
              <a:endParaRPr b="0" lang="en-US" sz="600" spc="-1" strike="noStrike">
                <a:solidFill>
                  <a:srgbClr val="000000"/>
                </a:solidFill>
                <a:latin typeface="Calibri"/>
              </a:endParaRPr>
            </a:p>
          </p:txBody>
        </p:sp>
        <p:sp>
          <p:nvSpPr>
            <p:cNvPr id="1161" name="TextBox 95"/>
            <p:cNvSpPr/>
            <p:nvPr/>
          </p:nvSpPr>
          <p:spPr>
            <a:xfrm rot="16200000">
              <a:off x="8687880" y="5524200"/>
              <a:ext cx="25380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0</a:t>
              </a:r>
              <a:endParaRPr b="0" lang="en-US" sz="600" spc="-1" strike="noStrike">
                <a:solidFill>
                  <a:srgbClr val="000000"/>
                </a:solidFill>
                <a:latin typeface="Calibri"/>
              </a:endParaRPr>
            </a:p>
          </p:txBody>
        </p:sp>
        <p:sp>
          <p:nvSpPr>
            <p:cNvPr id="1162" name="TextBox 96"/>
            <p:cNvSpPr/>
            <p:nvPr/>
          </p:nvSpPr>
          <p:spPr>
            <a:xfrm rot="16200000">
              <a:off x="8746200" y="6176520"/>
              <a:ext cx="22824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2</a:t>
              </a:r>
              <a:endParaRPr b="0" lang="en-US" sz="600" spc="-1" strike="noStrike">
                <a:solidFill>
                  <a:srgbClr val="000000"/>
                </a:solidFill>
                <a:latin typeface="Calibri"/>
              </a:endParaRPr>
            </a:p>
          </p:txBody>
        </p:sp>
        <p:sp>
          <p:nvSpPr>
            <p:cNvPr id="1163" name="TextBox 97"/>
            <p:cNvSpPr/>
            <p:nvPr/>
          </p:nvSpPr>
          <p:spPr>
            <a:xfrm rot="16200000">
              <a:off x="8665200" y="653688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3</a:t>
              </a:r>
              <a:endParaRPr b="0" lang="en-US" sz="700" spc="-1" strike="noStrike">
                <a:solidFill>
                  <a:srgbClr val="000000"/>
                </a:solidFill>
                <a:latin typeface="Calibri"/>
              </a:endParaRPr>
            </a:p>
          </p:txBody>
        </p:sp>
        <p:sp>
          <p:nvSpPr>
            <p:cNvPr id="1164" name="TextBox 98"/>
            <p:cNvSpPr/>
            <p:nvPr/>
          </p:nvSpPr>
          <p:spPr>
            <a:xfrm rot="16200000">
              <a:off x="8665200" y="685404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4</a:t>
              </a:r>
              <a:endParaRPr b="0" lang="en-US" sz="700" spc="-1" strike="noStrike">
                <a:solidFill>
                  <a:srgbClr val="000000"/>
                </a:solidFill>
                <a:latin typeface="Calibri"/>
              </a:endParaRPr>
            </a:p>
          </p:txBody>
        </p:sp>
        <p:sp>
          <p:nvSpPr>
            <p:cNvPr id="1165" name="TextBox 99"/>
            <p:cNvSpPr/>
            <p:nvPr/>
          </p:nvSpPr>
          <p:spPr>
            <a:xfrm rot="16200000">
              <a:off x="8665200" y="717156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5</a:t>
              </a:r>
              <a:endParaRPr b="0" lang="en-US" sz="700" spc="-1" strike="noStrike">
                <a:solidFill>
                  <a:srgbClr val="000000"/>
                </a:solidFill>
                <a:latin typeface="Calibri"/>
              </a:endParaRPr>
            </a:p>
          </p:txBody>
        </p:sp>
        <p:sp>
          <p:nvSpPr>
            <p:cNvPr id="1166" name="TextBox 100"/>
            <p:cNvSpPr/>
            <p:nvPr/>
          </p:nvSpPr>
          <p:spPr>
            <a:xfrm rot="16200000">
              <a:off x="8674920" y="5168160"/>
              <a:ext cx="2793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1</a:t>
              </a:r>
              <a:endParaRPr b="0" lang="en-US" sz="600" spc="-1" strike="noStrike">
                <a:solidFill>
                  <a:srgbClr val="000000"/>
                </a:solidFill>
                <a:latin typeface="Calibri"/>
              </a:endParaRPr>
            </a:p>
          </p:txBody>
        </p:sp>
        <p:sp>
          <p:nvSpPr>
            <p:cNvPr id="1167" name="TextBox 101"/>
            <p:cNvSpPr/>
            <p:nvPr/>
          </p:nvSpPr>
          <p:spPr>
            <a:xfrm rot="16200000">
              <a:off x="8700480" y="4863600"/>
              <a:ext cx="2282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2</a:t>
              </a:r>
              <a:endParaRPr b="0" lang="en-US" sz="600" spc="-1" strike="noStrike">
                <a:solidFill>
                  <a:srgbClr val="000000"/>
                </a:solidFill>
                <a:latin typeface="Calibri"/>
              </a:endParaRPr>
            </a:p>
          </p:txBody>
        </p:sp>
        <p:sp>
          <p:nvSpPr>
            <p:cNvPr id="1168" name="TextBox 102"/>
            <p:cNvSpPr/>
            <p:nvPr/>
          </p:nvSpPr>
          <p:spPr>
            <a:xfrm rot="16200000">
              <a:off x="8678160" y="451764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3</a:t>
              </a:r>
              <a:endParaRPr b="0" lang="en-US" sz="700" spc="-1" strike="noStrike">
                <a:solidFill>
                  <a:srgbClr val="000000"/>
                </a:solidFill>
                <a:latin typeface="Calibri"/>
              </a:endParaRPr>
            </a:p>
          </p:txBody>
        </p:sp>
        <p:sp>
          <p:nvSpPr>
            <p:cNvPr id="1169" name="TextBox 103"/>
            <p:cNvSpPr/>
            <p:nvPr/>
          </p:nvSpPr>
          <p:spPr>
            <a:xfrm rot="16200000">
              <a:off x="8678160" y="420012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4</a:t>
              </a:r>
              <a:endParaRPr b="0" lang="en-US" sz="700" spc="-1" strike="noStrike">
                <a:solidFill>
                  <a:srgbClr val="000000"/>
                </a:solidFill>
                <a:latin typeface="Calibri"/>
              </a:endParaRPr>
            </a:p>
          </p:txBody>
        </p:sp>
        <p:sp>
          <p:nvSpPr>
            <p:cNvPr id="1170" name="TextBox 104"/>
            <p:cNvSpPr/>
            <p:nvPr/>
          </p:nvSpPr>
          <p:spPr>
            <a:xfrm rot="16200000">
              <a:off x="8665200" y="386964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5</a:t>
              </a:r>
              <a:endParaRPr b="0" lang="en-US" sz="700" spc="-1" strike="noStrike">
                <a:solidFill>
                  <a:srgbClr val="000000"/>
                </a:solidFill>
                <a:latin typeface="Calibri"/>
              </a:endParaRPr>
            </a:p>
          </p:txBody>
        </p:sp>
        <p:grpSp>
          <p:nvGrpSpPr>
            <p:cNvPr id="1171" name="Group 110"/>
            <p:cNvGrpSpPr/>
            <p:nvPr/>
          </p:nvGrpSpPr>
          <p:grpSpPr>
            <a:xfrm>
              <a:off x="8593200" y="3675240"/>
              <a:ext cx="139680" cy="3944880"/>
              <a:chOff x="8593200" y="3675240"/>
              <a:chExt cx="139680" cy="3944880"/>
            </a:xfrm>
          </p:grpSpPr>
          <p:sp>
            <p:nvSpPr>
              <p:cNvPr id="1172" name="Freeform 105"/>
              <p:cNvSpPr/>
              <p:nvPr/>
            </p:nvSpPr>
            <p:spPr>
              <a:xfrm rot="16200000">
                <a:off x="6692760" y="5642640"/>
                <a:ext cx="3938760" cy="5040"/>
              </a:xfrm>
              <a:custGeom>
                <a:avLst/>
                <a:gdLst>
                  <a:gd name="textAreaLeft" fmla="*/ 0 w 3938760"/>
                  <a:gd name="textAreaRight" fmla="*/ 3939120 w 3938760"/>
                  <a:gd name="textAreaTop" fmla="*/ 0 h 5040"/>
                  <a:gd name="textAreaBottom" fmla="*/ 5400 h 5040"/>
                </a:gdLst>
                <a:ahLst/>
                <a:rect l="textAreaLeft" t="textAreaTop" r="textAreaRight" b="textAreaBottom"/>
                <a:pathLst>
                  <a:path w="3939161" h="5208">
                    <a:moveTo>
                      <a:pt x="0" y="5207"/>
                    </a:moveTo>
                    <a:lnTo>
                      <a:pt x="0" y="0"/>
                    </a:lnTo>
                    <a:lnTo>
                      <a:pt x="3939160" y="0"/>
                    </a:lnTo>
                    <a:lnTo>
                      <a:pt x="3939160" y="5207"/>
                    </a:lnTo>
                    <a:close/>
                  </a:path>
                </a:pathLst>
              </a:custGeom>
              <a:solidFill>
                <a:srgbClr val="000000"/>
              </a:solidFill>
              <a:ln w="0">
                <a:solidFill>
                  <a:srgbClr val="000000"/>
                </a:solidFill>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Calibri"/>
                </a:endParaRPr>
              </a:p>
            </p:txBody>
          </p:sp>
          <p:sp>
            <p:nvSpPr>
              <p:cNvPr id="1173" name="Freeform 106"/>
              <p:cNvSpPr/>
              <p:nvPr/>
            </p:nvSpPr>
            <p:spPr>
              <a:xfrm rot="16200000">
                <a:off x="8572680" y="7526520"/>
                <a:ext cx="113760" cy="73080"/>
              </a:xfrm>
              <a:custGeom>
                <a:avLst/>
                <a:gdLst>
                  <a:gd name="textAreaLeft" fmla="*/ 0 w 113760"/>
                  <a:gd name="textAreaRight" fmla="*/ 114120 w 113760"/>
                  <a:gd name="textAreaTop" fmla="*/ 0 h 73080"/>
                  <a:gd name="textAreaBottom" fmla="*/ 73440 h 73080"/>
                </a:gdLst>
                <a:ahLst/>
                <a:rect l="textAreaLeft" t="textAreaTop" r="textAreaRight" b="textAreaBottom"/>
                <a:pathLst>
                  <a:path w="113793" h="72772">
                    <a:moveTo>
                      <a:pt x="5461" y="72771"/>
                    </a:moveTo>
                    <a:lnTo>
                      <a:pt x="0" y="69088"/>
                    </a:lnTo>
                    <a:lnTo>
                      <a:pt x="108204" y="0"/>
                    </a:lnTo>
                    <a:lnTo>
                      <a:pt x="113792" y="3556"/>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sp>
            <p:nvSpPr>
              <p:cNvPr id="1174" name="Freeform 107"/>
              <p:cNvSpPr/>
              <p:nvPr/>
            </p:nvSpPr>
            <p:spPr>
              <a:xfrm rot="16200000">
                <a:off x="8639280" y="7525440"/>
                <a:ext cx="113400" cy="73080"/>
              </a:xfrm>
              <a:custGeom>
                <a:avLst/>
                <a:gdLst>
                  <a:gd name="textAreaLeft" fmla="*/ 0 w 113400"/>
                  <a:gd name="textAreaRight" fmla="*/ 113760 w 113400"/>
                  <a:gd name="textAreaTop" fmla="*/ 0 h 73080"/>
                  <a:gd name="textAreaBottom" fmla="*/ 73440 h 73080"/>
                </a:gdLst>
                <a:ahLst/>
                <a:rect l="textAreaLeft" t="textAreaTop" r="textAreaRight" b="textAreaBottom"/>
                <a:pathLst>
                  <a:path w="113666" h="72899">
                    <a:moveTo>
                      <a:pt x="0" y="3683"/>
                    </a:moveTo>
                    <a:lnTo>
                      <a:pt x="5461" y="0"/>
                    </a:lnTo>
                    <a:lnTo>
                      <a:pt x="113665" y="69215"/>
                    </a:lnTo>
                    <a:lnTo>
                      <a:pt x="108205" y="72898"/>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sp>
            <p:nvSpPr>
              <p:cNvPr id="1175" name="Freeform 108"/>
              <p:cNvSpPr/>
              <p:nvPr/>
            </p:nvSpPr>
            <p:spPr>
              <a:xfrm rot="16200000">
                <a:off x="8572680" y="3695400"/>
                <a:ext cx="113760" cy="73080"/>
              </a:xfrm>
              <a:custGeom>
                <a:avLst/>
                <a:gdLst>
                  <a:gd name="textAreaLeft" fmla="*/ 0 w 113760"/>
                  <a:gd name="textAreaRight" fmla="*/ 114120 w 113760"/>
                  <a:gd name="textAreaTop" fmla="*/ 0 h 73080"/>
                  <a:gd name="textAreaBottom" fmla="*/ 73440 h 73080"/>
                </a:gdLst>
                <a:ahLst/>
                <a:rect l="textAreaLeft" t="textAreaTop" r="textAreaRight" b="textAreaBottom"/>
                <a:pathLst>
                  <a:path w="113794" h="72772">
                    <a:moveTo>
                      <a:pt x="113793" y="69088"/>
                    </a:moveTo>
                    <a:lnTo>
                      <a:pt x="108332" y="72771"/>
                    </a:lnTo>
                    <a:lnTo>
                      <a:pt x="0" y="3683"/>
                    </a:lnTo>
                    <a:lnTo>
                      <a:pt x="5461" y="0"/>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sp>
            <p:nvSpPr>
              <p:cNvPr id="1176" name="Freeform 109"/>
              <p:cNvSpPr/>
              <p:nvPr/>
            </p:nvSpPr>
            <p:spPr>
              <a:xfrm rot="16200000">
                <a:off x="8639280" y="3696840"/>
                <a:ext cx="113760" cy="73080"/>
              </a:xfrm>
              <a:custGeom>
                <a:avLst/>
                <a:gdLst>
                  <a:gd name="textAreaLeft" fmla="*/ 0 w 113760"/>
                  <a:gd name="textAreaRight" fmla="*/ 114120 w 113760"/>
                  <a:gd name="textAreaTop" fmla="*/ 0 h 73080"/>
                  <a:gd name="textAreaBottom" fmla="*/ 73440 h 73080"/>
                </a:gdLst>
                <a:ahLst/>
                <a:rect l="textAreaLeft" t="textAreaTop" r="textAreaRight" b="textAreaBottom"/>
                <a:pathLst>
                  <a:path w="113794" h="72772">
                    <a:moveTo>
                      <a:pt x="108332" y="0"/>
                    </a:moveTo>
                    <a:lnTo>
                      <a:pt x="113793" y="3683"/>
                    </a:lnTo>
                    <a:lnTo>
                      <a:pt x="5588" y="72771"/>
                    </a:lnTo>
                    <a:lnTo>
                      <a:pt x="0" y="69088"/>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grpSp>
        <p:sp>
          <p:nvSpPr>
            <p:cNvPr id="1177" name="Freeform 111"/>
            <p:cNvSpPr/>
            <p:nvPr/>
          </p:nvSpPr>
          <p:spPr>
            <a:xfrm rot="16200000">
              <a:off x="8654760" y="396900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78" name="Freeform 112"/>
            <p:cNvSpPr/>
            <p:nvPr/>
          </p:nvSpPr>
          <p:spPr>
            <a:xfrm rot="16200000">
              <a:off x="8655120" y="4289400"/>
              <a:ext cx="8280" cy="106200"/>
            </a:xfrm>
            <a:custGeom>
              <a:avLst/>
              <a:gdLst>
                <a:gd name="textAreaLeft" fmla="*/ 0 w 8280"/>
                <a:gd name="textAreaRight" fmla="*/ 8640 w 8280"/>
                <a:gd name="textAreaTop" fmla="*/ 0 h 106200"/>
                <a:gd name="textAreaBottom" fmla="*/ 106560 h 106200"/>
              </a:gdLst>
              <a:ahLst/>
              <a:rect l="textAreaLeft" t="textAreaTop" r="textAreaRight" b="textAreaBottom"/>
              <a:pathLst>
                <a:path w="8637" h="105919">
                  <a:moveTo>
                    <a:pt x="0" y="0"/>
                  </a:moveTo>
                  <a:lnTo>
                    <a:pt x="8636" y="0"/>
                  </a:lnTo>
                  <a:lnTo>
                    <a:pt x="8636"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79" name="Freeform 113"/>
            <p:cNvSpPr/>
            <p:nvPr/>
          </p:nvSpPr>
          <p:spPr>
            <a:xfrm rot="16200000">
              <a:off x="8654760" y="462888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80" name="Freeform 114"/>
            <p:cNvSpPr/>
            <p:nvPr/>
          </p:nvSpPr>
          <p:spPr>
            <a:xfrm rot="16200000">
              <a:off x="8654760" y="494928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81" name="Freeform 115"/>
            <p:cNvSpPr/>
            <p:nvPr/>
          </p:nvSpPr>
          <p:spPr>
            <a:xfrm rot="16200000">
              <a:off x="8654760" y="5269680"/>
              <a:ext cx="8280" cy="105840"/>
            </a:xfrm>
            <a:custGeom>
              <a:avLst/>
              <a:gdLst>
                <a:gd name="textAreaLeft" fmla="*/ 0 w 8280"/>
                <a:gd name="textAreaRight" fmla="*/ 8640 w 8280"/>
                <a:gd name="textAreaTop" fmla="*/ 0 h 105840"/>
                <a:gd name="textAreaBottom" fmla="*/ 106200 h 105840"/>
              </a:gdLst>
              <a:ahLst/>
              <a:rect l="textAreaLeft" t="textAreaTop" r="textAreaRight" b="textAreaBottom"/>
              <a:pathLst>
                <a:path w="8636" h="105792">
                  <a:moveTo>
                    <a:pt x="0" y="0"/>
                  </a:moveTo>
                  <a:lnTo>
                    <a:pt x="8635" y="0"/>
                  </a:lnTo>
                  <a:lnTo>
                    <a:pt x="8635" y="105791"/>
                  </a:lnTo>
                  <a:lnTo>
                    <a:pt x="0" y="1057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82" name="Freeform 116"/>
            <p:cNvSpPr/>
            <p:nvPr/>
          </p:nvSpPr>
          <p:spPr>
            <a:xfrm rot="16200000">
              <a:off x="8659080" y="593568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83" name="Freeform 117"/>
            <p:cNvSpPr/>
            <p:nvPr/>
          </p:nvSpPr>
          <p:spPr>
            <a:xfrm rot="16200000">
              <a:off x="8659080" y="625608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20">
                  <a:moveTo>
                    <a:pt x="0" y="0"/>
                  </a:moveTo>
                  <a:lnTo>
                    <a:pt x="8763" y="0"/>
                  </a:lnTo>
                  <a:lnTo>
                    <a:pt x="8763" y="105919"/>
                  </a:lnTo>
                  <a:lnTo>
                    <a:pt x="0" y="10591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84" name="Freeform 118"/>
            <p:cNvSpPr/>
            <p:nvPr/>
          </p:nvSpPr>
          <p:spPr>
            <a:xfrm rot="16200000">
              <a:off x="8659080" y="659556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20">
                  <a:moveTo>
                    <a:pt x="0" y="0"/>
                  </a:moveTo>
                  <a:lnTo>
                    <a:pt x="8763" y="0"/>
                  </a:lnTo>
                  <a:lnTo>
                    <a:pt x="8763" y="105919"/>
                  </a:lnTo>
                  <a:lnTo>
                    <a:pt x="0" y="10591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85" name="Freeform 119"/>
            <p:cNvSpPr/>
            <p:nvPr/>
          </p:nvSpPr>
          <p:spPr>
            <a:xfrm rot="16200000">
              <a:off x="8659080" y="691596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5" h="105919">
                  <a:moveTo>
                    <a:pt x="0" y="0"/>
                  </a:moveTo>
                  <a:lnTo>
                    <a:pt x="8764" y="0"/>
                  </a:lnTo>
                  <a:lnTo>
                    <a:pt x="8764"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86" name="Freeform 120"/>
            <p:cNvSpPr/>
            <p:nvPr/>
          </p:nvSpPr>
          <p:spPr>
            <a:xfrm rot="16200000">
              <a:off x="8659080" y="723600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87" name="Freeform 121"/>
            <p:cNvSpPr/>
            <p:nvPr/>
          </p:nvSpPr>
          <p:spPr>
            <a:xfrm rot="16200000">
              <a:off x="8655120" y="5602680"/>
              <a:ext cx="8280" cy="106200"/>
            </a:xfrm>
            <a:custGeom>
              <a:avLst/>
              <a:gdLst>
                <a:gd name="textAreaLeft" fmla="*/ 0 w 8280"/>
                <a:gd name="textAreaRight" fmla="*/ 8640 w 8280"/>
                <a:gd name="textAreaTop" fmla="*/ 0 h 106200"/>
                <a:gd name="textAreaBottom" fmla="*/ 106560 h 106200"/>
              </a:gdLst>
              <a:ahLst/>
              <a:rect l="textAreaLeft" t="textAreaTop" r="textAreaRight" b="textAreaBottom"/>
              <a:pathLst>
                <a:path w="8637" h="105919">
                  <a:moveTo>
                    <a:pt x="0" y="0"/>
                  </a:moveTo>
                  <a:lnTo>
                    <a:pt x="8636" y="0"/>
                  </a:lnTo>
                  <a:lnTo>
                    <a:pt x="8636"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188" name="Straight Connector 123"/>
          <p:cNvSpPr/>
          <p:nvPr/>
        </p:nvSpPr>
        <p:spPr>
          <a:xfrm flipV="1">
            <a:off x="7416720" y="4368600"/>
            <a:ext cx="0" cy="1244520"/>
          </a:xfrm>
          <a:prstGeom prst="line">
            <a:avLst/>
          </a:prstGeom>
          <a:ln w="3816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9" name="Straight Connector 124"/>
          <p:cNvSpPr/>
          <p:nvPr/>
        </p:nvSpPr>
        <p:spPr>
          <a:xfrm>
            <a:off x="8902800" y="5689440"/>
            <a:ext cx="0" cy="609840"/>
          </a:xfrm>
          <a:prstGeom prst="line">
            <a:avLst/>
          </a:prstGeom>
          <a:ln w="3816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0" name="TextBox 125"/>
          <p:cNvSpPr/>
          <p:nvPr/>
        </p:nvSpPr>
        <p:spPr>
          <a:xfrm>
            <a:off x="9029880" y="588024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mic Sans MS - 16"/>
              </a:rPr>
              <a:t>-2</a:t>
            </a:r>
            <a:endParaRPr b="0" lang="en-US" sz="1500" spc="-1" strike="noStrike">
              <a:solidFill>
                <a:srgbClr val="000000"/>
              </a:solidFill>
              <a:latin typeface="Calibri"/>
            </a:endParaRPr>
          </a:p>
        </p:txBody>
      </p:sp>
      <p:sp>
        <p:nvSpPr>
          <p:cNvPr id="1191" name="TextBox 126"/>
          <p:cNvSpPr/>
          <p:nvPr/>
        </p:nvSpPr>
        <p:spPr>
          <a:xfrm>
            <a:off x="7505640" y="4940280"/>
            <a:ext cx="55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 16"/>
              </a:rPr>
              <a:t>+4</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TextBox 1"/>
          <p:cNvSpPr/>
          <p:nvPr/>
        </p:nvSpPr>
        <p:spPr>
          <a:xfrm>
            <a:off x="304920" y="165240"/>
            <a:ext cx="975348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Comic Sans MS - 48"/>
              </a:rPr>
              <a:t>Assignment:</a:t>
            </a:r>
            <a:endParaRPr b="0" lang="en-US" sz="4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Comic Sans MS - 48"/>
              </a:rPr>
              <a:t>9</a:t>
            </a:r>
            <a:r>
              <a:rPr b="0" lang="en-US" sz="4800" spc="-1" strike="noStrike" u="sng">
                <a:solidFill>
                  <a:srgbClr val="ff0000"/>
                </a:solidFill>
                <a:uFillTx/>
                <a:latin typeface="Comic Sans MS - 48"/>
              </a:rPr>
              <a:t>.4 Subtract Integers</a:t>
            </a:r>
            <a:endParaRPr b="0" lang="en-US" sz="4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0000"/>
                </a:solidFill>
                <a:uFillTx/>
                <a:latin typeface="Comic Sans MS - 48"/>
              </a:rPr>
              <a:t>·</a:t>
            </a:r>
            <a:r>
              <a:rPr b="0" lang="en-CA" sz="4800" spc="-1" strike="noStrike">
                <a:solidFill>
                  <a:srgbClr val="ff0000"/>
                </a:solidFill>
                <a:latin typeface="Calibri - 48"/>
              </a:rPr>
              <a:t>p. 333, #1-4 (as a class), 5, 7, 9, 11, 13, 15, Math Link</a:t>
            </a:r>
            <a:endParaRPr b="0" lang="en-US" sz="4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 48"/>
              </a:rPr>
              <a:t>·Still Good? #16-22</a:t>
            </a:r>
            <a:endParaRPr b="0" lang="en-US" sz="4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 48"/>
              </a:rPr>
              <a:t>·Pro Star? #23, 24</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3" name="Picture 1" descr="clipboard.png"/>
          <p:cNvPicPr/>
          <p:nvPr/>
        </p:nvPicPr>
        <p:blipFill>
          <a:blip r:embed="rId1">
            <a:alphaModFix amt="0"/>
          </a:blip>
          <a:stretch/>
        </p:blipFill>
        <p:spPr>
          <a:xfrm>
            <a:off x="139680" y="152280"/>
            <a:ext cx="9388440" cy="5475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TextBox 1"/>
          <p:cNvSpPr/>
          <p:nvPr/>
        </p:nvSpPr>
        <p:spPr>
          <a:xfrm>
            <a:off x="1270080" y="635040"/>
            <a:ext cx="888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tachments</a:t>
            </a:r>
            <a:endParaRPr b="0" lang="en-US" sz="1800" spc="-1" strike="noStrike">
              <a:solidFill>
                <a:srgbClr val="000000"/>
              </a:solidFill>
              <a:latin typeface="Calibri"/>
            </a:endParaRPr>
          </a:p>
        </p:txBody>
      </p:sp>
      <p:sp>
        <p:nvSpPr>
          <p:cNvPr id="1195" name="Straight Connector 2"/>
          <p:cNvSpPr/>
          <p:nvPr/>
        </p:nvSpPr>
        <p:spPr>
          <a:xfrm>
            <a:off x="1270080" y="1270080"/>
            <a:ext cx="76197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TextBox 1"/>
          <p:cNvSpPr/>
          <p:nvPr/>
        </p:nvSpPr>
        <p:spPr>
          <a:xfrm>
            <a:off x="165240" y="101520"/>
            <a:ext cx="4317840" cy="449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omic Sans MS - 36"/>
              </a:rPr>
              <a:t>Key Terms:</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omic Sans MS - 36"/>
              </a:rPr>
              <a:t>ze</a:t>
            </a:r>
            <a:r>
              <a:rPr b="0" lang="en-US" sz="2300" spc="-1" strike="noStrike">
                <a:solidFill>
                  <a:srgbClr val="ff0000"/>
                </a:solidFill>
                <a:latin typeface="Comic Sans MS - 24"/>
              </a:rPr>
              <a:t>ro pair</a:t>
            </a:r>
            <a:r>
              <a:rPr b="0" lang="en-US" sz="2300" spc="-1" strike="noStrike">
                <a:solidFill>
                  <a:srgbClr val="0000ff"/>
                </a:solidFill>
                <a:latin typeface="Comic Sans MS - 24"/>
              </a:rPr>
              <a:t>:</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a pair of integer chips, with one chip representing +1 and one chip representing -1</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the pair represents zero because (+1) + (-1) = 0</a:t>
            </a:r>
            <a:endParaRPr b="0" lang="en-US" sz="2300" spc="-1" strike="noStrike">
              <a:solidFill>
                <a:srgbClr val="000000"/>
              </a:solidFill>
              <a:latin typeface="Calibri"/>
            </a:endParaRPr>
          </a:p>
        </p:txBody>
      </p:sp>
      <p:grpSp>
        <p:nvGrpSpPr>
          <p:cNvPr id="101" name="Group 11"/>
          <p:cNvGrpSpPr/>
          <p:nvPr/>
        </p:nvGrpSpPr>
        <p:grpSpPr>
          <a:xfrm>
            <a:off x="406440" y="2629080"/>
            <a:ext cx="2832120" cy="1371600"/>
            <a:chOff x="406440" y="2629080"/>
            <a:chExt cx="2832120" cy="1371600"/>
          </a:xfrm>
        </p:grpSpPr>
        <p:grpSp>
          <p:nvGrpSpPr>
            <p:cNvPr id="102" name="Group 6"/>
            <p:cNvGrpSpPr/>
            <p:nvPr/>
          </p:nvGrpSpPr>
          <p:grpSpPr>
            <a:xfrm>
              <a:off x="768240" y="2825640"/>
              <a:ext cx="965160" cy="952560"/>
              <a:chOff x="768240" y="2825640"/>
              <a:chExt cx="965160" cy="952560"/>
            </a:xfrm>
          </p:grpSpPr>
          <p:sp>
            <p:nvSpPr>
              <p:cNvPr id="103" name="Freeform 2"/>
              <p:cNvSpPr/>
              <p:nvPr/>
            </p:nvSpPr>
            <p:spPr>
              <a:xfrm>
                <a:off x="768240" y="2825640"/>
                <a:ext cx="965160" cy="952560"/>
              </a:xfrm>
              <a:custGeom>
                <a:avLst/>
                <a:gdLst>
                  <a:gd name="textAreaLeft" fmla="*/ 0 w 965160"/>
                  <a:gd name="textAreaRight" fmla="*/ 965520 w 965160"/>
                  <a:gd name="textAreaTop" fmla="*/ 0 h 952560"/>
                  <a:gd name="textAreaBottom" fmla="*/ 952920 h 952560"/>
                </a:gdLst>
                <a:ahLst/>
                <a:rect l="textAreaLeft" t="textAreaTop" r="textAreaRight" b="textAreaBottom"/>
                <a:pathLst>
                  <a:path w="965201" h="952501">
                    <a:moveTo>
                      <a:pt x="0" y="0"/>
                    </a:moveTo>
                    <a:lnTo>
                      <a:pt x="965200" y="0"/>
                    </a:lnTo>
                    <a:lnTo>
                      <a:pt x="965200" y="952500"/>
                    </a:lnTo>
                    <a:lnTo>
                      <a:pt x="0" y="952500"/>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04" name="Group 5"/>
              <p:cNvGrpSpPr/>
              <p:nvPr/>
            </p:nvGrpSpPr>
            <p:grpSpPr>
              <a:xfrm>
                <a:off x="1047600" y="3079080"/>
                <a:ext cx="419040" cy="431640"/>
                <a:chOff x="1047600" y="3079080"/>
                <a:chExt cx="419040" cy="431640"/>
              </a:xfrm>
            </p:grpSpPr>
            <p:sp>
              <p:nvSpPr>
                <p:cNvPr id="105" name="Straight Connector 3"/>
                <p:cNvSpPr/>
                <p:nvPr/>
              </p:nvSpPr>
              <p:spPr>
                <a:xfrm>
                  <a:off x="1047600" y="3308040"/>
                  <a:ext cx="419040" cy="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Straight Connector 4"/>
                <p:cNvSpPr/>
                <p:nvPr/>
              </p:nvSpPr>
              <p:spPr>
                <a:xfrm flipV="1">
                  <a:off x="1250640" y="3079080"/>
                  <a:ext cx="0" cy="43164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107" name="Group 9"/>
            <p:cNvGrpSpPr/>
            <p:nvPr/>
          </p:nvGrpSpPr>
          <p:grpSpPr>
            <a:xfrm>
              <a:off x="1835280" y="2825640"/>
              <a:ext cx="965160" cy="952560"/>
              <a:chOff x="1835280" y="2825640"/>
              <a:chExt cx="965160" cy="952560"/>
            </a:xfrm>
          </p:grpSpPr>
          <p:sp>
            <p:nvSpPr>
              <p:cNvPr id="108" name="Freeform 7"/>
              <p:cNvSpPr/>
              <p:nvPr/>
            </p:nvSpPr>
            <p:spPr>
              <a:xfrm>
                <a:off x="1835280" y="2825640"/>
                <a:ext cx="965160" cy="952560"/>
              </a:xfrm>
              <a:custGeom>
                <a:avLst/>
                <a:gdLst>
                  <a:gd name="textAreaLeft" fmla="*/ 0 w 965160"/>
                  <a:gd name="textAreaRight" fmla="*/ 965520 w 965160"/>
                  <a:gd name="textAreaTop" fmla="*/ 0 h 952560"/>
                  <a:gd name="textAreaBottom" fmla="*/ 952920 h 952560"/>
                </a:gdLst>
                <a:ahLst/>
                <a:rect l="textAreaLeft" t="textAreaTop" r="textAreaRight" b="textAreaBottom"/>
                <a:pathLst>
                  <a:path w="965201" h="952501">
                    <a:moveTo>
                      <a:pt x="0" y="0"/>
                    </a:moveTo>
                    <a:lnTo>
                      <a:pt x="965200" y="0"/>
                    </a:lnTo>
                    <a:lnTo>
                      <a:pt x="965200" y="952500"/>
                    </a:lnTo>
                    <a:lnTo>
                      <a:pt x="0" y="952500"/>
                    </a:ln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 name="Straight Connector 8"/>
              <p:cNvSpPr/>
              <p:nvPr/>
            </p:nvSpPr>
            <p:spPr>
              <a:xfrm>
                <a:off x="2102040" y="3308400"/>
                <a:ext cx="41904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10" name="Freeform 10"/>
            <p:cNvSpPr/>
            <p:nvPr/>
          </p:nvSpPr>
          <p:spPr>
            <a:xfrm>
              <a:off x="406440" y="2629080"/>
              <a:ext cx="2832120" cy="1371600"/>
            </a:xfrm>
            <a:custGeom>
              <a:avLst/>
              <a:gdLst>
                <a:gd name="textAreaLeft" fmla="*/ 0 w 2832120"/>
                <a:gd name="textAreaRight" fmla="*/ 2832480 w 2832120"/>
                <a:gd name="textAreaTop" fmla="*/ 0 h 1371600"/>
                <a:gd name="textAreaBottom" fmla="*/ 1371960 h 1371600"/>
              </a:gdLst>
              <a:ahLst/>
              <a:rect l="textAreaLeft" t="textAreaTop" r="textAreaRight" b="textAreaBottom"/>
              <a:pathLst>
                <a:path w="2832101" h="1371601">
                  <a:moveTo>
                    <a:pt x="1549400" y="50800"/>
                  </a:moveTo>
                  <a:lnTo>
                    <a:pt x="1096010" y="50800"/>
                  </a:lnTo>
                  <a:lnTo>
                    <a:pt x="1016000" y="62229"/>
                  </a:lnTo>
                  <a:lnTo>
                    <a:pt x="929639" y="63500"/>
                  </a:lnTo>
                  <a:lnTo>
                    <a:pt x="350519" y="63500"/>
                  </a:lnTo>
                  <a:lnTo>
                    <a:pt x="278130" y="76200"/>
                  </a:lnTo>
                  <a:lnTo>
                    <a:pt x="259080" y="85089"/>
                  </a:lnTo>
                  <a:lnTo>
                    <a:pt x="227330" y="91439"/>
                  </a:lnTo>
                  <a:lnTo>
                    <a:pt x="181609" y="110489"/>
                  </a:lnTo>
                  <a:lnTo>
                    <a:pt x="176530" y="111760"/>
                  </a:lnTo>
                  <a:lnTo>
                    <a:pt x="171450" y="115570"/>
                  </a:lnTo>
                  <a:lnTo>
                    <a:pt x="161290" y="127000"/>
                  </a:lnTo>
                  <a:lnTo>
                    <a:pt x="156209" y="130810"/>
                  </a:lnTo>
                  <a:lnTo>
                    <a:pt x="142240" y="135889"/>
                  </a:lnTo>
                  <a:lnTo>
                    <a:pt x="137159" y="139700"/>
                  </a:lnTo>
                  <a:lnTo>
                    <a:pt x="133350" y="146050"/>
                  </a:lnTo>
                  <a:lnTo>
                    <a:pt x="128269" y="157479"/>
                  </a:lnTo>
                  <a:lnTo>
                    <a:pt x="118109" y="172720"/>
                  </a:lnTo>
                  <a:lnTo>
                    <a:pt x="105409" y="187960"/>
                  </a:lnTo>
                  <a:lnTo>
                    <a:pt x="85090" y="224789"/>
                  </a:lnTo>
                  <a:lnTo>
                    <a:pt x="80009" y="241300"/>
                  </a:lnTo>
                  <a:lnTo>
                    <a:pt x="78740" y="250189"/>
                  </a:lnTo>
                  <a:lnTo>
                    <a:pt x="74930" y="257810"/>
                  </a:lnTo>
                  <a:lnTo>
                    <a:pt x="52069" y="288289"/>
                  </a:lnTo>
                  <a:lnTo>
                    <a:pt x="48259" y="293370"/>
                  </a:lnTo>
                  <a:lnTo>
                    <a:pt x="41909" y="303529"/>
                  </a:lnTo>
                  <a:lnTo>
                    <a:pt x="40640" y="313689"/>
                  </a:lnTo>
                  <a:lnTo>
                    <a:pt x="38100" y="351789"/>
                  </a:lnTo>
                  <a:lnTo>
                    <a:pt x="35559" y="359410"/>
                  </a:lnTo>
                  <a:lnTo>
                    <a:pt x="30480" y="364489"/>
                  </a:lnTo>
                  <a:lnTo>
                    <a:pt x="8890" y="384810"/>
                  </a:lnTo>
                  <a:lnTo>
                    <a:pt x="6350" y="389889"/>
                  </a:lnTo>
                  <a:lnTo>
                    <a:pt x="2540" y="403860"/>
                  </a:lnTo>
                  <a:lnTo>
                    <a:pt x="0" y="444500"/>
                  </a:lnTo>
                  <a:lnTo>
                    <a:pt x="0" y="514350"/>
                  </a:lnTo>
                  <a:lnTo>
                    <a:pt x="0" y="831850"/>
                  </a:lnTo>
                  <a:lnTo>
                    <a:pt x="1269" y="839470"/>
                  </a:lnTo>
                  <a:lnTo>
                    <a:pt x="8890" y="858520"/>
                  </a:lnTo>
                  <a:lnTo>
                    <a:pt x="11430" y="890270"/>
                  </a:lnTo>
                  <a:lnTo>
                    <a:pt x="12700" y="929640"/>
                  </a:lnTo>
                  <a:lnTo>
                    <a:pt x="16509" y="949959"/>
                  </a:lnTo>
                  <a:lnTo>
                    <a:pt x="22859" y="966470"/>
                  </a:lnTo>
                  <a:lnTo>
                    <a:pt x="45719" y="1007109"/>
                  </a:lnTo>
                  <a:lnTo>
                    <a:pt x="57150" y="1038859"/>
                  </a:lnTo>
                  <a:lnTo>
                    <a:pt x="72390" y="1055370"/>
                  </a:lnTo>
                  <a:lnTo>
                    <a:pt x="118109" y="1093470"/>
                  </a:lnTo>
                  <a:lnTo>
                    <a:pt x="134619" y="1099820"/>
                  </a:lnTo>
                  <a:lnTo>
                    <a:pt x="142240" y="1104900"/>
                  </a:lnTo>
                  <a:lnTo>
                    <a:pt x="167640" y="1127759"/>
                  </a:lnTo>
                  <a:lnTo>
                    <a:pt x="191769" y="1145540"/>
                  </a:lnTo>
                  <a:lnTo>
                    <a:pt x="199390" y="1153159"/>
                  </a:lnTo>
                  <a:lnTo>
                    <a:pt x="219709" y="1165859"/>
                  </a:lnTo>
                  <a:lnTo>
                    <a:pt x="241300" y="1174750"/>
                  </a:lnTo>
                  <a:lnTo>
                    <a:pt x="271780" y="1182370"/>
                  </a:lnTo>
                  <a:lnTo>
                    <a:pt x="306069" y="1197609"/>
                  </a:lnTo>
                  <a:lnTo>
                    <a:pt x="351790" y="1205229"/>
                  </a:lnTo>
                  <a:lnTo>
                    <a:pt x="361950" y="1205229"/>
                  </a:lnTo>
                  <a:lnTo>
                    <a:pt x="383540" y="1214120"/>
                  </a:lnTo>
                  <a:lnTo>
                    <a:pt x="406400" y="1226820"/>
                  </a:lnTo>
                  <a:lnTo>
                    <a:pt x="452119" y="1259840"/>
                  </a:lnTo>
                  <a:lnTo>
                    <a:pt x="477519" y="1264920"/>
                  </a:lnTo>
                  <a:lnTo>
                    <a:pt x="502919" y="1268729"/>
                  </a:lnTo>
                  <a:lnTo>
                    <a:pt x="534669" y="1280159"/>
                  </a:lnTo>
                  <a:lnTo>
                    <a:pt x="621030" y="1292859"/>
                  </a:lnTo>
                  <a:lnTo>
                    <a:pt x="631189" y="1296670"/>
                  </a:lnTo>
                  <a:lnTo>
                    <a:pt x="640080" y="1301750"/>
                  </a:lnTo>
                  <a:lnTo>
                    <a:pt x="646430" y="1308100"/>
                  </a:lnTo>
                  <a:lnTo>
                    <a:pt x="654050" y="1311909"/>
                  </a:lnTo>
                  <a:lnTo>
                    <a:pt x="669289" y="1316990"/>
                  </a:lnTo>
                  <a:lnTo>
                    <a:pt x="755650" y="1320800"/>
                  </a:lnTo>
                  <a:lnTo>
                    <a:pt x="1018539" y="1320800"/>
                  </a:lnTo>
                  <a:lnTo>
                    <a:pt x="1038860" y="1324609"/>
                  </a:lnTo>
                  <a:lnTo>
                    <a:pt x="1056639" y="1329690"/>
                  </a:lnTo>
                  <a:lnTo>
                    <a:pt x="1083310" y="1333500"/>
                  </a:lnTo>
                  <a:lnTo>
                    <a:pt x="1111250" y="1342390"/>
                  </a:lnTo>
                  <a:lnTo>
                    <a:pt x="1192530" y="1346200"/>
                  </a:lnTo>
                  <a:lnTo>
                    <a:pt x="2009139" y="1346200"/>
                  </a:lnTo>
                  <a:lnTo>
                    <a:pt x="2029460" y="1350009"/>
                  </a:lnTo>
                  <a:lnTo>
                    <a:pt x="2047239" y="1355090"/>
                  </a:lnTo>
                  <a:lnTo>
                    <a:pt x="2132329" y="1358900"/>
                  </a:lnTo>
                  <a:lnTo>
                    <a:pt x="2222500" y="1358900"/>
                  </a:lnTo>
                  <a:lnTo>
                    <a:pt x="2244089" y="1362709"/>
                  </a:lnTo>
                  <a:lnTo>
                    <a:pt x="2263139" y="1367790"/>
                  </a:lnTo>
                  <a:lnTo>
                    <a:pt x="2350770" y="1371600"/>
                  </a:lnTo>
                  <a:lnTo>
                    <a:pt x="2630170" y="1371600"/>
                  </a:lnTo>
                  <a:lnTo>
                    <a:pt x="2651760" y="1367790"/>
                  </a:lnTo>
                  <a:lnTo>
                    <a:pt x="2668270" y="1361440"/>
                  </a:lnTo>
                  <a:lnTo>
                    <a:pt x="2680970" y="1353820"/>
                  </a:lnTo>
                  <a:lnTo>
                    <a:pt x="2691129" y="1342390"/>
                  </a:lnTo>
                  <a:lnTo>
                    <a:pt x="2696210" y="1334770"/>
                  </a:lnTo>
                  <a:lnTo>
                    <a:pt x="2708910" y="1323340"/>
                  </a:lnTo>
                  <a:lnTo>
                    <a:pt x="2715260" y="1318259"/>
                  </a:lnTo>
                  <a:lnTo>
                    <a:pt x="2720339" y="1311909"/>
                  </a:lnTo>
                  <a:lnTo>
                    <a:pt x="2724150" y="1305559"/>
                  </a:lnTo>
                  <a:lnTo>
                    <a:pt x="2726689" y="1297940"/>
                  </a:lnTo>
                  <a:lnTo>
                    <a:pt x="2730500" y="1291590"/>
                  </a:lnTo>
                  <a:lnTo>
                    <a:pt x="2747010" y="1275079"/>
                  </a:lnTo>
                  <a:lnTo>
                    <a:pt x="2749550" y="1271270"/>
                  </a:lnTo>
                  <a:lnTo>
                    <a:pt x="2752089" y="1266190"/>
                  </a:lnTo>
                  <a:lnTo>
                    <a:pt x="2772410" y="1238250"/>
                  </a:lnTo>
                  <a:lnTo>
                    <a:pt x="2786379" y="1197609"/>
                  </a:lnTo>
                  <a:lnTo>
                    <a:pt x="2801620" y="1164590"/>
                  </a:lnTo>
                  <a:lnTo>
                    <a:pt x="2805429" y="1129029"/>
                  </a:lnTo>
                  <a:lnTo>
                    <a:pt x="2807970" y="1098550"/>
                  </a:lnTo>
                  <a:lnTo>
                    <a:pt x="2816860" y="1068070"/>
                  </a:lnTo>
                  <a:lnTo>
                    <a:pt x="2827020" y="1046479"/>
                  </a:lnTo>
                  <a:lnTo>
                    <a:pt x="2829560" y="1031240"/>
                  </a:lnTo>
                  <a:lnTo>
                    <a:pt x="2830829" y="993140"/>
                  </a:lnTo>
                  <a:lnTo>
                    <a:pt x="2832100" y="941070"/>
                  </a:lnTo>
                  <a:lnTo>
                    <a:pt x="2832100" y="683259"/>
                  </a:lnTo>
                  <a:lnTo>
                    <a:pt x="2824479" y="659129"/>
                  </a:lnTo>
                  <a:lnTo>
                    <a:pt x="2814320" y="636270"/>
                  </a:lnTo>
                  <a:lnTo>
                    <a:pt x="2809239" y="607060"/>
                  </a:lnTo>
                  <a:lnTo>
                    <a:pt x="2802889" y="567689"/>
                  </a:lnTo>
                  <a:lnTo>
                    <a:pt x="2796539" y="535939"/>
                  </a:lnTo>
                  <a:lnTo>
                    <a:pt x="2794000" y="500379"/>
                  </a:lnTo>
                  <a:lnTo>
                    <a:pt x="2794000" y="457200"/>
                  </a:lnTo>
                  <a:lnTo>
                    <a:pt x="2794000" y="448310"/>
                  </a:lnTo>
                  <a:lnTo>
                    <a:pt x="2790189" y="431800"/>
                  </a:lnTo>
                  <a:lnTo>
                    <a:pt x="2773679" y="389889"/>
                  </a:lnTo>
                  <a:lnTo>
                    <a:pt x="2766060" y="355600"/>
                  </a:lnTo>
                  <a:lnTo>
                    <a:pt x="2759710" y="339089"/>
                  </a:lnTo>
                  <a:lnTo>
                    <a:pt x="2758439" y="321310"/>
                  </a:lnTo>
                  <a:lnTo>
                    <a:pt x="2754629" y="314960"/>
                  </a:lnTo>
                  <a:lnTo>
                    <a:pt x="2749550" y="308610"/>
                  </a:lnTo>
                  <a:lnTo>
                    <a:pt x="2743200" y="303529"/>
                  </a:lnTo>
                  <a:lnTo>
                    <a:pt x="2739389" y="297179"/>
                  </a:lnTo>
                  <a:lnTo>
                    <a:pt x="2731770" y="276860"/>
                  </a:lnTo>
                  <a:lnTo>
                    <a:pt x="2727960" y="273050"/>
                  </a:lnTo>
                  <a:lnTo>
                    <a:pt x="2725420" y="271779"/>
                  </a:lnTo>
                  <a:lnTo>
                    <a:pt x="2722879" y="265429"/>
                  </a:lnTo>
                  <a:lnTo>
                    <a:pt x="2717800" y="240029"/>
                  </a:lnTo>
                  <a:lnTo>
                    <a:pt x="2696210" y="198120"/>
                  </a:lnTo>
                  <a:lnTo>
                    <a:pt x="2688589" y="181610"/>
                  </a:lnTo>
                  <a:lnTo>
                    <a:pt x="2675889" y="168910"/>
                  </a:lnTo>
                  <a:lnTo>
                    <a:pt x="2651760" y="148589"/>
                  </a:lnTo>
                  <a:lnTo>
                    <a:pt x="2633979" y="124460"/>
                  </a:lnTo>
                  <a:lnTo>
                    <a:pt x="2628900" y="120650"/>
                  </a:lnTo>
                  <a:lnTo>
                    <a:pt x="2625089" y="118110"/>
                  </a:lnTo>
                  <a:lnTo>
                    <a:pt x="2616200" y="109220"/>
                  </a:lnTo>
                  <a:lnTo>
                    <a:pt x="2599689" y="86360"/>
                  </a:lnTo>
                  <a:lnTo>
                    <a:pt x="2575560" y="68579"/>
                  </a:lnTo>
                  <a:lnTo>
                    <a:pt x="2571750" y="63500"/>
                  </a:lnTo>
                  <a:lnTo>
                    <a:pt x="2569210" y="59689"/>
                  </a:lnTo>
                  <a:lnTo>
                    <a:pt x="2565400" y="57150"/>
                  </a:lnTo>
                  <a:lnTo>
                    <a:pt x="2546350" y="49529"/>
                  </a:lnTo>
                  <a:lnTo>
                    <a:pt x="2522220" y="34289"/>
                  </a:lnTo>
                  <a:lnTo>
                    <a:pt x="2500629" y="26670"/>
                  </a:lnTo>
                  <a:lnTo>
                    <a:pt x="2496820" y="22860"/>
                  </a:lnTo>
                  <a:lnTo>
                    <a:pt x="2494279" y="20320"/>
                  </a:lnTo>
                  <a:lnTo>
                    <a:pt x="2487929" y="17779"/>
                  </a:lnTo>
                  <a:lnTo>
                    <a:pt x="2452370" y="13970"/>
                  </a:lnTo>
                  <a:lnTo>
                    <a:pt x="2409189" y="11429"/>
                  </a:lnTo>
                  <a:lnTo>
                    <a:pt x="2379979" y="3810"/>
                  </a:lnTo>
                  <a:lnTo>
                    <a:pt x="2299970" y="0"/>
                  </a:lnTo>
                  <a:lnTo>
                    <a:pt x="1717039" y="0"/>
                  </a:lnTo>
                  <a:lnTo>
                    <a:pt x="1701800" y="3810"/>
                  </a:lnTo>
                  <a:lnTo>
                    <a:pt x="1684020" y="8889"/>
                  </a:lnTo>
                  <a:lnTo>
                    <a:pt x="1659889" y="12700"/>
                  </a:lnTo>
                  <a:lnTo>
                    <a:pt x="1625600" y="22860"/>
                  </a:lnTo>
                  <a:lnTo>
                    <a:pt x="1545589" y="26670"/>
                  </a:lnTo>
                  <a:lnTo>
                    <a:pt x="1524000" y="38100"/>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11" name="TextBox 12"/>
          <p:cNvSpPr/>
          <p:nvPr/>
        </p:nvSpPr>
        <p:spPr>
          <a:xfrm>
            <a:off x="4559400" y="914400"/>
            <a:ext cx="5460840" cy="324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Comic Sans MS - 24"/>
              </a:rPr>
              <a:t>opposite integers</a:t>
            </a:r>
            <a:r>
              <a:rPr b="0" lang="en-US" sz="2300" spc="-1" strike="noStrike">
                <a:solidFill>
                  <a:srgbClr val="0000ff"/>
                </a:solidFill>
                <a:latin typeface="Comic Sans MS - 24"/>
              </a:rPr>
              <a:t>:</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two integers with the same "numeral", but different signs.  For example,</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two integers represented  by points that are the same distance in opposite directions from zero on a number line</a:t>
            </a:r>
            <a:endParaRPr b="0" lang="en-US" sz="2300" spc="-1" strike="noStrike">
              <a:solidFill>
                <a:srgbClr val="000000"/>
              </a:solidFill>
              <a:latin typeface="Calibri"/>
            </a:endParaRPr>
          </a:p>
        </p:txBody>
      </p:sp>
      <p:grpSp>
        <p:nvGrpSpPr>
          <p:cNvPr id="112" name="Group 31"/>
          <p:cNvGrpSpPr/>
          <p:nvPr/>
        </p:nvGrpSpPr>
        <p:grpSpPr>
          <a:xfrm>
            <a:off x="6176880" y="2336760"/>
            <a:ext cx="3390840" cy="1833840"/>
            <a:chOff x="6176880" y="2336760"/>
            <a:chExt cx="3390840" cy="1833840"/>
          </a:xfrm>
        </p:grpSpPr>
        <p:grpSp>
          <p:nvGrpSpPr>
            <p:cNvPr id="113" name="Group 29"/>
            <p:cNvGrpSpPr/>
            <p:nvPr/>
          </p:nvGrpSpPr>
          <p:grpSpPr>
            <a:xfrm>
              <a:off x="6176880" y="2336760"/>
              <a:ext cx="3390840" cy="668520"/>
              <a:chOff x="6176880" y="2336760"/>
              <a:chExt cx="3390840" cy="668520"/>
            </a:xfrm>
          </p:grpSpPr>
          <p:grpSp>
            <p:nvGrpSpPr>
              <p:cNvPr id="114" name="Group 17"/>
              <p:cNvGrpSpPr/>
              <p:nvPr/>
            </p:nvGrpSpPr>
            <p:grpSpPr>
              <a:xfrm>
                <a:off x="6176880" y="2336760"/>
                <a:ext cx="740520" cy="668520"/>
                <a:chOff x="6176880" y="2336760"/>
                <a:chExt cx="740520" cy="668520"/>
              </a:xfrm>
            </p:grpSpPr>
            <p:sp>
              <p:nvSpPr>
                <p:cNvPr id="115" name="Freeform 13"/>
                <p:cNvSpPr/>
                <p:nvPr/>
              </p:nvSpPr>
              <p:spPr>
                <a:xfrm>
                  <a:off x="6176880" y="2336760"/>
                  <a:ext cx="740520" cy="668520"/>
                </a:xfrm>
                <a:custGeom>
                  <a:avLst/>
                  <a:gdLst>
                    <a:gd name="textAreaLeft" fmla="*/ 0 w 740520"/>
                    <a:gd name="textAreaRight" fmla="*/ 740880 w 740520"/>
                    <a:gd name="textAreaTop" fmla="*/ 0 h 668520"/>
                    <a:gd name="textAreaBottom" fmla="*/ 668880 h 668520"/>
                  </a:gdLst>
                  <a:ahLst/>
                  <a:rect l="textAreaLeft" t="textAreaTop" r="textAreaRight" b="textAreaBottom"/>
                  <a:pathLst>
                    <a:path w="740792" h="668402">
                      <a:moveTo>
                        <a:pt x="0" y="0"/>
                      </a:moveTo>
                      <a:lnTo>
                        <a:pt x="740791" y="0"/>
                      </a:lnTo>
                      <a:lnTo>
                        <a:pt x="740791" y="668401"/>
                      </a:lnTo>
                      <a:lnTo>
                        <a:pt x="0" y="668401"/>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16" name="Group 16"/>
                <p:cNvGrpSpPr/>
                <p:nvPr/>
              </p:nvGrpSpPr>
              <p:grpSpPr>
                <a:xfrm>
                  <a:off x="6391080" y="2514960"/>
                  <a:ext cx="321480" cy="303120"/>
                  <a:chOff x="6391080" y="2514960"/>
                  <a:chExt cx="321480" cy="303120"/>
                </a:xfrm>
              </p:grpSpPr>
              <p:sp>
                <p:nvSpPr>
                  <p:cNvPr id="117" name="Straight Connector 14"/>
                  <p:cNvSpPr/>
                  <p:nvPr/>
                </p:nvSpPr>
                <p:spPr>
                  <a:xfrm>
                    <a:off x="6391080" y="2675520"/>
                    <a:ext cx="321480" cy="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Straight Connector 15"/>
                  <p:cNvSpPr/>
                  <p:nvPr/>
                </p:nvSpPr>
                <p:spPr>
                  <a:xfrm flipV="1">
                    <a:off x="6546960" y="2514960"/>
                    <a:ext cx="0" cy="30312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119" name="Group 20"/>
              <p:cNvGrpSpPr/>
              <p:nvPr/>
            </p:nvGrpSpPr>
            <p:grpSpPr>
              <a:xfrm>
                <a:off x="8028000" y="2336760"/>
                <a:ext cx="740520" cy="668520"/>
                <a:chOff x="8028000" y="2336760"/>
                <a:chExt cx="740520" cy="668520"/>
              </a:xfrm>
            </p:grpSpPr>
            <p:sp>
              <p:nvSpPr>
                <p:cNvPr id="120" name="Freeform 18"/>
                <p:cNvSpPr/>
                <p:nvPr/>
              </p:nvSpPr>
              <p:spPr>
                <a:xfrm>
                  <a:off x="8028000" y="2336760"/>
                  <a:ext cx="740520" cy="668520"/>
                </a:xfrm>
                <a:custGeom>
                  <a:avLst/>
                  <a:gdLst>
                    <a:gd name="textAreaLeft" fmla="*/ 0 w 740520"/>
                    <a:gd name="textAreaRight" fmla="*/ 740880 w 740520"/>
                    <a:gd name="textAreaTop" fmla="*/ 0 h 668520"/>
                    <a:gd name="textAreaBottom" fmla="*/ 668880 h 668520"/>
                  </a:gdLst>
                  <a:ahLst/>
                  <a:rect l="textAreaLeft" t="textAreaTop" r="textAreaRight" b="textAreaBottom"/>
                  <a:pathLst>
                    <a:path w="740792" h="668402">
                      <a:moveTo>
                        <a:pt x="0" y="0"/>
                      </a:moveTo>
                      <a:lnTo>
                        <a:pt x="740791" y="0"/>
                      </a:lnTo>
                      <a:lnTo>
                        <a:pt x="740791" y="668401"/>
                      </a:lnTo>
                      <a:lnTo>
                        <a:pt x="0" y="668401"/>
                      </a:ln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1" name="Straight Connector 19"/>
                <p:cNvSpPr/>
                <p:nvPr/>
              </p:nvSpPr>
              <p:spPr>
                <a:xfrm>
                  <a:off x="8232480" y="2675520"/>
                  <a:ext cx="32148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2" name="Group 25"/>
              <p:cNvGrpSpPr/>
              <p:nvPr/>
            </p:nvGrpSpPr>
            <p:grpSpPr>
              <a:xfrm>
                <a:off x="6975720" y="2336760"/>
                <a:ext cx="740520" cy="668520"/>
                <a:chOff x="6975720" y="2336760"/>
                <a:chExt cx="740520" cy="668520"/>
              </a:xfrm>
            </p:grpSpPr>
            <p:sp>
              <p:nvSpPr>
                <p:cNvPr id="123" name="Freeform 21"/>
                <p:cNvSpPr/>
                <p:nvPr/>
              </p:nvSpPr>
              <p:spPr>
                <a:xfrm>
                  <a:off x="6975720" y="2336760"/>
                  <a:ext cx="740520" cy="668520"/>
                </a:xfrm>
                <a:custGeom>
                  <a:avLst/>
                  <a:gdLst>
                    <a:gd name="textAreaLeft" fmla="*/ 0 w 740520"/>
                    <a:gd name="textAreaRight" fmla="*/ 740880 w 740520"/>
                    <a:gd name="textAreaTop" fmla="*/ 0 h 668520"/>
                    <a:gd name="textAreaBottom" fmla="*/ 668880 h 668520"/>
                  </a:gdLst>
                  <a:ahLst/>
                  <a:rect l="textAreaLeft" t="textAreaTop" r="textAreaRight" b="textAreaBottom"/>
                  <a:pathLst>
                    <a:path w="740791" h="668402">
                      <a:moveTo>
                        <a:pt x="0" y="0"/>
                      </a:moveTo>
                      <a:lnTo>
                        <a:pt x="740790" y="0"/>
                      </a:lnTo>
                      <a:lnTo>
                        <a:pt x="740790" y="668401"/>
                      </a:lnTo>
                      <a:lnTo>
                        <a:pt x="0" y="668401"/>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24" name="Group 24"/>
                <p:cNvGrpSpPr/>
                <p:nvPr/>
              </p:nvGrpSpPr>
              <p:grpSpPr>
                <a:xfrm>
                  <a:off x="7189920" y="2514960"/>
                  <a:ext cx="321480" cy="303120"/>
                  <a:chOff x="7189920" y="2514960"/>
                  <a:chExt cx="321480" cy="303120"/>
                </a:xfrm>
              </p:grpSpPr>
              <p:sp>
                <p:nvSpPr>
                  <p:cNvPr id="125" name="Straight Connector 22"/>
                  <p:cNvSpPr/>
                  <p:nvPr/>
                </p:nvSpPr>
                <p:spPr>
                  <a:xfrm>
                    <a:off x="7189920" y="2675520"/>
                    <a:ext cx="321480" cy="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Straight Connector 23"/>
                  <p:cNvSpPr/>
                  <p:nvPr/>
                </p:nvSpPr>
                <p:spPr>
                  <a:xfrm flipV="1">
                    <a:off x="7345800" y="2514960"/>
                    <a:ext cx="0" cy="30312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127" name="Group 28"/>
              <p:cNvGrpSpPr/>
              <p:nvPr/>
            </p:nvGrpSpPr>
            <p:grpSpPr>
              <a:xfrm>
                <a:off x="8827200" y="2336760"/>
                <a:ext cx="740520" cy="668520"/>
                <a:chOff x="8827200" y="2336760"/>
                <a:chExt cx="740520" cy="668520"/>
              </a:xfrm>
            </p:grpSpPr>
            <p:sp>
              <p:nvSpPr>
                <p:cNvPr id="128" name="Freeform 26"/>
                <p:cNvSpPr/>
                <p:nvPr/>
              </p:nvSpPr>
              <p:spPr>
                <a:xfrm>
                  <a:off x="8827200" y="2336760"/>
                  <a:ext cx="740520" cy="668520"/>
                </a:xfrm>
                <a:custGeom>
                  <a:avLst/>
                  <a:gdLst>
                    <a:gd name="textAreaLeft" fmla="*/ 0 w 740520"/>
                    <a:gd name="textAreaRight" fmla="*/ 740880 w 740520"/>
                    <a:gd name="textAreaTop" fmla="*/ 0 h 668520"/>
                    <a:gd name="textAreaBottom" fmla="*/ 668880 h 668520"/>
                  </a:gdLst>
                  <a:ahLst/>
                  <a:rect l="textAreaLeft" t="textAreaTop" r="textAreaRight" b="textAreaBottom"/>
                  <a:pathLst>
                    <a:path w="740792" h="668402">
                      <a:moveTo>
                        <a:pt x="0" y="0"/>
                      </a:moveTo>
                      <a:lnTo>
                        <a:pt x="740791" y="0"/>
                      </a:lnTo>
                      <a:lnTo>
                        <a:pt x="740791" y="668401"/>
                      </a:lnTo>
                      <a:lnTo>
                        <a:pt x="0" y="668401"/>
                      </a:ln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9" name="Straight Connector 27"/>
                <p:cNvSpPr/>
                <p:nvPr/>
              </p:nvSpPr>
              <p:spPr>
                <a:xfrm>
                  <a:off x="9031680" y="2675520"/>
                  <a:ext cx="32148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130" name="TextBox 30"/>
            <p:cNvSpPr/>
            <p:nvPr/>
          </p:nvSpPr>
          <p:spPr>
            <a:xfrm>
              <a:off x="6616800" y="3009600"/>
              <a:ext cx="2818440" cy="116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 36"/>
                </a:rPr>
                <a:t>+2</a:t>
              </a:r>
              <a:r>
                <a:rPr b="0" lang="en-US" sz="3500" spc="-1" strike="noStrike">
                  <a:solidFill>
                    <a:srgbClr val="000000"/>
                  </a:solidFill>
                  <a:latin typeface="Arial - 36"/>
                </a:rPr>
                <a:t>	</a:t>
              </a:r>
              <a:r>
                <a:rPr b="0" lang="en-US" sz="3500" spc="-1" strike="noStrike">
                  <a:solidFill>
                    <a:srgbClr val="000000"/>
                  </a:solidFill>
                  <a:latin typeface="Arial - 36"/>
                </a:rPr>
                <a:t>	</a:t>
              </a:r>
              <a:r>
                <a:rPr b="0" lang="en-US" sz="3500" spc="-1" strike="noStrike">
                  <a:solidFill>
                    <a:srgbClr val="000000"/>
                  </a:solidFill>
                  <a:latin typeface="Arial - 36"/>
                </a:rPr>
                <a:t>	</a:t>
              </a:r>
              <a:r>
                <a:rPr b="0" lang="en-US" sz="3500" spc="-1" strike="noStrike">
                  <a:solidFill>
                    <a:srgbClr val="000000"/>
                  </a:solidFill>
                  <a:latin typeface="Arial - 36"/>
                </a:rPr>
                <a:t>-2</a:t>
              </a:r>
              <a:endParaRPr b="0" lang="en-US" sz="3500" spc="-1" strike="noStrike">
                <a:solidFill>
                  <a:srgbClr val="000000"/>
                </a:solidFill>
                <a:latin typeface="Calibri"/>
              </a:endParaRPr>
            </a:p>
          </p:txBody>
        </p:sp>
      </p:grpSp>
      <p:grpSp>
        <p:nvGrpSpPr>
          <p:cNvPr id="131" name="Group 64"/>
          <p:cNvGrpSpPr/>
          <p:nvPr/>
        </p:nvGrpSpPr>
        <p:grpSpPr>
          <a:xfrm>
            <a:off x="4718160" y="5568840"/>
            <a:ext cx="5010120" cy="533880"/>
            <a:chOff x="4718160" y="5568840"/>
            <a:chExt cx="5010120" cy="533880"/>
          </a:xfrm>
        </p:grpSpPr>
        <p:grpSp>
          <p:nvGrpSpPr>
            <p:cNvPr id="132" name="Group 60"/>
            <p:cNvGrpSpPr/>
            <p:nvPr/>
          </p:nvGrpSpPr>
          <p:grpSpPr>
            <a:xfrm>
              <a:off x="4718160" y="5568840"/>
              <a:ext cx="5010120" cy="533880"/>
              <a:chOff x="4718160" y="5568840"/>
              <a:chExt cx="5010120" cy="533880"/>
            </a:xfrm>
          </p:grpSpPr>
          <p:sp>
            <p:nvSpPr>
              <p:cNvPr id="133" name="TextBox 32"/>
              <p:cNvSpPr/>
              <p:nvPr/>
            </p:nvSpPr>
            <p:spPr>
              <a:xfrm>
                <a:off x="6629760" y="5765400"/>
                <a:ext cx="330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1</a:t>
                </a:r>
                <a:endParaRPr b="0" lang="en-US" sz="900" spc="-1" strike="noStrike">
                  <a:solidFill>
                    <a:srgbClr val="000000"/>
                  </a:solidFill>
                  <a:latin typeface="Calibri"/>
                </a:endParaRPr>
              </a:p>
            </p:txBody>
          </p:sp>
          <p:sp>
            <p:nvSpPr>
              <p:cNvPr id="134" name="TextBox 33"/>
              <p:cNvSpPr/>
              <p:nvPr/>
            </p:nvSpPr>
            <p:spPr>
              <a:xfrm>
                <a:off x="7112160" y="5778000"/>
                <a:ext cx="279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 12"/>
                  </a:rPr>
                  <a:t>0</a:t>
                </a:r>
                <a:endParaRPr b="0" lang="en-US" sz="800" spc="-1" strike="noStrike">
                  <a:solidFill>
                    <a:srgbClr val="000000"/>
                  </a:solidFill>
                  <a:latin typeface="Calibri"/>
                </a:endParaRPr>
              </a:p>
            </p:txBody>
          </p:sp>
          <p:sp>
            <p:nvSpPr>
              <p:cNvPr id="135" name="TextBox 34"/>
              <p:cNvSpPr/>
              <p:nvPr/>
            </p:nvSpPr>
            <p:spPr>
              <a:xfrm>
                <a:off x="6235920" y="5765400"/>
                <a:ext cx="25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 12"/>
                  </a:rPr>
                  <a:t>-2</a:t>
                </a:r>
                <a:endParaRPr b="0" lang="en-US" sz="800" spc="-1" strike="noStrike">
                  <a:solidFill>
                    <a:srgbClr val="000000"/>
                  </a:solidFill>
                  <a:latin typeface="Calibri"/>
                </a:endParaRPr>
              </a:p>
            </p:txBody>
          </p:sp>
          <p:sp>
            <p:nvSpPr>
              <p:cNvPr id="136" name="TextBox 35"/>
              <p:cNvSpPr/>
              <p:nvPr/>
            </p:nvSpPr>
            <p:spPr>
              <a:xfrm>
                <a:off x="5803920" y="576540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3</a:t>
                </a:r>
                <a:endParaRPr b="0" lang="en-US" sz="900" spc="-1" strike="noStrike">
                  <a:solidFill>
                    <a:srgbClr val="000000"/>
                  </a:solidFill>
                  <a:latin typeface="Calibri"/>
                </a:endParaRPr>
              </a:p>
            </p:txBody>
          </p:sp>
          <p:sp>
            <p:nvSpPr>
              <p:cNvPr id="137" name="TextBox 36"/>
              <p:cNvSpPr/>
              <p:nvPr/>
            </p:nvSpPr>
            <p:spPr>
              <a:xfrm>
                <a:off x="5384880" y="576540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4</a:t>
                </a:r>
                <a:endParaRPr b="0" lang="en-US" sz="900" spc="-1" strike="noStrike">
                  <a:solidFill>
                    <a:srgbClr val="000000"/>
                  </a:solidFill>
                  <a:latin typeface="Calibri"/>
                </a:endParaRPr>
              </a:p>
            </p:txBody>
          </p:sp>
          <p:sp>
            <p:nvSpPr>
              <p:cNvPr id="138" name="TextBox 37"/>
              <p:cNvSpPr/>
              <p:nvPr/>
            </p:nvSpPr>
            <p:spPr>
              <a:xfrm>
                <a:off x="4991040" y="576540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5</a:t>
                </a:r>
                <a:endParaRPr b="0" lang="en-US" sz="900" spc="-1" strike="noStrike">
                  <a:solidFill>
                    <a:srgbClr val="000000"/>
                  </a:solidFill>
                  <a:latin typeface="Calibri"/>
                </a:endParaRPr>
              </a:p>
            </p:txBody>
          </p:sp>
          <p:sp>
            <p:nvSpPr>
              <p:cNvPr id="139" name="TextBox 38"/>
              <p:cNvSpPr/>
              <p:nvPr/>
            </p:nvSpPr>
            <p:spPr>
              <a:xfrm>
                <a:off x="7531560" y="5765400"/>
                <a:ext cx="330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1</a:t>
                </a:r>
                <a:endParaRPr b="0" lang="en-US" sz="900" spc="-1" strike="noStrike">
                  <a:solidFill>
                    <a:srgbClr val="000000"/>
                  </a:solidFill>
                  <a:latin typeface="Calibri"/>
                </a:endParaRPr>
              </a:p>
            </p:txBody>
          </p:sp>
          <p:sp>
            <p:nvSpPr>
              <p:cNvPr id="140" name="TextBox 39"/>
              <p:cNvSpPr/>
              <p:nvPr/>
            </p:nvSpPr>
            <p:spPr>
              <a:xfrm>
                <a:off x="7963200" y="5765400"/>
                <a:ext cx="253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 12"/>
                  </a:rPr>
                  <a:t>2</a:t>
                </a:r>
                <a:endParaRPr b="0" lang="en-US" sz="800" spc="-1" strike="noStrike">
                  <a:solidFill>
                    <a:srgbClr val="000000"/>
                  </a:solidFill>
                  <a:latin typeface="Calibri"/>
                </a:endParaRPr>
              </a:p>
            </p:txBody>
          </p:sp>
          <p:sp>
            <p:nvSpPr>
              <p:cNvPr id="141" name="TextBox 40"/>
              <p:cNvSpPr/>
              <p:nvPr/>
            </p:nvSpPr>
            <p:spPr>
              <a:xfrm>
                <a:off x="8344440" y="577800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3</a:t>
                </a:r>
                <a:endParaRPr b="0" lang="en-US" sz="900" spc="-1" strike="noStrike">
                  <a:solidFill>
                    <a:srgbClr val="000000"/>
                  </a:solidFill>
                  <a:latin typeface="Calibri"/>
                </a:endParaRPr>
              </a:p>
            </p:txBody>
          </p:sp>
          <p:sp>
            <p:nvSpPr>
              <p:cNvPr id="142" name="TextBox 41"/>
              <p:cNvSpPr/>
              <p:nvPr/>
            </p:nvSpPr>
            <p:spPr>
              <a:xfrm>
                <a:off x="8763480" y="577800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4</a:t>
                </a:r>
                <a:endParaRPr b="0" lang="en-US" sz="900" spc="-1" strike="noStrike">
                  <a:solidFill>
                    <a:srgbClr val="000000"/>
                  </a:solidFill>
                  <a:latin typeface="Calibri"/>
                </a:endParaRPr>
              </a:p>
            </p:txBody>
          </p:sp>
          <p:sp>
            <p:nvSpPr>
              <p:cNvPr id="143" name="TextBox 42"/>
              <p:cNvSpPr/>
              <p:nvPr/>
            </p:nvSpPr>
            <p:spPr>
              <a:xfrm>
                <a:off x="9182520" y="576540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5</a:t>
                </a:r>
                <a:endParaRPr b="0" lang="en-US" sz="900" spc="-1" strike="noStrike">
                  <a:solidFill>
                    <a:srgbClr val="000000"/>
                  </a:solidFill>
                  <a:latin typeface="Calibri"/>
                </a:endParaRPr>
              </a:p>
            </p:txBody>
          </p:sp>
          <p:grpSp>
            <p:nvGrpSpPr>
              <p:cNvPr id="144" name="Group 48"/>
              <p:cNvGrpSpPr/>
              <p:nvPr/>
            </p:nvGrpSpPr>
            <p:grpSpPr>
              <a:xfrm>
                <a:off x="4718160" y="5568840"/>
                <a:ext cx="5010120" cy="212040"/>
                <a:chOff x="4718160" y="5568840"/>
                <a:chExt cx="5010120" cy="212040"/>
              </a:xfrm>
            </p:grpSpPr>
            <p:sp>
              <p:nvSpPr>
                <p:cNvPr id="145" name="Freeform 43"/>
                <p:cNvSpPr/>
                <p:nvPr/>
              </p:nvSpPr>
              <p:spPr>
                <a:xfrm>
                  <a:off x="4725000" y="5670000"/>
                  <a:ext cx="5002200" cy="7920"/>
                </a:xfrm>
                <a:custGeom>
                  <a:avLst/>
                  <a:gdLst>
                    <a:gd name="textAreaLeft" fmla="*/ 0 w 5002200"/>
                    <a:gd name="textAreaRight" fmla="*/ 5002560 w 5002200"/>
                    <a:gd name="textAreaTop" fmla="*/ 0 h 7920"/>
                    <a:gd name="textAreaBottom" fmla="*/ 8280 h 7920"/>
                  </a:gdLst>
                  <a:ahLst/>
                  <a:rect l="textAreaLeft" t="textAreaTop" r="textAreaRight" b="textAreaBottom"/>
                  <a:pathLst>
                    <a:path w="5001770" h="8002">
                      <a:moveTo>
                        <a:pt x="0" y="8001"/>
                      </a:moveTo>
                      <a:lnTo>
                        <a:pt x="0" y="0"/>
                      </a:lnTo>
                      <a:lnTo>
                        <a:pt x="5001769" y="0"/>
                      </a:lnTo>
                      <a:lnTo>
                        <a:pt x="5001769" y="8001"/>
                      </a:lnTo>
                      <a:close/>
                    </a:path>
                  </a:pathLst>
                </a:custGeom>
                <a:solidFill>
                  <a:srgbClr val="000000"/>
                </a:solidFill>
                <a:ln w="0">
                  <a:solidFill>
                    <a:srgbClr val="000000"/>
                  </a:solidFill>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Calibri"/>
                  </a:endParaRPr>
                </a:p>
              </p:txBody>
            </p:sp>
            <p:sp>
              <p:nvSpPr>
                <p:cNvPr id="146" name="Freeform 44"/>
                <p:cNvSpPr/>
                <p:nvPr/>
              </p:nvSpPr>
              <p:spPr>
                <a:xfrm>
                  <a:off x="4718160" y="5568840"/>
                  <a:ext cx="144360" cy="110880"/>
                </a:xfrm>
                <a:custGeom>
                  <a:avLst/>
                  <a:gdLst>
                    <a:gd name="textAreaLeft" fmla="*/ 0 w 144360"/>
                    <a:gd name="textAreaRight" fmla="*/ 144720 w 144360"/>
                    <a:gd name="textAreaTop" fmla="*/ 0 h 110880"/>
                    <a:gd name="textAreaBottom" fmla="*/ 111240 h 110880"/>
                  </a:gdLst>
                  <a:ahLst/>
                  <a:rect l="textAreaLeft" t="textAreaTop" r="textAreaRight" b="textAreaBottom"/>
                  <a:pathLst>
                    <a:path w="144399" h="110873">
                      <a:moveTo>
                        <a:pt x="6984" y="110872"/>
                      </a:moveTo>
                      <a:lnTo>
                        <a:pt x="0" y="105284"/>
                      </a:lnTo>
                      <a:lnTo>
                        <a:pt x="137414" y="0"/>
                      </a:lnTo>
                      <a:lnTo>
                        <a:pt x="144398" y="546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7" name="Freeform 45"/>
                <p:cNvSpPr/>
                <p:nvPr/>
              </p:nvSpPr>
              <p:spPr>
                <a:xfrm>
                  <a:off x="4719960" y="5669640"/>
                  <a:ext cx="144360" cy="110880"/>
                </a:xfrm>
                <a:custGeom>
                  <a:avLst/>
                  <a:gdLst>
                    <a:gd name="textAreaLeft" fmla="*/ 0 w 144360"/>
                    <a:gd name="textAreaRight" fmla="*/ 144720 w 144360"/>
                    <a:gd name="textAreaTop" fmla="*/ 0 h 110880"/>
                    <a:gd name="textAreaBottom" fmla="*/ 111240 h 110880"/>
                  </a:gdLst>
                  <a:ahLst/>
                  <a:rect l="textAreaLeft" t="textAreaTop" r="textAreaRight" b="textAreaBottom"/>
                  <a:pathLst>
                    <a:path w="144527" h="110999">
                      <a:moveTo>
                        <a:pt x="0" y="5588"/>
                      </a:moveTo>
                      <a:lnTo>
                        <a:pt x="7112" y="0"/>
                      </a:lnTo>
                      <a:lnTo>
                        <a:pt x="144526" y="105282"/>
                      </a:lnTo>
                      <a:lnTo>
                        <a:pt x="137542" y="11099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8" name="Freeform 46"/>
                <p:cNvSpPr/>
                <p:nvPr/>
              </p:nvSpPr>
              <p:spPr>
                <a:xfrm>
                  <a:off x="9583920" y="5569200"/>
                  <a:ext cx="144360" cy="110880"/>
                </a:xfrm>
                <a:custGeom>
                  <a:avLst/>
                  <a:gdLst>
                    <a:gd name="textAreaLeft" fmla="*/ 0 w 144360"/>
                    <a:gd name="textAreaRight" fmla="*/ 144720 w 144360"/>
                    <a:gd name="textAreaTop" fmla="*/ 0 h 110880"/>
                    <a:gd name="textAreaBottom" fmla="*/ 111240 h 110880"/>
                  </a:gdLst>
                  <a:ahLst/>
                  <a:rect l="textAreaLeft" t="textAreaTop" r="textAreaRight" b="textAreaBottom"/>
                  <a:pathLst>
                    <a:path w="144526" h="110999">
                      <a:moveTo>
                        <a:pt x="144525" y="105284"/>
                      </a:moveTo>
                      <a:lnTo>
                        <a:pt x="137540" y="110998"/>
                      </a:lnTo>
                      <a:lnTo>
                        <a:pt x="0" y="5589"/>
                      </a:lnTo>
                      <a:lnTo>
                        <a:pt x="7112"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9" name="Freeform 47"/>
                <p:cNvSpPr/>
                <p:nvPr/>
              </p:nvSpPr>
              <p:spPr>
                <a:xfrm>
                  <a:off x="9581760" y="5670000"/>
                  <a:ext cx="144360" cy="110880"/>
                </a:xfrm>
                <a:custGeom>
                  <a:avLst/>
                  <a:gdLst>
                    <a:gd name="textAreaLeft" fmla="*/ 0 w 144360"/>
                    <a:gd name="textAreaRight" fmla="*/ 144720 w 144360"/>
                    <a:gd name="textAreaTop" fmla="*/ 0 h 110880"/>
                    <a:gd name="textAreaBottom" fmla="*/ 111240 h 110880"/>
                  </a:gdLst>
                  <a:ahLst/>
                  <a:rect l="textAreaLeft" t="textAreaTop" r="textAreaRight" b="textAreaBottom"/>
                  <a:pathLst>
                    <a:path w="144527" h="110871">
                      <a:moveTo>
                        <a:pt x="137542" y="0"/>
                      </a:moveTo>
                      <a:lnTo>
                        <a:pt x="144526" y="5588"/>
                      </a:lnTo>
                      <a:lnTo>
                        <a:pt x="7112" y="110870"/>
                      </a:lnTo>
                      <a:lnTo>
                        <a:pt x="0" y="10528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50" name="Freeform 49"/>
              <p:cNvSpPr/>
              <p:nvPr/>
            </p:nvSpPr>
            <p:spPr>
              <a:xfrm>
                <a:off x="9281880" y="558864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1050" h="161292">
                    <a:moveTo>
                      <a:pt x="0" y="0"/>
                    </a:moveTo>
                    <a:lnTo>
                      <a:pt x="11049" y="0"/>
                    </a:lnTo>
                    <a:lnTo>
                      <a:pt x="11049" y="161291"/>
                    </a:lnTo>
                    <a:lnTo>
                      <a:pt x="0" y="1612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1" name="Freeform 50"/>
              <p:cNvSpPr/>
              <p:nvPr/>
            </p:nvSpPr>
            <p:spPr>
              <a:xfrm>
                <a:off x="8875440" y="558864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1050" h="161292">
                    <a:moveTo>
                      <a:pt x="0" y="0"/>
                    </a:moveTo>
                    <a:lnTo>
                      <a:pt x="11049" y="0"/>
                    </a:lnTo>
                    <a:lnTo>
                      <a:pt x="11049" y="161291"/>
                    </a:lnTo>
                    <a:lnTo>
                      <a:pt x="0" y="1612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2" name="Freeform 51"/>
              <p:cNvSpPr/>
              <p:nvPr/>
            </p:nvSpPr>
            <p:spPr>
              <a:xfrm>
                <a:off x="8443800" y="558864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1050" h="161292">
                    <a:moveTo>
                      <a:pt x="0" y="0"/>
                    </a:moveTo>
                    <a:lnTo>
                      <a:pt x="11049" y="0"/>
                    </a:lnTo>
                    <a:lnTo>
                      <a:pt x="11049" y="161291"/>
                    </a:lnTo>
                    <a:lnTo>
                      <a:pt x="0" y="1612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3" name="Freeform 52"/>
              <p:cNvSpPr/>
              <p:nvPr/>
            </p:nvSpPr>
            <p:spPr>
              <a:xfrm>
                <a:off x="8037360" y="558864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1050" h="161292">
                    <a:moveTo>
                      <a:pt x="0" y="0"/>
                    </a:moveTo>
                    <a:lnTo>
                      <a:pt x="11049" y="0"/>
                    </a:lnTo>
                    <a:lnTo>
                      <a:pt x="11049" y="161291"/>
                    </a:lnTo>
                    <a:lnTo>
                      <a:pt x="0" y="1612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4" name="Freeform 53"/>
              <p:cNvSpPr/>
              <p:nvPr/>
            </p:nvSpPr>
            <p:spPr>
              <a:xfrm>
                <a:off x="7630560" y="558864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0923" h="161292">
                    <a:moveTo>
                      <a:pt x="0" y="0"/>
                    </a:moveTo>
                    <a:lnTo>
                      <a:pt x="10922" y="0"/>
                    </a:lnTo>
                    <a:lnTo>
                      <a:pt x="10922" y="161291"/>
                    </a:lnTo>
                    <a:lnTo>
                      <a:pt x="0" y="1612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5" name="Freeform 54"/>
              <p:cNvSpPr/>
              <p:nvPr/>
            </p:nvSpPr>
            <p:spPr>
              <a:xfrm>
                <a:off x="6784200" y="559512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1050" h="161291">
                    <a:moveTo>
                      <a:pt x="0" y="0"/>
                    </a:moveTo>
                    <a:lnTo>
                      <a:pt x="11049" y="0"/>
                    </a:lnTo>
                    <a:lnTo>
                      <a:pt x="11049" y="161290"/>
                    </a:lnTo>
                    <a:lnTo>
                      <a:pt x="0" y="16129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6" name="Freeform 55"/>
              <p:cNvSpPr/>
              <p:nvPr/>
            </p:nvSpPr>
            <p:spPr>
              <a:xfrm>
                <a:off x="6377760" y="559512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1049" h="161291">
                    <a:moveTo>
                      <a:pt x="0" y="0"/>
                    </a:moveTo>
                    <a:lnTo>
                      <a:pt x="11048" y="0"/>
                    </a:lnTo>
                    <a:lnTo>
                      <a:pt x="11048" y="161290"/>
                    </a:lnTo>
                    <a:lnTo>
                      <a:pt x="0" y="16129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7" name="Freeform 56"/>
              <p:cNvSpPr/>
              <p:nvPr/>
            </p:nvSpPr>
            <p:spPr>
              <a:xfrm>
                <a:off x="5946120" y="5595120"/>
                <a:ext cx="11160" cy="161280"/>
              </a:xfrm>
              <a:custGeom>
                <a:avLst/>
                <a:gdLst>
                  <a:gd name="textAreaLeft" fmla="*/ 0 w 11160"/>
                  <a:gd name="textAreaRight" fmla="*/ 11520 w 11160"/>
                  <a:gd name="textAreaTop" fmla="*/ 0 h 161280"/>
                  <a:gd name="textAreaBottom" fmla="*/ 161640 h 161280"/>
                </a:gdLst>
                <a:ahLst/>
                <a:rect l="textAreaLeft" t="textAreaTop" r="textAreaRight" b="textAreaBottom"/>
                <a:pathLst>
                  <a:path w="11177" h="161291">
                    <a:moveTo>
                      <a:pt x="0" y="0"/>
                    </a:moveTo>
                    <a:lnTo>
                      <a:pt x="11176" y="0"/>
                    </a:lnTo>
                    <a:lnTo>
                      <a:pt x="11176" y="161290"/>
                    </a:lnTo>
                    <a:lnTo>
                      <a:pt x="0" y="16129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8" name="Freeform 57"/>
              <p:cNvSpPr/>
              <p:nvPr/>
            </p:nvSpPr>
            <p:spPr>
              <a:xfrm>
                <a:off x="5539680" y="5595120"/>
                <a:ext cx="10800" cy="161280"/>
              </a:xfrm>
              <a:custGeom>
                <a:avLst/>
                <a:gdLst>
                  <a:gd name="textAreaLeft" fmla="*/ 0 w 10800"/>
                  <a:gd name="textAreaRight" fmla="*/ 10800 w 10800"/>
                  <a:gd name="textAreaTop" fmla="*/ 0 h 161280"/>
                  <a:gd name="textAreaBottom" fmla="*/ 161640 h 161280"/>
                </a:gdLst>
                <a:ahLst/>
                <a:rect l="textAreaLeft" t="textAreaTop" r="textAreaRight" b="textAreaBottom"/>
                <a:pathLst>
                  <a:path w="10924" h="161291">
                    <a:moveTo>
                      <a:pt x="0" y="0"/>
                    </a:moveTo>
                    <a:lnTo>
                      <a:pt x="10923" y="0"/>
                    </a:lnTo>
                    <a:lnTo>
                      <a:pt x="10923" y="161290"/>
                    </a:lnTo>
                    <a:lnTo>
                      <a:pt x="0" y="16129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9" name="Freeform 58"/>
              <p:cNvSpPr/>
              <p:nvPr/>
            </p:nvSpPr>
            <p:spPr>
              <a:xfrm>
                <a:off x="5132880" y="559512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1049" h="161291">
                    <a:moveTo>
                      <a:pt x="0" y="0"/>
                    </a:moveTo>
                    <a:lnTo>
                      <a:pt x="11048" y="0"/>
                    </a:lnTo>
                    <a:lnTo>
                      <a:pt x="11048" y="161290"/>
                    </a:lnTo>
                    <a:lnTo>
                      <a:pt x="0" y="16129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0" name="Freeform 59"/>
              <p:cNvSpPr/>
              <p:nvPr/>
            </p:nvSpPr>
            <p:spPr>
              <a:xfrm>
                <a:off x="7207560" y="558864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0923" h="161292">
                    <a:moveTo>
                      <a:pt x="0" y="0"/>
                    </a:moveTo>
                    <a:lnTo>
                      <a:pt x="10922" y="0"/>
                    </a:lnTo>
                    <a:lnTo>
                      <a:pt x="10922" y="161291"/>
                    </a:lnTo>
                    <a:lnTo>
                      <a:pt x="0" y="1612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61" name="Group 63"/>
            <p:cNvGrpSpPr/>
            <p:nvPr/>
          </p:nvGrpSpPr>
          <p:grpSpPr>
            <a:xfrm>
              <a:off x="6322320" y="5629320"/>
              <a:ext cx="1782000" cy="91440"/>
              <a:chOff x="6322320" y="5629320"/>
              <a:chExt cx="1782000" cy="91440"/>
            </a:xfrm>
          </p:grpSpPr>
          <p:sp>
            <p:nvSpPr>
              <p:cNvPr id="162" name="Freeform 61"/>
              <p:cNvSpPr/>
              <p:nvPr/>
            </p:nvSpPr>
            <p:spPr>
              <a:xfrm>
                <a:off x="6322320" y="5629320"/>
                <a:ext cx="96480" cy="88920"/>
              </a:xfrm>
              <a:custGeom>
                <a:avLst/>
                <a:gdLst>
                  <a:gd name="textAreaLeft" fmla="*/ 0 w 96480"/>
                  <a:gd name="textAreaRight" fmla="*/ 96840 w 96480"/>
                  <a:gd name="textAreaTop" fmla="*/ 0 h 88920"/>
                  <a:gd name="textAreaBottom" fmla="*/ 89280 h 88920"/>
                </a:gdLst>
                <a:ahLst/>
                <a:rect l="textAreaLeft" t="textAreaTop" r="textAreaRight" b="textAreaBottom"/>
                <a:pathLst>
                  <a:path w="96521" h="88901">
                    <a:moveTo>
                      <a:pt x="57150" y="2541"/>
                    </a:moveTo>
                    <a:lnTo>
                      <a:pt x="46991" y="2541"/>
                    </a:lnTo>
                    <a:lnTo>
                      <a:pt x="43181" y="3811"/>
                    </a:lnTo>
                    <a:lnTo>
                      <a:pt x="39370" y="6350"/>
                    </a:lnTo>
                    <a:lnTo>
                      <a:pt x="35561" y="7620"/>
                    </a:lnTo>
                    <a:lnTo>
                      <a:pt x="30481" y="10161"/>
                    </a:lnTo>
                    <a:lnTo>
                      <a:pt x="19050" y="15241"/>
                    </a:lnTo>
                    <a:lnTo>
                      <a:pt x="13970" y="19050"/>
                    </a:lnTo>
                    <a:lnTo>
                      <a:pt x="10161" y="22861"/>
                    </a:lnTo>
                    <a:lnTo>
                      <a:pt x="6350" y="27941"/>
                    </a:lnTo>
                    <a:lnTo>
                      <a:pt x="3811" y="33020"/>
                    </a:lnTo>
                    <a:lnTo>
                      <a:pt x="1270" y="38100"/>
                    </a:lnTo>
                    <a:lnTo>
                      <a:pt x="0" y="44450"/>
                    </a:lnTo>
                    <a:lnTo>
                      <a:pt x="1270" y="49531"/>
                    </a:lnTo>
                    <a:lnTo>
                      <a:pt x="2541" y="54611"/>
                    </a:lnTo>
                    <a:lnTo>
                      <a:pt x="3811" y="60961"/>
                    </a:lnTo>
                    <a:lnTo>
                      <a:pt x="6350" y="64770"/>
                    </a:lnTo>
                    <a:lnTo>
                      <a:pt x="8891" y="69850"/>
                    </a:lnTo>
                    <a:lnTo>
                      <a:pt x="11431" y="73661"/>
                    </a:lnTo>
                    <a:lnTo>
                      <a:pt x="15241" y="76200"/>
                    </a:lnTo>
                    <a:lnTo>
                      <a:pt x="17781" y="80011"/>
                    </a:lnTo>
                    <a:lnTo>
                      <a:pt x="21591" y="82550"/>
                    </a:lnTo>
                    <a:lnTo>
                      <a:pt x="25400" y="85091"/>
                    </a:lnTo>
                    <a:lnTo>
                      <a:pt x="30481" y="86361"/>
                    </a:lnTo>
                    <a:lnTo>
                      <a:pt x="36831" y="87631"/>
                    </a:lnTo>
                    <a:lnTo>
                      <a:pt x="41911" y="87631"/>
                    </a:lnTo>
                    <a:lnTo>
                      <a:pt x="48261" y="88900"/>
                    </a:lnTo>
                    <a:lnTo>
                      <a:pt x="54611" y="88900"/>
                    </a:lnTo>
                    <a:lnTo>
                      <a:pt x="58420" y="87631"/>
                    </a:lnTo>
                    <a:lnTo>
                      <a:pt x="62231" y="86361"/>
                    </a:lnTo>
                    <a:lnTo>
                      <a:pt x="63500" y="83820"/>
                    </a:lnTo>
                    <a:lnTo>
                      <a:pt x="67311" y="82550"/>
                    </a:lnTo>
                    <a:lnTo>
                      <a:pt x="71120" y="82550"/>
                    </a:lnTo>
                    <a:lnTo>
                      <a:pt x="76200" y="81281"/>
                    </a:lnTo>
                    <a:lnTo>
                      <a:pt x="80011" y="80011"/>
                    </a:lnTo>
                    <a:lnTo>
                      <a:pt x="82550" y="76200"/>
                    </a:lnTo>
                    <a:lnTo>
                      <a:pt x="83820" y="72391"/>
                    </a:lnTo>
                    <a:lnTo>
                      <a:pt x="86361" y="68581"/>
                    </a:lnTo>
                    <a:lnTo>
                      <a:pt x="88900" y="64770"/>
                    </a:lnTo>
                    <a:lnTo>
                      <a:pt x="91441" y="60961"/>
                    </a:lnTo>
                    <a:lnTo>
                      <a:pt x="92711" y="57150"/>
                    </a:lnTo>
                    <a:lnTo>
                      <a:pt x="93981" y="52070"/>
                    </a:lnTo>
                    <a:lnTo>
                      <a:pt x="95250" y="46991"/>
                    </a:lnTo>
                    <a:lnTo>
                      <a:pt x="95250" y="41911"/>
                    </a:lnTo>
                    <a:lnTo>
                      <a:pt x="96520" y="36831"/>
                    </a:lnTo>
                    <a:lnTo>
                      <a:pt x="96520" y="31750"/>
                    </a:lnTo>
                    <a:lnTo>
                      <a:pt x="93981" y="27941"/>
                    </a:lnTo>
                    <a:lnTo>
                      <a:pt x="91441" y="25400"/>
                    </a:lnTo>
                    <a:lnTo>
                      <a:pt x="86361" y="24131"/>
                    </a:lnTo>
                    <a:lnTo>
                      <a:pt x="81281" y="22861"/>
                    </a:lnTo>
                    <a:lnTo>
                      <a:pt x="74931" y="21591"/>
                    </a:lnTo>
                    <a:lnTo>
                      <a:pt x="69850" y="21591"/>
                    </a:lnTo>
                    <a:lnTo>
                      <a:pt x="64770" y="21591"/>
                    </a:lnTo>
                    <a:lnTo>
                      <a:pt x="59691" y="20320"/>
                    </a:lnTo>
                    <a:lnTo>
                      <a:pt x="55881" y="20320"/>
                    </a:lnTo>
                    <a:lnTo>
                      <a:pt x="50800" y="22861"/>
                    </a:lnTo>
                    <a:lnTo>
                      <a:pt x="45720" y="25400"/>
                    </a:lnTo>
                    <a:lnTo>
                      <a:pt x="39370" y="29211"/>
                    </a:lnTo>
                    <a:lnTo>
                      <a:pt x="34291" y="31750"/>
                    </a:lnTo>
                    <a:lnTo>
                      <a:pt x="30481" y="34291"/>
                    </a:lnTo>
                    <a:lnTo>
                      <a:pt x="25400" y="35561"/>
                    </a:lnTo>
                    <a:lnTo>
                      <a:pt x="24131" y="38100"/>
                    </a:lnTo>
                    <a:lnTo>
                      <a:pt x="24131" y="41911"/>
                    </a:lnTo>
                    <a:lnTo>
                      <a:pt x="25400" y="45720"/>
                    </a:lnTo>
                    <a:lnTo>
                      <a:pt x="26670" y="49531"/>
                    </a:lnTo>
                    <a:lnTo>
                      <a:pt x="26670" y="53341"/>
                    </a:lnTo>
                    <a:lnTo>
                      <a:pt x="26670" y="57150"/>
                    </a:lnTo>
                    <a:lnTo>
                      <a:pt x="29211" y="59691"/>
                    </a:lnTo>
                    <a:lnTo>
                      <a:pt x="33020" y="63500"/>
                    </a:lnTo>
                    <a:lnTo>
                      <a:pt x="38100" y="66041"/>
                    </a:lnTo>
                    <a:lnTo>
                      <a:pt x="41911" y="66041"/>
                    </a:lnTo>
                    <a:lnTo>
                      <a:pt x="45720" y="64770"/>
                    </a:lnTo>
                    <a:lnTo>
                      <a:pt x="60961" y="52070"/>
                    </a:lnTo>
                    <a:lnTo>
                      <a:pt x="62231" y="48261"/>
                    </a:lnTo>
                    <a:lnTo>
                      <a:pt x="64770" y="43181"/>
                    </a:lnTo>
                    <a:lnTo>
                      <a:pt x="64770" y="39370"/>
                    </a:lnTo>
                    <a:lnTo>
                      <a:pt x="64770" y="33020"/>
                    </a:lnTo>
                    <a:lnTo>
                      <a:pt x="63500" y="27941"/>
                    </a:lnTo>
                    <a:lnTo>
                      <a:pt x="60961" y="22861"/>
                    </a:lnTo>
                    <a:lnTo>
                      <a:pt x="58420" y="17781"/>
                    </a:lnTo>
                    <a:lnTo>
                      <a:pt x="55881" y="13970"/>
                    </a:lnTo>
                    <a:lnTo>
                      <a:pt x="53341" y="10161"/>
                    </a:lnTo>
                    <a:lnTo>
                      <a:pt x="49531" y="7620"/>
                    </a:lnTo>
                    <a:lnTo>
                      <a:pt x="44450" y="6350"/>
                    </a:lnTo>
                    <a:lnTo>
                      <a:pt x="38100" y="5081"/>
                    </a:lnTo>
                    <a:lnTo>
                      <a:pt x="33020" y="5081"/>
                    </a:lnTo>
                    <a:lnTo>
                      <a:pt x="26670" y="3811"/>
                    </a:lnTo>
                    <a:lnTo>
                      <a:pt x="20320" y="3811"/>
                    </a:lnTo>
                    <a:lnTo>
                      <a:pt x="17781" y="5081"/>
                    </a:lnTo>
                    <a:lnTo>
                      <a:pt x="16511" y="8891"/>
                    </a:lnTo>
                    <a:lnTo>
                      <a:pt x="16511" y="12700"/>
                    </a:lnTo>
                    <a:lnTo>
                      <a:pt x="17781" y="16511"/>
                    </a:lnTo>
                    <a:lnTo>
                      <a:pt x="20320" y="19050"/>
                    </a:lnTo>
                    <a:lnTo>
                      <a:pt x="22861" y="22861"/>
                    </a:lnTo>
                    <a:lnTo>
                      <a:pt x="24131" y="25400"/>
                    </a:lnTo>
                    <a:lnTo>
                      <a:pt x="25400" y="29211"/>
                    </a:lnTo>
                    <a:lnTo>
                      <a:pt x="26670" y="31750"/>
                    </a:lnTo>
                    <a:lnTo>
                      <a:pt x="29211" y="34291"/>
                    </a:lnTo>
                    <a:lnTo>
                      <a:pt x="33020" y="38100"/>
                    </a:lnTo>
                    <a:lnTo>
                      <a:pt x="38100" y="40641"/>
                    </a:lnTo>
                    <a:lnTo>
                      <a:pt x="41911" y="43181"/>
                    </a:lnTo>
                    <a:lnTo>
                      <a:pt x="45720" y="45720"/>
                    </a:lnTo>
                    <a:lnTo>
                      <a:pt x="49531" y="49531"/>
                    </a:lnTo>
                    <a:lnTo>
                      <a:pt x="54611" y="50800"/>
                    </a:lnTo>
                    <a:lnTo>
                      <a:pt x="59691" y="52070"/>
                    </a:lnTo>
                    <a:lnTo>
                      <a:pt x="66041" y="53341"/>
                    </a:lnTo>
                    <a:lnTo>
                      <a:pt x="69850" y="52070"/>
                    </a:lnTo>
                    <a:lnTo>
                      <a:pt x="72391" y="49531"/>
                    </a:lnTo>
                    <a:lnTo>
                      <a:pt x="73661" y="45720"/>
                    </a:lnTo>
                    <a:lnTo>
                      <a:pt x="73661" y="40641"/>
                    </a:lnTo>
                    <a:lnTo>
                      <a:pt x="72391" y="35561"/>
                    </a:lnTo>
                    <a:lnTo>
                      <a:pt x="71120" y="30481"/>
                    </a:lnTo>
                    <a:lnTo>
                      <a:pt x="67311" y="26670"/>
                    </a:lnTo>
                    <a:lnTo>
                      <a:pt x="63500" y="22861"/>
                    </a:lnTo>
                    <a:lnTo>
                      <a:pt x="58420" y="19050"/>
                    </a:lnTo>
                    <a:lnTo>
                      <a:pt x="52070" y="17781"/>
                    </a:lnTo>
                    <a:lnTo>
                      <a:pt x="45720" y="17781"/>
                    </a:lnTo>
                    <a:lnTo>
                      <a:pt x="40641" y="19050"/>
                    </a:lnTo>
                    <a:lnTo>
                      <a:pt x="34291" y="19050"/>
                    </a:lnTo>
                    <a:lnTo>
                      <a:pt x="30481" y="19050"/>
                    </a:lnTo>
                    <a:lnTo>
                      <a:pt x="26670" y="20320"/>
                    </a:lnTo>
                    <a:lnTo>
                      <a:pt x="22861" y="21591"/>
                    </a:lnTo>
                    <a:lnTo>
                      <a:pt x="21591" y="25400"/>
                    </a:lnTo>
                    <a:lnTo>
                      <a:pt x="20320" y="29211"/>
                    </a:lnTo>
                    <a:lnTo>
                      <a:pt x="19050" y="34291"/>
                    </a:lnTo>
                    <a:lnTo>
                      <a:pt x="19050" y="39370"/>
                    </a:lnTo>
                    <a:lnTo>
                      <a:pt x="19050" y="44450"/>
                    </a:lnTo>
                    <a:lnTo>
                      <a:pt x="19050" y="48261"/>
                    </a:lnTo>
                    <a:lnTo>
                      <a:pt x="21591" y="52070"/>
                    </a:lnTo>
                    <a:lnTo>
                      <a:pt x="22861" y="55881"/>
                    </a:lnTo>
                    <a:lnTo>
                      <a:pt x="26670" y="59691"/>
                    </a:lnTo>
                    <a:lnTo>
                      <a:pt x="31750" y="62231"/>
                    </a:lnTo>
                    <a:lnTo>
                      <a:pt x="36831" y="66041"/>
                    </a:lnTo>
                    <a:lnTo>
                      <a:pt x="43181" y="67311"/>
                    </a:lnTo>
                    <a:lnTo>
                      <a:pt x="48261" y="69850"/>
                    </a:lnTo>
                    <a:lnTo>
                      <a:pt x="54611" y="69850"/>
                    </a:lnTo>
                    <a:lnTo>
                      <a:pt x="58420" y="68581"/>
                    </a:lnTo>
                    <a:lnTo>
                      <a:pt x="62231" y="66041"/>
                    </a:lnTo>
                    <a:lnTo>
                      <a:pt x="63500" y="62231"/>
                    </a:lnTo>
                    <a:lnTo>
                      <a:pt x="66041" y="58420"/>
                    </a:lnTo>
                    <a:lnTo>
                      <a:pt x="68581" y="55881"/>
                    </a:lnTo>
                    <a:lnTo>
                      <a:pt x="71120" y="52070"/>
                    </a:lnTo>
                    <a:lnTo>
                      <a:pt x="72391" y="49531"/>
                    </a:lnTo>
                    <a:lnTo>
                      <a:pt x="71120" y="46991"/>
                    </a:lnTo>
                    <a:lnTo>
                      <a:pt x="69850" y="43181"/>
                    </a:lnTo>
                    <a:lnTo>
                      <a:pt x="69850" y="39370"/>
                    </a:lnTo>
                    <a:lnTo>
                      <a:pt x="68581" y="35561"/>
                    </a:lnTo>
                    <a:lnTo>
                      <a:pt x="68581" y="30481"/>
                    </a:lnTo>
                    <a:lnTo>
                      <a:pt x="67311" y="25400"/>
                    </a:lnTo>
                    <a:lnTo>
                      <a:pt x="67311" y="13970"/>
                    </a:lnTo>
                    <a:lnTo>
                      <a:pt x="68581" y="10161"/>
                    </a:lnTo>
                    <a:lnTo>
                      <a:pt x="69850" y="5081"/>
                    </a:lnTo>
                    <a:lnTo>
                      <a:pt x="72391" y="1270"/>
                    </a:lnTo>
                    <a:lnTo>
                      <a:pt x="74931" y="0"/>
                    </a:lnTo>
                    <a:lnTo>
                      <a:pt x="77470" y="0"/>
                    </a:lnTo>
                    <a:lnTo>
                      <a:pt x="81281" y="1270"/>
                    </a:lnTo>
                    <a:lnTo>
                      <a:pt x="83820" y="2541"/>
                    </a:lnTo>
                    <a:lnTo>
                      <a:pt x="87631" y="5081"/>
                    </a:lnTo>
                    <a:lnTo>
                      <a:pt x="90170" y="7620"/>
                    </a:lnTo>
                    <a:lnTo>
                      <a:pt x="92711" y="10161"/>
                    </a:lnTo>
                    <a:lnTo>
                      <a:pt x="93981" y="15241"/>
                    </a:lnTo>
                    <a:lnTo>
                      <a:pt x="95250" y="19050"/>
                    </a:lnTo>
                    <a:lnTo>
                      <a:pt x="95250" y="24131"/>
                    </a:lnTo>
                    <a:lnTo>
                      <a:pt x="96520" y="30481"/>
                    </a:lnTo>
                    <a:lnTo>
                      <a:pt x="96520" y="35561"/>
                    </a:lnTo>
                    <a:lnTo>
                      <a:pt x="95250" y="39370"/>
                    </a:lnTo>
                    <a:lnTo>
                      <a:pt x="93981" y="44450"/>
                    </a:lnTo>
                    <a:lnTo>
                      <a:pt x="91441" y="46991"/>
                    </a:lnTo>
                    <a:lnTo>
                      <a:pt x="90170" y="52070"/>
                    </a:lnTo>
                    <a:lnTo>
                      <a:pt x="88900" y="57150"/>
                    </a:lnTo>
                    <a:lnTo>
                      <a:pt x="88900" y="62231"/>
                    </a:lnTo>
                    <a:lnTo>
                      <a:pt x="86361" y="66041"/>
                    </a:lnTo>
                    <a:lnTo>
                      <a:pt x="81281" y="69850"/>
                    </a:lnTo>
                    <a:lnTo>
                      <a:pt x="77470" y="73661"/>
                    </a:lnTo>
                    <a:lnTo>
                      <a:pt x="73661" y="73661"/>
                    </a:lnTo>
                    <a:lnTo>
                      <a:pt x="71120" y="72391"/>
                    </a:lnTo>
                    <a:lnTo>
                      <a:pt x="69850" y="69850"/>
                    </a:lnTo>
                    <a:lnTo>
                      <a:pt x="72391" y="66041"/>
                    </a:lnTo>
                    <a:lnTo>
                      <a:pt x="77470" y="63500"/>
                    </a:lnTo>
                    <a:lnTo>
                      <a:pt x="96520" y="54611"/>
                    </a:lnTo>
                  </a:path>
                </a:pathLst>
              </a:custGeom>
              <a:noFill/>
              <a:ln w="25920">
                <a:solidFill>
                  <a:srgbClr val="ff0000"/>
                </a:solidFill>
                <a:round/>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Calibri"/>
                </a:endParaRPr>
              </a:p>
            </p:txBody>
          </p:sp>
          <p:sp>
            <p:nvSpPr>
              <p:cNvPr id="163" name="Freeform 62"/>
              <p:cNvSpPr/>
              <p:nvPr/>
            </p:nvSpPr>
            <p:spPr>
              <a:xfrm>
                <a:off x="7978680" y="5632920"/>
                <a:ext cx="125640" cy="87840"/>
              </a:xfrm>
              <a:custGeom>
                <a:avLst/>
                <a:gdLst>
                  <a:gd name="textAreaLeft" fmla="*/ 0 w 125640"/>
                  <a:gd name="textAreaRight" fmla="*/ 126000 w 125640"/>
                  <a:gd name="textAreaTop" fmla="*/ 0 h 87840"/>
                  <a:gd name="textAreaBottom" fmla="*/ 88200 h 87840"/>
                </a:gdLst>
                <a:ahLst/>
                <a:rect l="textAreaLeft" t="textAreaTop" r="textAreaRight" b="textAreaBottom"/>
                <a:pathLst>
                  <a:path w="125730" h="87631">
                    <a:moveTo>
                      <a:pt x="62229" y="0"/>
                    </a:moveTo>
                    <a:lnTo>
                      <a:pt x="48260" y="11430"/>
                    </a:lnTo>
                    <a:lnTo>
                      <a:pt x="44450" y="12700"/>
                    </a:lnTo>
                    <a:lnTo>
                      <a:pt x="39369" y="13970"/>
                    </a:lnTo>
                    <a:lnTo>
                      <a:pt x="34290" y="15239"/>
                    </a:lnTo>
                    <a:lnTo>
                      <a:pt x="30479" y="17780"/>
                    </a:lnTo>
                    <a:lnTo>
                      <a:pt x="27940" y="21589"/>
                    </a:lnTo>
                    <a:lnTo>
                      <a:pt x="26669" y="25400"/>
                    </a:lnTo>
                    <a:lnTo>
                      <a:pt x="26669" y="30480"/>
                    </a:lnTo>
                    <a:lnTo>
                      <a:pt x="27940" y="35559"/>
                    </a:lnTo>
                    <a:lnTo>
                      <a:pt x="29210" y="40639"/>
                    </a:lnTo>
                    <a:lnTo>
                      <a:pt x="31750" y="44450"/>
                    </a:lnTo>
                    <a:lnTo>
                      <a:pt x="34290" y="45720"/>
                    </a:lnTo>
                    <a:lnTo>
                      <a:pt x="36829" y="48259"/>
                    </a:lnTo>
                    <a:lnTo>
                      <a:pt x="40640" y="49530"/>
                    </a:lnTo>
                    <a:lnTo>
                      <a:pt x="52069" y="54609"/>
                    </a:lnTo>
                    <a:lnTo>
                      <a:pt x="55879" y="57150"/>
                    </a:lnTo>
                    <a:lnTo>
                      <a:pt x="57150" y="59689"/>
                    </a:lnTo>
                    <a:lnTo>
                      <a:pt x="59690" y="62230"/>
                    </a:lnTo>
                    <a:lnTo>
                      <a:pt x="62229" y="64770"/>
                    </a:lnTo>
                    <a:lnTo>
                      <a:pt x="67310" y="66039"/>
                    </a:lnTo>
                    <a:lnTo>
                      <a:pt x="72390" y="66039"/>
                    </a:lnTo>
                    <a:lnTo>
                      <a:pt x="77469" y="67309"/>
                    </a:lnTo>
                    <a:lnTo>
                      <a:pt x="83819" y="67309"/>
                    </a:lnTo>
                    <a:lnTo>
                      <a:pt x="90169" y="67309"/>
                    </a:lnTo>
                    <a:lnTo>
                      <a:pt x="93979" y="66039"/>
                    </a:lnTo>
                    <a:lnTo>
                      <a:pt x="96519" y="62230"/>
                    </a:lnTo>
                    <a:lnTo>
                      <a:pt x="99060" y="58420"/>
                    </a:lnTo>
                    <a:lnTo>
                      <a:pt x="100329" y="54609"/>
                    </a:lnTo>
                    <a:lnTo>
                      <a:pt x="100329" y="49530"/>
                    </a:lnTo>
                    <a:lnTo>
                      <a:pt x="101600" y="44450"/>
                    </a:lnTo>
                    <a:lnTo>
                      <a:pt x="100329" y="41909"/>
                    </a:lnTo>
                    <a:lnTo>
                      <a:pt x="99060" y="40639"/>
                    </a:lnTo>
                    <a:lnTo>
                      <a:pt x="96519" y="41909"/>
                    </a:lnTo>
                    <a:lnTo>
                      <a:pt x="93979" y="40639"/>
                    </a:lnTo>
                    <a:lnTo>
                      <a:pt x="91440" y="39370"/>
                    </a:lnTo>
                    <a:lnTo>
                      <a:pt x="88900" y="38100"/>
                    </a:lnTo>
                    <a:lnTo>
                      <a:pt x="83819" y="34289"/>
                    </a:lnTo>
                    <a:lnTo>
                      <a:pt x="78740" y="30480"/>
                    </a:lnTo>
                    <a:lnTo>
                      <a:pt x="73660" y="25400"/>
                    </a:lnTo>
                    <a:lnTo>
                      <a:pt x="67310" y="22859"/>
                    </a:lnTo>
                    <a:lnTo>
                      <a:pt x="62229" y="20320"/>
                    </a:lnTo>
                    <a:lnTo>
                      <a:pt x="55879" y="19050"/>
                    </a:lnTo>
                    <a:lnTo>
                      <a:pt x="49529" y="20320"/>
                    </a:lnTo>
                    <a:lnTo>
                      <a:pt x="43179" y="22859"/>
                    </a:lnTo>
                    <a:lnTo>
                      <a:pt x="35560" y="26670"/>
                    </a:lnTo>
                    <a:lnTo>
                      <a:pt x="31750" y="30480"/>
                    </a:lnTo>
                    <a:lnTo>
                      <a:pt x="29210" y="33020"/>
                    </a:lnTo>
                    <a:lnTo>
                      <a:pt x="26669" y="35559"/>
                    </a:lnTo>
                    <a:lnTo>
                      <a:pt x="25400" y="40639"/>
                    </a:lnTo>
                    <a:lnTo>
                      <a:pt x="25400" y="44450"/>
                    </a:lnTo>
                    <a:lnTo>
                      <a:pt x="24129" y="49530"/>
                    </a:lnTo>
                    <a:lnTo>
                      <a:pt x="26669" y="53339"/>
                    </a:lnTo>
                    <a:lnTo>
                      <a:pt x="29210" y="57150"/>
                    </a:lnTo>
                    <a:lnTo>
                      <a:pt x="34290" y="60959"/>
                    </a:lnTo>
                    <a:lnTo>
                      <a:pt x="40640" y="63500"/>
                    </a:lnTo>
                    <a:lnTo>
                      <a:pt x="48260" y="64770"/>
                    </a:lnTo>
                    <a:lnTo>
                      <a:pt x="55879" y="66039"/>
                    </a:lnTo>
                    <a:lnTo>
                      <a:pt x="63500" y="67309"/>
                    </a:lnTo>
                    <a:lnTo>
                      <a:pt x="71119" y="67309"/>
                    </a:lnTo>
                    <a:lnTo>
                      <a:pt x="78740" y="67309"/>
                    </a:lnTo>
                    <a:lnTo>
                      <a:pt x="91440" y="67309"/>
                    </a:lnTo>
                    <a:lnTo>
                      <a:pt x="99060" y="68580"/>
                    </a:lnTo>
                    <a:lnTo>
                      <a:pt x="104140" y="67309"/>
                    </a:lnTo>
                    <a:lnTo>
                      <a:pt x="109219" y="66039"/>
                    </a:lnTo>
                    <a:lnTo>
                      <a:pt x="113029" y="63500"/>
                    </a:lnTo>
                    <a:lnTo>
                      <a:pt x="116840" y="60959"/>
                    </a:lnTo>
                    <a:lnTo>
                      <a:pt x="120650" y="58420"/>
                    </a:lnTo>
                    <a:lnTo>
                      <a:pt x="124460" y="55880"/>
                    </a:lnTo>
                    <a:lnTo>
                      <a:pt x="125729" y="52070"/>
                    </a:lnTo>
                    <a:lnTo>
                      <a:pt x="125729" y="48259"/>
                    </a:lnTo>
                    <a:lnTo>
                      <a:pt x="124460" y="43180"/>
                    </a:lnTo>
                    <a:lnTo>
                      <a:pt x="121919" y="39370"/>
                    </a:lnTo>
                    <a:lnTo>
                      <a:pt x="116840" y="35559"/>
                    </a:lnTo>
                    <a:lnTo>
                      <a:pt x="111760" y="31750"/>
                    </a:lnTo>
                    <a:lnTo>
                      <a:pt x="109219" y="29209"/>
                    </a:lnTo>
                    <a:lnTo>
                      <a:pt x="106679" y="25400"/>
                    </a:lnTo>
                    <a:lnTo>
                      <a:pt x="105410" y="22859"/>
                    </a:lnTo>
                    <a:lnTo>
                      <a:pt x="101600" y="19050"/>
                    </a:lnTo>
                    <a:lnTo>
                      <a:pt x="97790" y="16509"/>
                    </a:lnTo>
                    <a:lnTo>
                      <a:pt x="92710" y="13970"/>
                    </a:lnTo>
                    <a:lnTo>
                      <a:pt x="87629" y="11430"/>
                    </a:lnTo>
                    <a:lnTo>
                      <a:pt x="83819" y="7620"/>
                    </a:lnTo>
                    <a:lnTo>
                      <a:pt x="80010" y="5080"/>
                    </a:lnTo>
                    <a:lnTo>
                      <a:pt x="74929" y="3809"/>
                    </a:lnTo>
                    <a:lnTo>
                      <a:pt x="69850" y="2539"/>
                    </a:lnTo>
                    <a:lnTo>
                      <a:pt x="64769" y="1270"/>
                    </a:lnTo>
                    <a:lnTo>
                      <a:pt x="58419" y="0"/>
                    </a:lnTo>
                    <a:lnTo>
                      <a:pt x="52069" y="0"/>
                    </a:lnTo>
                    <a:lnTo>
                      <a:pt x="45719" y="0"/>
                    </a:lnTo>
                    <a:lnTo>
                      <a:pt x="40640" y="1270"/>
                    </a:lnTo>
                    <a:lnTo>
                      <a:pt x="35560" y="2539"/>
                    </a:lnTo>
                    <a:lnTo>
                      <a:pt x="31750" y="3809"/>
                    </a:lnTo>
                    <a:lnTo>
                      <a:pt x="27940" y="6350"/>
                    </a:lnTo>
                    <a:lnTo>
                      <a:pt x="24129" y="8889"/>
                    </a:lnTo>
                    <a:lnTo>
                      <a:pt x="20319" y="11430"/>
                    </a:lnTo>
                    <a:lnTo>
                      <a:pt x="19050" y="15239"/>
                    </a:lnTo>
                    <a:lnTo>
                      <a:pt x="19050" y="19050"/>
                    </a:lnTo>
                    <a:lnTo>
                      <a:pt x="20319" y="24130"/>
                    </a:lnTo>
                    <a:lnTo>
                      <a:pt x="22860" y="27939"/>
                    </a:lnTo>
                    <a:lnTo>
                      <a:pt x="25400" y="29209"/>
                    </a:lnTo>
                    <a:lnTo>
                      <a:pt x="27940" y="30480"/>
                    </a:lnTo>
                    <a:lnTo>
                      <a:pt x="30479" y="33020"/>
                    </a:lnTo>
                    <a:lnTo>
                      <a:pt x="33019" y="35559"/>
                    </a:lnTo>
                    <a:lnTo>
                      <a:pt x="36829" y="38100"/>
                    </a:lnTo>
                    <a:lnTo>
                      <a:pt x="40640" y="39370"/>
                    </a:lnTo>
                    <a:lnTo>
                      <a:pt x="45719" y="40639"/>
                    </a:lnTo>
                    <a:lnTo>
                      <a:pt x="52069" y="40639"/>
                    </a:lnTo>
                    <a:lnTo>
                      <a:pt x="55879" y="40639"/>
                    </a:lnTo>
                    <a:lnTo>
                      <a:pt x="60960" y="39370"/>
                    </a:lnTo>
                    <a:lnTo>
                      <a:pt x="64769" y="36830"/>
                    </a:lnTo>
                    <a:lnTo>
                      <a:pt x="68579" y="34289"/>
                    </a:lnTo>
                    <a:lnTo>
                      <a:pt x="72390" y="30480"/>
                    </a:lnTo>
                    <a:lnTo>
                      <a:pt x="74929" y="25400"/>
                    </a:lnTo>
                    <a:lnTo>
                      <a:pt x="77469" y="21589"/>
                    </a:lnTo>
                    <a:lnTo>
                      <a:pt x="78740" y="17780"/>
                    </a:lnTo>
                    <a:lnTo>
                      <a:pt x="80010" y="15239"/>
                    </a:lnTo>
                    <a:lnTo>
                      <a:pt x="78740" y="12700"/>
                    </a:lnTo>
                    <a:lnTo>
                      <a:pt x="76200" y="11430"/>
                    </a:lnTo>
                    <a:lnTo>
                      <a:pt x="71119" y="10159"/>
                    </a:lnTo>
                    <a:lnTo>
                      <a:pt x="66040" y="10159"/>
                    </a:lnTo>
                    <a:lnTo>
                      <a:pt x="60960" y="11430"/>
                    </a:lnTo>
                    <a:lnTo>
                      <a:pt x="54610" y="12700"/>
                    </a:lnTo>
                    <a:lnTo>
                      <a:pt x="50800" y="16509"/>
                    </a:lnTo>
                    <a:lnTo>
                      <a:pt x="48260" y="20320"/>
                    </a:lnTo>
                    <a:lnTo>
                      <a:pt x="46990" y="24130"/>
                    </a:lnTo>
                    <a:lnTo>
                      <a:pt x="46990" y="29209"/>
                    </a:lnTo>
                    <a:lnTo>
                      <a:pt x="50800" y="31750"/>
                    </a:lnTo>
                    <a:lnTo>
                      <a:pt x="58419" y="39370"/>
                    </a:lnTo>
                    <a:lnTo>
                      <a:pt x="66040" y="44450"/>
                    </a:lnTo>
                    <a:lnTo>
                      <a:pt x="69850" y="46989"/>
                    </a:lnTo>
                    <a:lnTo>
                      <a:pt x="74929" y="48259"/>
                    </a:lnTo>
                    <a:lnTo>
                      <a:pt x="81279" y="49530"/>
                    </a:lnTo>
                    <a:lnTo>
                      <a:pt x="85090" y="48259"/>
                    </a:lnTo>
                    <a:lnTo>
                      <a:pt x="87629" y="44450"/>
                    </a:lnTo>
                    <a:lnTo>
                      <a:pt x="88900" y="41909"/>
                    </a:lnTo>
                    <a:lnTo>
                      <a:pt x="88900" y="38100"/>
                    </a:lnTo>
                    <a:lnTo>
                      <a:pt x="87629" y="34289"/>
                    </a:lnTo>
                    <a:lnTo>
                      <a:pt x="86360" y="31750"/>
                    </a:lnTo>
                    <a:lnTo>
                      <a:pt x="82550" y="27939"/>
                    </a:lnTo>
                    <a:lnTo>
                      <a:pt x="78740" y="25400"/>
                    </a:lnTo>
                    <a:lnTo>
                      <a:pt x="72390" y="22859"/>
                    </a:lnTo>
                    <a:lnTo>
                      <a:pt x="67310" y="20320"/>
                    </a:lnTo>
                    <a:lnTo>
                      <a:pt x="60960" y="19050"/>
                    </a:lnTo>
                    <a:lnTo>
                      <a:pt x="54610" y="17780"/>
                    </a:lnTo>
                    <a:lnTo>
                      <a:pt x="50800" y="19050"/>
                    </a:lnTo>
                    <a:lnTo>
                      <a:pt x="48260" y="22859"/>
                    </a:lnTo>
                    <a:lnTo>
                      <a:pt x="46990" y="26670"/>
                    </a:lnTo>
                    <a:lnTo>
                      <a:pt x="45719" y="30480"/>
                    </a:lnTo>
                    <a:lnTo>
                      <a:pt x="44450" y="35559"/>
                    </a:lnTo>
                    <a:lnTo>
                      <a:pt x="44450" y="40639"/>
                    </a:lnTo>
                    <a:lnTo>
                      <a:pt x="43179" y="45720"/>
                    </a:lnTo>
                    <a:lnTo>
                      <a:pt x="43179" y="57150"/>
                    </a:lnTo>
                    <a:lnTo>
                      <a:pt x="43179" y="73659"/>
                    </a:lnTo>
                    <a:lnTo>
                      <a:pt x="45719" y="78739"/>
                    </a:lnTo>
                    <a:lnTo>
                      <a:pt x="48260" y="82550"/>
                    </a:lnTo>
                    <a:lnTo>
                      <a:pt x="53340" y="86359"/>
                    </a:lnTo>
                    <a:lnTo>
                      <a:pt x="57150" y="87630"/>
                    </a:lnTo>
                    <a:lnTo>
                      <a:pt x="60960" y="87630"/>
                    </a:lnTo>
                    <a:lnTo>
                      <a:pt x="64769" y="87630"/>
                    </a:lnTo>
                    <a:lnTo>
                      <a:pt x="68579" y="85089"/>
                    </a:lnTo>
                    <a:lnTo>
                      <a:pt x="72390" y="81280"/>
                    </a:lnTo>
                    <a:lnTo>
                      <a:pt x="76200" y="76200"/>
                    </a:lnTo>
                    <a:lnTo>
                      <a:pt x="77469" y="72389"/>
                    </a:lnTo>
                    <a:lnTo>
                      <a:pt x="80010" y="67309"/>
                    </a:lnTo>
                    <a:lnTo>
                      <a:pt x="80010" y="60959"/>
                    </a:lnTo>
                    <a:lnTo>
                      <a:pt x="81279" y="55880"/>
                    </a:lnTo>
                    <a:lnTo>
                      <a:pt x="81279" y="50800"/>
                    </a:lnTo>
                    <a:lnTo>
                      <a:pt x="81279" y="44450"/>
                    </a:lnTo>
                    <a:lnTo>
                      <a:pt x="80010" y="40639"/>
                    </a:lnTo>
                    <a:lnTo>
                      <a:pt x="76200" y="39370"/>
                    </a:lnTo>
                    <a:lnTo>
                      <a:pt x="71119" y="36830"/>
                    </a:lnTo>
                    <a:lnTo>
                      <a:pt x="68579" y="34289"/>
                    </a:lnTo>
                    <a:lnTo>
                      <a:pt x="67310" y="30480"/>
                    </a:lnTo>
                    <a:lnTo>
                      <a:pt x="64769" y="25400"/>
                    </a:lnTo>
                    <a:lnTo>
                      <a:pt x="62229" y="22859"/>
                    </a:lnTo>
                    <a:lnTo>
                      <a:pt x="58419" y="20320"/>
                    </a:lnTo>
                    <a:lnTo>
                      <a:pt x="53340" y="19050"/>
                    </a:lnTo>
                    <a:lnTo>
                      <a:pt x="46990" y="17780"/>
                    </a:lnTo>
                    <a:lnTo>
                      <a:pt x="41910" y="17780"/>
                    </a:lnTo>
                    <a:lnTo>
                      <a:pt x="35560" y="17780"/>
                    </a:lnTo>
                    <a:lnTo>
                      <a:pt x="29210" y="16509"/>
                    </a:lnTo>
                    <a:lnTo>
                      <a:pt x="16510" y="16509"/>
                    </a:lnTo>
                    <a:lnTo>
                      <a:pt x="11429" y="17780"/>
                    </a:lnTo>
                    <a:lnTo>
                      <a:pt x="6350" y="19050"/>
                    </a:lnTo>
                    <a:lnTo>
                      <a:pt x="1269" y="21589"/>
                    </a:lnTo>
                    <a:lnTo>
                      <a:pt x="0" y="22859"/>
                    </a:lnTo>
                    <a:lnTo>
                      <a:pt x="0" y="25400"/>
                    </a:lnTo>
                    <a:lnTo>
                      <a:pt x="1269" y="27939"/>
                    </a:lnTo>
                    <a:lnTo>
                      <a:pt x="6350" y="30480"/>
                    </a:lnTo>
                    <a:lnTo>
                      <a:pt x="13969" y="31750"/>
                    </a:lnTo>
                    <a:lnTo>
                      <a:pt x="24129" y="31750"/>
                    </a:lnTo>
                    <a:lnTo>
                      <a:pt x="33019" y="33020"/>
                    </a:lnTo>
                    <a:lnTo>
                      <a:pt x="72390" y="34289"/>
                    </a:lnTo>
                  </a:path>
                </a:pathLst>
              </a:custGeom>
              <a:noFill/>
              <a:ln w="25920">
                <a:solidFill>
                  <a:srgbClr val="ff0000"/>
                </a:solidFill>
                <a:round/>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Calibri"/>
                </a:endParaRPr>
              </a:p>
            </p:txBody>
          </p:sp>
        </p:grpSp>
      </p:grpSp>
      <p:sp>
        <p:nvSpPr>
          <p:cNvPr id="164" name="TextBox 65"/>
          <p:cNvSpPr/>
          <p:nvPr/>
        </p:nvSpPr>
        <p:spPr>
          <a:xfrm>
            <a:off x="1181160" y="511812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 24"/>
              </a:rPr>
              <a:t>use brackets!</a:t>
            </a:r>
            <a:endParaRPr b="0" lang="en-US" sz="2400" spc="-1" strike="noStrike">
              <a:solidFill>
                <a:srgbClr val="000000"/>
              </a:solidFill>
              <a:latin typeface="Calibri"/>
            </a:endParaRPr>
          </a:p>
        </p:txBody>
      </p:sp>
      <p:sp>
        <p:nvSpPr>
          <p:cNvPr id="165" name="Straight Connector 66"/>
          <p:cNvSpPr/>
          <p:nvPr/>
        </p:nvSpPr>
        <p:spPr>
          <a:xfrm flipV="1">
            <a:off x="2641680" y="4787640"/>
            <a:ext cx="38160" cy="266760"/>
          </a:xfrm>
          <a:prstGeom prst="line">
            <a:avLst/>
          </a:prstGeom>
          <a:ln w="381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 name="Straight Connector 67"/>
          <p:cNvSpPr/>
          <p:nvPr/>
        </p:nvSpPr>
        <p:spPr>
          <a:xfrm flipH="1" flipV="1">
            <a:off x="1536480" y="4826160"/>
            <a:ext cx="37800" cy="304560"/>
          </a:xfrm>
          <a:prstGeom prst="line">
            <a:avLst/>
          </a:prstGeom>
          <a:ln w="381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Straight Connector 68"/>
          <p:cNvSpPr/>
          <p:nvPr/>
        </p:nvSpPr>
        <p:spPr>
          <a:xfrm flipH="1" flipV="1">
            <a:off x="1879200" y="4812840"/>
            <a:ext cx="25560" cy="241560"/>
          </a:xfrm>
          <a:prstGeom prst="line">
            <a:avLst/>
          </a:prstGeom>
          <a:ln w="381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 name="Straight Connector 69"/>
          <p:cNvSpPr/>
          <p:nvPr/>
        </p:nvSpPr>
        <p:spPr>
          <a:xfrm flipV="1">
            <a:off x="2209680" y="4800240"/>
            <a:ext cx="76320" cy="266760"/>
          </a:xfrm>
          <a:prstGeom prst="line">
            <a:avLst/>
          </a:prstGeom>
          <a:ln w="381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Box 1"/>
          <p:cNvSpPr/>
          <p:nvPr/>
        </p:nvSpPr>
        <p:spPr>
          <a:xfrm>
            <a:off x="50760" y="38160"/>
            <a:ext cx="1021068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500" spc="-1" strike="noStrike">
                <a:solidFill>
                  <a:srgbClr val="0000ff"/>
                </a:solidFill>
                <a:latin typeface="Comic Sans MS - 36"/>
              </a:rPr>
              <a:t>Example 1: Add Integers Using Integer Chips</a:t>
            </a:r>
            <a:endParaRPr b="0" lang="en-US" sz="3500" spc="-1" strike="noStrike">
              <a:solidFill>
                <a:srgbClr val="000000"/>
              </a:solidFill>
              <a:latin typeface="Calibri"/>
            </a:endParaRPr>
          </a:p>
        </p:txBody>
      </p:sp>
      <p:grpSp>
        <p:nvGrpSpPr>
          <p:cNvPr id="170" name="Group 6"/>
          <p:cNvGrpSpPr/>
          <p:nvPr/>
        </p:nvGrpSpPr>
        <p:grpSpPr>
          <a:xfrm>
            <a:off x="225360" y="3610080"/>
            <a:ext cx="619200" cy="527040"/>
            <a:chOff x="225360" y="3610080"/>
            <a:chExt cx="619200" cy="527040"/>
          </a:xfrm>
        </p:grpSpPr>
        <p:sp>
          <p:nvSpPr>
            <p:cNvPr id="171" name="Freeform 2"/>
            <p:cNvSpPr/>
            <p:nvPr/>
          </p:nvSpPr>
          <p:spPr>
            <a:xfrm>
              <a:off x="225360" y="3610080"/>
              <a:ext cx="619200" cy="527040"/>
            </a:xfrm>
            <a:custGeom>
              <a:avLst/>
              <a:gdLst>
                <a:gd name="textAreaLeft" fmla="*/ 0 w 619200"/>
                <a:gd name="textAreaRight" fmla="*/ 619560 w 619200"/>
                <a:gd name="textAreaTop" fmla="*/ 0 h 527040"/>
                <a:gd name="textAreaBottom" fmla="*/ 527400 h 527040"/>
              </a:gdLst>
              <a:ahLst/>
              <a:rect l="textAreaLeft" t="textAreaTop" r="textAreaRight" b="textAreaBottom"/>
              <a:pathLst>
                <a:path w="620396" h="526925">
                  <a:moveTo>
                    <a:pt x="0" y="0"/>
                  </a:moveTo>
                  <a:lnTo>
                    <a:pt x="620395" y="0"/>
                  </a:lnTo>
                  <a:lnTo>
                    <a:pt x="620395" y="526924"/>
                  </a:lnTo>
                  <a:lnTo>
                    <a:pt x="0" y="526924"/>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72" name="Group 5"/>
            <p:cNvGrpSpPr/>
            <p:nvPr/>
          </p:nvGrpSpPr>
          <p:grpSpPr>
            <a:xfrm>
              <a:off x="404640" y="3750480"/>
              <a:ext cx="268920" cy="239040"/>
              <a:chOff x="404640" y="3750480"/>
              <a:chExt cx="268920" cy="239040"/>
            </a:xfrm>
          </p:grpSpPr>
          <p:sp>
            <p:nvSpPr>
              <p:cNvPr id="173" name="Straight Connector 3"/>
              <p:cNvSpPr/>
              <p:nvPr/>
            </p:nvSpPr>
            <p:spPr>
              <a:xfrm>
                <a:off x="404640" y="3877200"/>
                <a:ext cx="268920" cy="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 name="Straight Connector 4"/>
              <p:cNvSpPr/>
              <p:nvPr/>
            </p:nvSpPr>
            <p:spPr>
              <a:xfrm flipV="1">
                <a:off x="534960" y="3750480"/>
                <a:ext cx="0" cy="23904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175" name="Group 9"/>
          <p:cNvGrpSpPr/>
          <p:nvPr/>
        </p:nvGrpSpPr>
        <p:grpSpPr>
          <a:xfrm>
            <a:off x="227160" y="4270320"/>
            <a:ext cx="618840" cy="527040"/>
            <a:chOff x="227160" y="4270320"/>
            <a:chExt cx="618840" cy="527040"/>
          </a:xfrm>
        </p:grpSpPr>
        <p:sp>
          <p:nvSpPr>
            <p:cNvPr id="176" name="Freeform 7"/>
            <p:cNvSpPr/>
            <p:nvPr/>
          </p:nvSpPr>
          <p:spPr>
            <a:xfrm>
              <a:off x="227160" y="4270320"/>
              <a:ext cx="618840" cy="527040"/>
            </a:xfrm>
            <a:custGeom>
              <a:avLst/>
              <a:gdLst>
                <a:gd name="textAreaLeft" fmla="*/ 0 w 618840"/>
                <a:gd name="textAreaRight" fmla="*/ 619200 w 618840"/>
                <a:gd name="textAreaTop" fmla="*/ 0 h 527040"/>
                <a:gd name="textAreaBottom" fmla="*/ 527400 h 527040"/>
              </a:gdLst>
              <a:ahLst/>
              <a:rect l="textAreaLeft" t="textAreaTop" r="textAreaRight" b="textAreaBottom"/>
              <a:pathLst>
                <a:path w="620269" h="526925">
                  <a:moveTo>
                    <a:pt x="0" y="0"/>
                  </a:moveTo>
                  <a:lnTo>
                    <a:pt x="620268" y="0"/>
                  </a:lnTo>
                  <a:lnTo>
                    <a:pt x="620268" y="526924"/>
                  </a:lnTo>
                  <a:lnTo>
                    <a:pt x="0" y="526924"/>
                  </a:ln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7" name="Straight Connector 8"/>
            <p:cNvSpPr/>
            <p:nvPr/>
          </p:nvSpPr>
          <p:spPr>
            <a:xfrm>
              <a:off x="398160" y="4537440"/>
              <a:ext cx="26856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78" name="TextBox 10"/>
          <p:cNvSpPr/>
          <p:nvPr/>
        </p:nvSpPr>
        <p:spPr>
          <a:xfrm>
            <a:off x="419040" y="749160"/>
            <a:ext cx="88902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Add using integer chips.  Complete the addition statement in each case.  Cross out or circle </a:t>
            </a:r>
            <a:r>
              <a:rPr b="0" lang="en-CA" sz="2300" spc="-1" strike="noStrike">
                <a:solidFill>
                  <a:srgbClr val="ff0000"/>
                </a:solidFill>
                <a:latin typeface="Comic Sans MS - 24"/>
              </a:rPr>
              <a:t>zero pairs </a:t>
            </a:r>
            <a:r>
              <a:rPr b="0" lang="en-CA" sz="2300" spc="-1" strike="noStrike">
                <a:solidFill>
                  <a:srgbClr val="0000ff"/>
                </a:solidFill>
                <a:latin typeface="Comic Sans MS - 24"/>
              </a:rPr>
              <a:t>where applicable.</a:t>
            </a:r>
            <a:endParaRPr b="0" lang="en-US" sz="2300" spc="-1" strike="noStrike">
              <a:solidFill>
                <a:srgbClr val="000000"/>
              </a:solidFill>
              <a:latin typeface="Calibri"/>
            </a:endParaRPr>
          </a:p>
        </p:txBody>
      </p:sp>
      <p:sp>
        <p:nvSpPr>
          <p:cNvPr id="179" name="TextBox 11"/>
          <p:cNvSpPr/>
          <p:nvPr/>
        </p:nvSpPr>
        <p:spPr>
          <a:xfrm>
            <a:off x="317520" y="187956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 24"/>
              </a:rPr>
              <a:t>a) (+1) + (+2) = ___</a:t>
            </a:r>
            <a:r>
              <a:rPr b="0" lang="en-US" sz="2400" spc="-1" strike="noStrike">
                <a:solidFill>
                  <a:srgbClr val="ff0000"/>
                </a:solidFill>
                <a:latin typeface="Comic Sans MS - 24"/>
              </a:rPr>
              <a:t>	</a:t>
            </a:r>
            <a:r>
              <a:rPr b="0" lang="en-US" sz="2400" spc="-1" strike="noStrike">
                <a:solidFill>
                  <a:srgbClr val="ff0000"/>
                </a:solidFill>
                <a:latin typeface="Comic Sans MS - 24"/>
              </a:rPr>
              <a:t>	</a:t>
            </a:r>
            <a:r>
              <a:rPr b="0" lang="en-US" sz="2400" spc="-1" strike="noStrike">
                <a:solidFill>
                  <a:srgbClr val="ff0000"/>
                </a:solidFill>
                <a:latin typeface="Comic Sans MS - 24"/>
              </a:rPr>
              <a:t>	</a:t>
            </a:r>
            <a:r>
              <a:rPr b="0" lang="en-US" sz="2400" spc="-1" strike="noStrike">
                <a:solidFill>
                  <a:srgbClr val="ff0000"/>
                </a:solidFill>
                <a:latin typeface="Comic Sans MS - 24"/>
              </a:rPr>
              <a:t>b) (-3) + (-2) = ___</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 24"/>
              </a:rPr>
              <a:t>c) (+5) + (-4) = ___</a:t>
            </a:r>
            <a:r>
              <a:rPr b="0" lang="en-US" sz="2400" spc="-1" strike="noStrike">
                <a:solidFill>
                  <a:srgbClr val="ff0000"/>
                </a:solidFill>
                <a:latin typeface="Comic Sans MS - 24"/>
              </a:rPr>
              <a:t>	</a:t>
            </a:r>
            <a:r>
              <a:rPr b="0" lang="en-US" sz="2400" spc="-1" strike="noStrike">
                <a:solidFill>
                  <a:srgbClr val="ff0000"/>
                </a:solidFill>
                <a:latin typeface="Comic Sans MS - 24"/>
              </a:rPr>
              <a:t>	</a:t>
            </a:r>
            <a:r>
              <a:rPr b="0" lang="en-US" sz="2400" spc="-1" strike="noStrike">
                <a:solidFill>
                  <a:srgbClr val="ff0000"/>
                </a:solidFill>
                <a:latin typeface="Comic Sans MS - 24"/>
              </a:rPr>
              <a:t>	</a:t>
            </a:r>
            <a:r>
              <a:rPr b="0" lang="en-US" sz="2400" spc="-1" strike="noStrike">
                <a:solidFill>
                  <a:srgbClr val="ff0000"/>
                </a:solidFill>
                <a:latin typeface="Comic Sans MS - 24"/>
              </a:rPr>
              <a:t>d) (-6) + (+2) = ___</a:t>
            </a:r>
            <a:endParaRPr b="0" lang="en-US" sz="2400" spc="-1" strike="noStrike">
              <a:solidFill>
                <a:srgbClr val="000000"/>
              </a:solidFill>
              <a:latin typeface="Calibri"/>
            </a:endParaRPr>
          </a:p>
        </p:txBody>
      </p:sp>
      <p:sp>
        <p:nvSpPr>
          <p:cNvPr id="180" name="Freeform 12"/>
          <p:cNvSpPr/>
          <p:nvPr/>
        </p:nvSpPr>
        <p:spPr>
          <a:xfrm>
            <a:off x="1130400" y="2870280"/>
            <a:ext cx="6527880" cy="2413080"/>
          </a:xfrm>
          <a:custGeom>
            <a:avLst/>
            <a:gdLst>
              <a:gd name="textAreaLeft" fmla="*/ 0 w 6527880"/>
              <a:gd name="textAreaRight" fmla="*/ 6528240 w 6527880"/>
              <a:gd name="textAreaTop" fmla="*/ 0 h 2413080"/>
              <a:gd name="textAreaBottom" fmla="*/ 2413440 h 2413080"/>
            </a:gdLst>
            <a:ahLst/>
            <a:rect l="textAreaLeft" t="textAreaTop" r="textAreaRight" b="textAreaBottom"/>
            <a:pathLst>
              <a:path w="6527801" h="2413001">
                <a:moveTo>
                  <a:pt x="0" y="0"/>
                </a:moveTo>
                <a:lnTo>
                  <a:pt x="6527800" y="0"/>
                </a:lnTo>
                <a:lnTo>
                  <a:pt x="6527800" y="2413000"/>
                </a:lnTo>
                <a:lnTo>
                  <a:pt x="0" y="24130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1" name="TextBox 13"/>
          <p:cNvSpPr/>
          <p:nvPr/>
        </p:nvSpPr>
        <p:spPr>
          <a:xfrm>
            <a:off x="4064040" y="3784680"/>
            <a:ext cx="58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 24"/>
              </a:rPr>
              <a:t>+</a:t>
            </a:r>
            <a:endParaRPr b="0" lang="en-US" sz="2400" spc="-1" strike="noStrike">
              <a:solidFill>
                <a:srgbClr val="000000"/>
              </a:solidFill>
              <a:latin typeface="Calibri"/>
            </a:endParaRPr>
          </a:p>
        </p:txBody>
      </p:sp>
      <p:grpSp>
        <p:nvGrpSpPr>
          <p:cNvPr id="182" name="Group 18"/>
          <p:cNvGrpSpPr/>
          <p:nvPr/>
        </p:nvGrpSpPr>
        <p:grpSpPr>
          <a:xfrm>
            <a:off x="8112240" y="3610080"/>
            <a:ext cx="618840" cy="527040"/>
            <a:chOff x="8112240" y="3610080"/>
            <a:chExt cx="618840" cy="527040"/>
          </a:xfrm>
        </p:grpSpPr>
        <p:sp>
          <p:nvSpPr>
            <p:cNvPr id="183" name="Freeform 14"/>
            <p:cNvSpPr/>
            <p:nvPr/>
          </p:nvSpPr>
          <p:spPr>
            <a:xfrm>
              <a:off x="8112240" y="3610080"/>
              <a:ext cx="618840" cy="527040"/>
            </a:xfrm>
            <a:custGeom>
              <a:avLst/>
              <a:gdLst>
                <a:gd name="textAreaLeft" fmla="*/ 0 w 618840"/>
                <a:gd name="textAreaRight" fmla="*/ 619200 w 618840"/>
                <a:gd name="textAreaTop" fmla="*/ 0 h 527040"/>
                <a:gd name="textAreaBottom" fmla="*/ 527400 h 527040"/>
              </a:gdLst>
              <a:ahLst/>
              <a:rect l="textAreaLeft" t="textAreaTop" r="textAreaRight" b="textAreaBottom"/>
              <a:pathLst>
                <a:path w="620395" h="526925">
                  <a:moveTo>
                    <a:pt x="0" y="0"/>
                  </a:moveTo>
                  <a:lnTo>
                    <a:pt x="620394" y="0"/>
                  </a:lnTo>
                  <a:lnTo>
                    <a:pt x="620394" y="526924"/>
                  </a:lnTo>
                  <a:lnTo>
                    <a:pt x="0" y="526924"/>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84" name="Group 17"/>
            <p:cNvGrpSpPr/>
            <p:nvPr/>
          </p:nvGrpSpPr>
          <p:grpSpPr>
            <a:xfrm>
              <a:off x="8291160" y="3750480"/>
              <a:ext cx="268560" cy="239040"/>
              <a:chOff x="8291160" y="3750480"/>
              <a:chExt cx="268560" cy="239040"/>
            </a:xfrm>
          </p:grpSpPr>
          <p:sp>
            <p:nvSpPr>
              <p:cNvPr id="185" name="Straight Connector 15"/>
              <p:cNvSpPr/>
              <p:nvPr/>
            </p:nvSpPr>
            <p:spPr>
              <a:xfrm>
                <a:off x="8291160" y="3877200"/>
                <a:ext cx="268560" cy="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 name="Straight Connector 16"/>
              <p:cNvSpPr/>
              <p:nvPr/>
            </p:nvSpPr>
            <p:spPr>
              <a:xfrm flipV="1">
                <a:off x="8421480" y="3750480"/>
                <a:ext cx="0" cy="23904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187" name="Group 21"/>
          <p:cNvGrpSpPr/>
          <p:nvPr/>
        </p:nvGrpSpPr>
        <p:grpSpPr>
          <a:xfrm>
            <a:off x="8113680" y="4270320"/>
            <a:ext cx="619200" cy="527040"/>
            <a:chOff x="8113680" y="4270320"/>
            <a:chExt cx="619200" cy="527040"/>
          </a:xfrm>
        </p:grpSpPr>
        <p:sp>
          <p:nvSpPr>
            <p:cNvPr id="188" name="Freeform 19"/>
            <p:cNvSpPr/>
            <p:nvPr/>
          </p:nvSpPr>
          <p:spPr>
            <a:xfrm>
              <a:off x="8113680" y="4270320"/>
              <a:ext cx="619200" cy="527040"/>
            </a:xfrm>
            <a:custGeom>
              <a:avLst/>
              <a:gdLst>
                <a:gd name="textAreaLeft" fmla="*/ 0 w 619200"/>
                <a:gd name="textAreaRight" fmla="*/ 619560 w 619200"/>
                <a:gd name="textAreaTop" fmla="*/ 0 h 527040"/>
                <a:gd name="textAreaBottom" fmla="*/ 527400 h 527040"/>
              </a:gdLst>
              <a:ahLst/>
              <a:rect l="textAreaLeft" t="textAreaTop" r="textAreaRight" b="textAreaBottom"/>
              <a:pathLst>
                <a:path w="620268" h="526925">
                  <a:moveTo>
                    <a:pt x="0" y="0"/>
                  </a:moveTo>
                  <a:lnTo>
                    <a:pt x="620267" y="0"/>
                  </a:lnTo>
                  <a:lnTo>
                    <a:pt x="620267" y="526924"/>
                  </a:lnTo>
                  <a:lnTo>
                    <a:pt x="0" y="526924"/>
                  </a:ln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9" name="Straight Connector 20"/>
            <p:cNvSpPr/>
            <p:nvPr/>
          </p:nvSpPr>
          <p:spPr>
            <a:xfrm>
              <a:off x="8284680" y="4537440"/>
              <a:ext cx="26892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90" name="TextBox 22"/>
          <p:cNvSpPr/>
          <p:nvPr/>
        </p:nvSpPr>
        <p:spPr>
          <a:xfrm>
            <a:off x="990720" y="5384880"/>
            <a:ext cx="7188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ff"/>
                </a:solidFill>
                <a:latin typeface="Comic Sans MS - 36"/>
              </a:rPr>
              <a:t>Try "Show You Know" on p. 312</a:t>
            </a:r>
            <a:endParaRPr b="0" lang="en-US" sz="3600" spc="-1" strike="noStrike">
              <a:solidFill>
                <a:srgbClr val="000000"/>
              </a:solidFill>
              <a:latin typeface="Calibri"/>
            </a:endParaRPr>
          </a:p>
        </p:txBody>
      </p:sp>
      <p:grpSp>
        <p:nvGrpSpPr>
          <p:cNvPr id="191" name="Group 25"/>
          <p:cNvGrpSpPr/>
          <p:nvPr/>
        </p:nvGrpSpPr>
        <p:grpSpPr>
          <a:xfrm>
            <a:off x="7947000" y="3879720"/>
            <a:ext cx="1724040" cy="2197080"/>
            <a:chOff x="7947000" y="3879720"/>
            <a:chExt cx="1724040" cy="2197080"/>
          </a:xfrm>
        </p:grpSpPr>
        <p:pic>
          <p:nvPicPr>
            <p:cNvPr id="192" name="Picture 23" descr="NBKTemp.png"/>
            <p:cNvPicPr/>
            <p:nvPr/>
          </p:nvPicPr>
          <p:blipFill>
            <a:blip r:embed="rId1">
              <a:alphaModFix amt="0"/>
            </a:blip>
            <a:stretch/>
          </p:blipFill>
          <p:spPr>
            <a:xfrm>
              <a:off x="8006400" y="3879720"/>
              <a:ext cx="1664640" cy="1943280"/>
            </a:xfrm>
            <a:prstGeom prst="rect">
              <a:avLst/>
            </a:prstGeom>
            <a:ln w="0">
              <a:noFill/>
            </a:ln>
          </p:spPr>
        </p:pic>
        <p:pic>
          <p:nvPicPr>
            <p:cNvPr id="193" name="Picture 24" descr="NBKTemp(13754).png"/>
            <p:cNvPicPr/>
            <p:nvPr/>
          </p:nvPicPr>
          <p:blipFill>
            <a:blip r:embed="rId2">
              <a:alphaModFix amt="0"/>
            </a:blip>
            <a:stretch/>
          </p:blipFill>
          <p:spPr>
            <a:xfrm>
              <a:off x="7947000" y="5124240"/>
              <a:ext cx="593280" cy="95256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TextBox 1"/>
          <p:cNvSpPr/>
          <p:nvPr/>
        </p:nvSpPr>
        <p:spPr>
          <a:xfrm>
            <a:off x="114480" y="165240"/>
            <a:ext cx="797544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500" spc="-1" strike="noStrike">
                <a:solidFill>
                  <a:srgbClr val="0000ff"/>
                </a:solidFill>
                <a:latin typeface="Comic Sans MS - 36"/>
              </a:rPr>
              <a:t>Example 2: Apply Integer Addition</a:t>
            </a:r>
            <a:endParaRPr b="0" lang="en-US" sz="3500" spc="-1" strike="noStrike">
              <a:solidFill>
                <a:srgbClr val="000000"/>
              </a:solidFill>
              <a:latin typeface="Calibri"/>
            </a:endParaRPr>
          </a:p>
        </p:txBody>
      </p:sp>
      <p:sp>
        <p:nvSpPr>
          <p:cNvPr id="195" name="TextBox 2"/>
          <p:cNvSpPr/>
          <p:nvPr/>
        </p:nvSpPr>
        <p:spPr>
          <a:xfrm>
            <a:off x="495360" y="977760"/>
            <a:ext cx="8889840" cy="114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Ray spent $5 on bus fares to visit his aunt.  During the visit, she gave Ray $12 for doing some yard work.  How much money did Ray gain from the visit?</a:t>
            </a:r>
            <a:endParaRPr b="0" lang="en-US" sz="2300" spc="-1" strike="noStrike">
              <a:solidFill>
                <a:srgbClr val="000000"/>
              </a:solidFill>
              <a:latin typeface="Calibri"/>
            </a:endParaRPr>
          </a:p>
        </p:txBody>
      </p:sp>
      <p:grpSp>
        <p:nvGrpSpPr>
          <p:cNvPr id="196" name="Group 7"/>
          <p:cNvGrpSpPr/>
          <p:nvPr/>
        </p:nvGrpSpPr>
        <p:grpSpPr>
          <a:xfrm>
            <a:off x="606600" y="3305160"/>
            <a:ext cx="618840" cy="527040"/>
            <a:chOff x="606600" y="3305160"/>
            <a:chExt cx="618840" cy="527040"/>
          </a:xfrm>
        </p:grpSpPr>
        <p:sp>
          <p:nvSpPr>
            <p:cNvPr id="197" name="Freeform 3"/>
            <p:cNvSpPr/>
            <p:nvPr/>
          </p:nvSpPr>
          <p:spPr>
            <a:xfrm>
              <a:off x="606600" y="3305160"/>
              <a:ext cx="618840" cy="527040"/>
            </a:xfrm>
            <a:custGeom>
              <a:avLst/>
              <a:gdLst>
                <a:gd name="textAreaLeft" fmla="*/ 0 w 618840"/>
                <a:gd name="textAreaRight" fmla="*/ 619200 w 618840"/>
                <a:gd name="textAreaTop" fmla="*/ 0 h 527040"/>
                <a:gd name="textAreaBottom" fmla="*/ 527400 h 527040"/>
              </a:gdLst>
              <a:ahLst/>
              <a:rect l="textAreaLeft" t="textAreaTop" r="textAreaRight" b="textAreaBottom"/>
              <a:pathLst>
                <a:path w="620396" h="526925">
                  <a:moveTo>
                    <a:pt x="0" y="0"/>
                  </a:moveTo>
                  <a:lnTo>
                    <a:pt x="620395" y="0"/>
                  </a:lnTo>
                  <a:lnTo>
                    <a:pt x="620395" y="526924"/>
                  </a:lnTo>
                  <a:lnTo>
                    <a:pt x="0" y="526924"/>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98" name="Group 6"/>
            <p:cNvGrpSpPr/>
            <p:nvPr/>
          </p:nvGrpSpPr>
          <p:grpSpPr>
            <a:xfrm>
              <a:off x="785520" y="3445560"/>
              <a:ext cx="268560" cy="239040"/>
              <a:chOff x="785520" y="3445560"/>
              <a:chExt cx="268560" cy="239040"/>
            </a:xfrm>
          </p:grpSpPr>
          <p:sp>
            <p:nvSpPr>
              <p:cNvPr id="199" name="Straight Connector 4"/>
              <p:cNvSpPr/>
              <p:nvPr/>
            </p:nvSpPr>
            <p:spPr>
              <a:xfrm>
                <a:off x="785520" y="3572280"/>
                <a:ext cx="268560" cy="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Straight Connector 5"/>
              <p:cNvSpPr/>
              <p:nvPr/>
            </p:nvSpPr>
            <p:spPr>
              <a:xfrm flipV="1">
                <a:off x="915840" y="3445560"/>
                <a:ext cx="0" cy="23904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201" name="Group 10"/>
          <p:cNvGrpSpPr/>
          <p:nvPr/>
        </p:nvGrpSpPr>
        <p:grpSpPr>
          <a:xfrm>
            <a:off x="608040" y="3965400"/>
            <a:ext cx="619200" cy="527400"/>
            <a:chOff x="608040" y="3965400"/>
            <a:chExt cx="619200" cy="527400"/>
          </a:xfrm>
        </p:grpSpPr>
        <p:sp>
          <p:nvSpPr>
            <p:cNvPr id="202" name="Freeform 8"/>
            <p:cNvSpPr/>
            <p:nvPr/>
          </p:nvSpPr>
          <p:spPr>
            <a:xfrm>
              <a:off x="608040" y="3965400"/>
              <a:ext cx="619200" cy="527400"/>
            </a:xfrm>
            <a:custGeom>
              <a:avLst/>
              <a:gdLst>
                <a:gd name="textAreaLeft" fmla="*/ 0 w 619200"/>
                <a:gd name="textAreaRight" fmla="*/ 619560 w 619200"/>
                <a:gd name="textAreaTop" fmla="*/ 0 h 527400"/>
                <a:gd name="textAreaBottom" fmla="*/ 527760 h 527400"/>
              </a:gdLst>
              <a:ahLst/>
              <a:rect l="textAreaLeft" t="textAreaTop" r="textAreaRight" b="textAreaBottom"/>
              <a:pathLst>
                <a:path w="620268" h="526925">
                  <a:moveTo>
                    <a:pt x="0" y="0"/>
                  </a:moveTo>
                  <a:lnTo>
                    <a:pt x="620267" y="0"/>
                  </a:lnTo>
                  <a:lnTo>
                    <a:pt x="620267" y="526924"/>
                  </a:lnTo>
                  <a:lnTo>
                    <a:pt x="0" y="526924"/>
                  </a:ln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3" name="Straight Connector 9"/>
            <p:cNvSpPr/>
            <p:nvPr/>
          </p:nvSpPr>
          <p:spPr>
            <a:xfrm>
              <a:off x="779040" y="4232520"/>
              <a:ext cx="26892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04" name="Group 13"/>
          <p:cNvGrpSpPr/>
          <p:nvPr/>
        </p:nvGrpSpPr>
        <p:grpSpPr>
          <a:xfrm>
            <a:off x="1511280" y="2565360"/>
            <a:ext cx="6527880" cy="2413080"/>
            <a:chOff x="1511280" y="2565360"/>
            <a:chExt cx="6527880" cy="2413080"/>
          </a:xfrm>
        </p:grpSpPr>
        <p:sp>
          <p:nvSpPr>
            <p:cNvPr id="205" name="Freeform 11"/>
            <p:cNvSpPr/>
            <p:nvPr/>
          </p:nvSpPr>
          <p:spPr>
            <a:xfrm>
              <a:off x="1511280" y="2565360"/>
              <a:ext cx="6527880" cy="2413080"/>
            </a:xfrm>
            <a:custGeom>
              <a:avLst/>
              <a:gdLst>
                <a:gd name="textAreaLeft" fmla="*/ 0 w 6527880"/>
                <a:gd name="textAreaRight" fmla="*/ 6528240 w 6527880"/>
                <a:gd name="textAreaTop" fmla="*/ 0 h 2413080"/>
                <a:gd name="textAreaBottom" fmla="*/ 2413440 h 2413080"/>
              </a:gdLst>
              <a:ahLst/>
              <a:rect l="textAreaLeft" t="textAreaTop" r="textAreaRight" b="textAreaBottom"/>
              <a:pathLst>
                <a:path w="6527801" h="2413001">
                  <a:moveTo>
                    <a:pt x="0" y="0"/>
                  </a:moveTo>
                  <a:lnTo>
                    <a:pt x="6527800" y="0"/>
                  </a:lnTo>
                  <a:lnTo>
                    <a:pt x="6527800" y="2413000"/>
                  </a:lnTo>
                  <a:lnTo>
                    <a:pt x="0" y="2413000"/>
                  </a:lnTo>
                  <a:close/>
                </a:path>
              </a:pathLst>
            </a:custGeom>
            <a:solidFill>
              <a:srgbClr val="4f81bd">
                <a:alpha val="1000"/>
              </a:srgbClr>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6" name="TextBox 12"/>
            <p:cNvSpPr/>
            <p:nvPr/>
          </p:nvSpPr>
          <p:spPr>
            <a:xfrm>
              <a:off x="4444920" y="3479760"/>
              <a:ext cx="58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 24"/>
                </a:rPr>
                <a:t>+</a:t>
              </a:r>
              <a:endParaRPr b="0" lang="en-US" sz="2400" spc="-1" strike="noStrike">
                <a:solidFill>
                  <a:srgbClr val="000000"/>
                </a:solidFill>
                <a:latin typeface="Calibri"/>
              </a:endParaRPr>
            </a:p>
          </p:txBody>
        </p:sp>
      </p:grpSp>
      <p:grpSp>
        <p:nvGrpSpPr>
          <p:cNvPr id="207" name="Group 18"/>
          <p:cNvGrpSpPr/>
          <p:nvPr/>
        </p:nvGrpSpPr>
        <p:grpSpPr>
          <a:xfrm>
            <a:off x="8454960" y="3254400"/>
            <a:ext cx="619200" cy="527040"/>
            <a:chOff x="8454960" y="3254400"/>
            <a:chExt cx="619200" cy="527040"/>
          </a:xfrm>
        </p:grpSpPr>
        <p:sp>
          <p:nvSpPr>
            <p:cNvPr id="208" name="Freeform 14"/>
            <p:cNvSpPr/>
            <p:nvPr/>
          </p:nvSpPr>
          <p:spPr>
            <a:xfrm>
              <a:off x="8454960" y="3254400"/>
              <a:ext cx="619200" cy="527040"/>
            </a:xfrm>
            <a:custGeom>
              <a:avLst/>
              <a:gdLst>
                <a:gd name="textAreaLeft" fmla="*/ 0 w 619200"/>
                <a:gd name="textAreaRight" fmla="*/ 619560 w 619200"/>
                <a:gd name="textAreaTop" fmla="*/ 0 h 527040"/>
                <a:gd name="textAreaBottom" fmla="*/ 527400 h 527040"/>
              </a:gdLst>
              <a:ahLst/>
              <a:rect l="textAreaLeft" t="textAreaTop" r="textAreaRight" b="textAreaBottom"/>
              <a:pathLst>
                <a:path w="620395" h="526925">
                  <a:moveTo>
                    <a:pt x="0" y="0"/>
                  </a:moveTo>
                  <a:lnTo>
                    <a:pt x="620394" y="0"/>
                  </a:lnTo>
                  <a:lnTo>
                    <a:pt x="620394" y="526924"/>
                  </a:lnTo>
                  <a:lnTo>
                    <a:pt x="0" y="526924"/>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209" name="Group 17"/>
            <p:cNvGrpSpPr/>
            <p:nvPr/>
          </p:nvGrpSpPr>
          <p:grpSpPr>
            <a:xfrm>
              <a:off x="8634240" y="3394800"/>
              <a:ext cx="268920" cy="239040"/>
              <a:chOff x="8634240" y="3394800"/>
              <a:chExt cx="268920" cy="239040"/>
            </a:xfrm>
          </p:grpSpPr>
          <p:sp>
            <p:nvSpPr>
              <p:cNvPr id="210" name="Straight Connector 15"/>
              <p:cNvSpPr/>
              <p:nvPr/>
            </p:nvSpPr>
            <p:spPr>
              <a:xfrm>
                <a:off x="8634240" y="3521520"/>
                <a:ext cx="268920" cy="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1" name="Straight Connector 16"/>
              <p:cNvSpPr/>
              <p:nvPr/>
            </p:nvSpPr>
            <p:spPr>
              <a:xfrm flipV="1">
                <a:off x="8764560" y="3394800"/>
                <a:ext cx="0" cy="23904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212" name="Group 21"/>
          <p:cNvGrpSpPr/>
          <p:nvPr/>
        </p:nvGrpSpPr>
        <p:grpSpPr>
          <a:xfrm>
            <a:off x="8456760" y="3914640"/>
            <a:ext cx="618840" cy="527040"/>
            <a:chOff x="8456760" y="3914640"/>
            <a:chExt cx="618840" cy="527040"/>
          </a:xfrm>
        </p:grpSpPr>
        <p:sp>
          <p:nvSpPr>
            <p:cNvPr id="213" name="Freeform 19"/>
            <p:cNvSpPr/>
            <p:nvPr/>
          </p:nvSpPr>
          <p:spPr>
            <a:xfrm>
              <a:off x="8456760" y="3914640"/>
              <a:ext cx="618840" cy="527040"/>
            </a:xfrm>
            <a:custGeom>
              <a:avLst/>
              <a:gdLst>
                <a:gd name="textAreaLeft" fmla="*/ 0 w 618840"/>
                <a:gd name="textAreaRight" fmla="*/ 619200 w 618840"/>
                <a:gd name="textAreaTop" fmla="*/ 0 h 527040"/>
                <a:gd name="textAreaBottom" fmla="*/ 527400 h 527040"/>
              </a:gdLst>
              <a:ahLst/>
              <a:rect l="textAreaLeft" t="textAreaTop" r="textAreaRight" b="textAreaBottom"/>
              <a:pathLst>
                <a:path w="620268" h="526925">
                  <a:moveTo>
                    <a:pt x="0" y="0"/>
                  </a:moveTo>
                  <a:lnTo>
                    <a:pt x="620267" y="0"/>
                  </a:lnTo>
                  <a:lnTo>
                    <a:pt x="620267" y="526924"/>
                  </a:lnTo>
                  <a:lnTo>
                    <a:pt x="0" y="526924"/>
                  </a:ln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4" name="Straight Connector 20"/>
            <p:cNvSpPr/>
            <p:nvPr/>
          </p:nvSpPr>
          <p:spPr>
            <a:xfrm>
              <a:off x="8627760" y="4181760"/>
              <a:ext cx="26856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TextBox 1"/>
          <p:cNvSpPr/>
          <p:nvPr/>
        </p:nvSpPr>
        <p:spPr>
          <a:xfrm>
            <a:off x="165240" y="101520"/>
            <a:ext cx="4317840" cy="449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omic Sans MS - 36"/>
              </a:rPr>
              <a:t>Key Terms:</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omic Sans MS - 36"/>
              </a:rPr>
              <a:t>ze</a:t>
            </a:r>
            <a:r>
              <a:rPr b="0" lang="en-US" sz="2300" spc="-1" strike="noStrike">
                <a:solidFill>
                  <a:srgbClr val="ff0000"/>
                </a:solidFill>
                <a:latin typeface="Comic Sans MS - 24"/>
              </a:rPr>
              <a:t>ro pair</a:t>
            </a:r>
            <a:r>
              <a:rPr b="0" lang="en-US" sz="2300" spc="-1" strike="noStrike">
                <a:solidFill>
                  <a:srgbClr val="0000ff"/>
                </a:solidFill>
                <a:latin typeface="Comic Sans MS - 24"/>
              </a:rPr>
              <a:t>:</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a pair of integer chips, with one chip representing +1 and one chip representing -1</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the pair represents zero because (+1) + (-1) = 0</a:t>
            </a:r>
            <a:endParaRPr b="0" lang="en-US" sz="2300" spc="-1" strike="noStrike">
              <a:solidFill>
                <a:srgbClr val="000000"/>
              </a:solidFill>
              <a:latin typeface="Calibri"/>
            </a:endParaRPr>
          </a:p>
        </p:txBody>
      </p:sp>
      <p:grpSp>
        <p:nvGrpSpPr>
          <p:cNvPr id="216" name="Group 11"/>
          <p:cNvGrpSpPr/>
          <p:nvPr/>
        </p:nvGrpSpPr>
        <p:grpSpPr>
          <a:xfrm>
            <a:off x="406440" y="2629080"/>
            <a:ext cx="2832120" cy="1371600"/>
            <a:chOff x="406440" y="2629080"/>
            <a:chExt cx="2832120" cy="1371600"/>
          </a:xfrm>
        </p:grpSpPr>
        <p:grpSp>
          <p:nvGrpSpPr>
            <p:cNvPr id="217" name="Group 6"/>
            <p:cNvGrpSpPr/>
            <p:nvPr/>
          </p:nvGrpSpPr>
          <p:grpSpPr>
            <a:xfrm>
              <a:off x="768240" y="2825640"/>
              <a:ext cx="965160" cy="952560"/>
              <a:chOff x="768240" y="2825640"/>
              <a:chExt cx="965160" cy="952560"/>
            </a:xfrm>
          </p:grpSpPr>
          <p:sp>
            <p:nvSpPr>
              <p:cNvPr id="218" name="Freeform 2"/>
              <p:cNvSpPr/>
              <p:nvPr/>
            </p:nvSpPr>
            <p:spPr>
              <a:xfrm>
                <a:off x="768240" y="2825640"/>
                <a:ext cx="965160" cy="952560"/>
              </a:xfrm>
              <a:custGeom>
                <a:avLst/>
                <a:gdLst>
                  <a:gd name="textAreaLeft" fmla="*/ 0 w 965160"/>
                  <a:gd name="textAreaRight" fmla="*/ 965520 w 965160"/>
                  <a:gd name="textAreaTop" fmla="*/ 0 h 952560"/>
                  <a:gd name="textAreaBottom" fmla="*/ 952920 h 952560"/>
                </a:gdLst>
                <a:ahLst/>
                <a:rect l="textAreaLeft" t="textAreaTop" r="textAreaRight" b="textAreaBottom"/>
                <a:pathLst>
                  <a:path w="965201" h="952501">
                    <a:moveTo>
                      <a:pt x="0" y="0"/>
                    </a:moveTo>
                    <a:lnTo>
                      <a:pt x="965200" y="0"/>
                    </a:lnTo>
                    <a:lnTo>
                      <a:pt x="965200" y="952500"/>
                    </a:lnTo>
                    <a:lnTo>
                      <a:pt x="0" y="952500"/>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219" name="Group 5"/>
              <p:cNvGrpSpPr/>
              <p:nvPr/>
            </p:nvGrpSpPr>
            <p:grpSpPr>
              <a:xfrm>
                <a:off x="1047600" y="3079080"/>
                <a:ext cx="419040" cy="431640"/>
                <a:chOff x="1047600" y="3079080"/>
                <a:chExt cx="419040" cy="431640"/>
              </a:xfrm>
            </p:grpSpPr>
            <p:sp>
              <p:nvSpPr>
                <p:cNvPr id="220" name="Straight Connector 3"/>
                <p:cNvSpPr/>
                <p:nvPr/>
              </p:nvSpPr>
              <p:spPr>
                <a:xfrm>
                  <a:off x="1047600" y="3308040"/>
                  <a:ext cx="419040" cy="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Straight Connector 4"/>
                <p:cNvSpPr/>
                <p:nvPr/>
              </p:nvSpPr>
              <p:spPr>
                <a:xfrm flipV="1">
                  <a:off x="1250640" y="3079080"/>
                  <a:ext cx="0" cy="43164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222" name="Group 9"/>
            <p:cNvGrpSpPr/>
            <p:nvPr/>
          </p:nvGrpSpPr>
          <p:grpSpPr>
            <a:xfrm>
              <a:off x="1835280" y="2825640"/>
              <a:ext cx="965160" cy="952560"/>
              <a:chOff x="1835280" y="2825640"/>
              <a:chExt cx="965160" cy="952560"/>
            </a:xfrm>
          </p:grpSpPr>
          <p:sp>
            <p:nvSpPr>
              <p:cNvPr id="223" name="Freeform 7"/>
              <p:cNvSpPr/>
              <p:nvPr/>
            </p:nvSpPr>
            <p:spPr>
              <a:xfrm>
                <a:off x="1835280" y="2825640"/>
                <a:ext cx="965160" cy="952560"/>
              </a:xfrm>
              <a:custGeom>
                <a:avLst/>
                <a:gdLst>
                  <a:gd name="textAreaLeft" fmla="*/ 0 w 965160"/>
                  <a:gd name="textAreaRight" fmla="*/ 965520 w 965160"/>
                  <a:gd name="textAreaTop" fmla="*/ 0 h 952560"/>
                  <a:gd name="textAreaBottom" fmla="*/ 952920 h 952560"/>
                </a:gdLst>
                <a:ahLst/>
                <a:rect l="textAreaLeft" t="textAreaTop" r="textAreaRight" b="textAreaBottom"/>
                <a:pathLst>
                  <a:path w="965201" h="952501">
                    <a:moveTo>
                      <a:pt x="0" y="0"/>
                    </a:moveTo>
                    <a:lnTo>
                      <a:pt x="965200" y="0"/>
                    </a:lnTo>
                    <a:lnTo>
                      <a:pt x="965200" y="952500"/>
                    </a:lnTo>
                    <a:lnTo>
                      <a:pt x="0" y="952500"/>
                    </a:ln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4" name="Straight Connector 8"/>
              <p:cNvSpPr/>
              <p:nvPr/>
            </p:nvSpPr>
            <p:spPr>
              <a:xfrm>
                <a:off x="2102040" y="3308400"/>
                <a:ext cx="41904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25" name="Freeform 10"/>
            <p:cNvSpPr/>
            <p:nvPr/>
          </p:nvSpPr>
          <p:spPr>
            <a:xfrm>
              <a:off x="406440" y="2629080"/>
              <a:ext cx="2832120" cy="1371600"/>
            </a:xfrm>
            <a:custGeom>
              <a:avLst/>
              <a:gdLst>
                <a:gd name="textAreaLeft" fmla="*/ 0 w 2832120"/>
                <a:gd name="textAreaRight" fmla="*/ 2832480 w 2832120"/>
                <a:gd name="textAreaTop" fmla="*/ 0 h 1371600"/>
                <a:gd name="textAreaBottom" fmla="*/ 1371960 h 1371600"/>
              </a:gdLst>
              <a:ahLst/>
              <a:rect l="textAreaLeft" t="textAreaTop" r="textAreaRight" b="textAreaBottom"/>
              <a:pathLst>
                <a:path w="2832101" h="1371601">
                  <a:moveTo>
                    <a:pt x="1549400" y="50800"/>
                  </a:moveTo>
                  <a:lnTo>
                    <a:pt x="1096010" y="50800"/>
                  </a:lnTo>
                  <a:lnTo>
                    <a:pt x="1016000" y="62229"/>
                  </a:lnTo>
                  <a:lnTo>
                    <a:pt x="929639" y="63500"/>
                  </a:lnTo>
                  <a:lnTo>
                    <a:pt x="350519" y="63500"/>
                  </a:lnTo>
                  <a:lnTo>
                    <a:pt x="278130" y="76200"/>
                  </a:lnTo>
                  <a:lnTo>
                    <a:pt x="259080" y="85089"/>
                  </a:lnTo>
                  <a:lnTo>
                    <a:pt x="227330" y="91439"/>
                  </a:lnTo>
                  <a:lnTo>
                    <a:pt x="181609" y="110489"/>
                  </a:lnTo>
                  <a:lnTo>
                    <a:pt x="176530" y="111760"/>
                  </a:lnTo>
                  <a:lnTo>
                    <a:pt x="171450" y="115570"/>
                  </a:lnTo>
                  <a:lnTo>
                    <a:pt x="161290" y="127000"/>
                  </a:lnTo>
                  <a:lnTo>
                    <a:pt x="156209" y="130810"/>
                  </a:lnTo>
                  <a:lnTo>
                    <a:pt x="142240" y="135889"/>
                  </a:lnTo>
                  <a:lnTo>
                    <a:pt x="137159" y="139700"/>
                  </a:lnTo>
                  <a:lnTo>
                    <a:pt x="133350" y="146050"/>
                  </a:lnTo>
                  <a:lnTo>
                    <a:pt x="128269" y="157479"/>
                  </a:lnTo>
                  <a:lnTo>
                    <a:pt x="118109" y="172720"/>
                  </a:lnTo>
                  <a:lnTo>
                    <a:pt x="105409" y="187960"/>
                  </a:lnTo>
                  <a:lnTo>
                    <a:pt x="85090" y="224789"/>
                  </a:lnTo>
                  <a:lnTo>
                    <a:pt x="80009" y="241300"/>
                  </a:lnTo>
                  <a:lnTo>
                    <a:pt x="78740" y="250189"/>
                  </a:lnTo>
                  <a:lnTo>
                    <a:pt x="74930" y="257810"/>
                  </a:lnTo>
                  <a:lnTo>
                    <a:pt x="52069" y="288289"/>
                  </a:lnTo>
                  <a:lnTo>
                    <a:pt x="48259" y="293370"/>
                  </a:lnTo>
                  <a:lnTo>
                    <a:pt x="41909" y="303529"/>
                  </a:lnTo>
                  <a:lnTo>
                    <a:pt x="40640" y="313689"/>
                  </a:lnTo>
                  <a:lnTo>
                    <a:pt x="38100" y="351789"/>
                  </a:lnTo>
                  <a:lnTo>
                    <a:pt x="35559" y="359410"/>
                  </a:lnTo>
                  <a:lnTo>
                    <a:pt x="30480" y="364489"/>
                  </a:lnTo>
                  <a:lnTo>
                    <a:pt x="8890" y="384810"/>
                  </a:lnTo>
                  <a:lnTo>
                    <a:pt x="6350" y="389889"/>
                  </a:lnTo>
                  <a:lnTo>
                    <a:pt x="2540" y="403860"/>
                  </a:lnTo>
                  <a:lnTo>
                    <a:pt x="0" y="444500"/>
                  </a:lnTo>
                  <a:lnTo>
                    <a:pt x="0" y="514350"/>
                  </a:lnTo>
                  <a:lnTo>
                    <a:pt x="0" y="831850"/>
                  </a:lnTo>
                  <a:lnTo>
                    <a:pt x="1269" y="839470"/>
                  </a:lnTo>
                  <a:lnTo>
                    <a:pt x="8890" y="858520"/>
                  </a:lnTo>
                  <a:lnTo>
                    <a:pt x="11430" y="890270"/>
                  </a:lnTo>
                  <a:lnTo>
                    <a:pt x="12700" y="929640"/>
                  </a:lnTo>
                  <a:lnTo>
                    <a:pt x="16509" y="949959"/>
                  </a:lnTo>
                  <a:lnTo>
                    <a:pt x="22859" y="966470"/>
                  </a:lnTo>
                  <a:lnTo>
                    <a:pt x="45719" y="1007109"/>
                  </a:lnTo>
                  <a:lnTo>
                    <a:pt x="57150" y="1038859"/>
                  </a:lnTo>
                  <a:lnTo>
                    <a:pt x="72390" y="1055370"/>
                  </a:lnTo>
                  <a:lnTo>
                    <a:pt x="118109" y="1093470"/>
                  </a:lnTo>
                  <a:lnTo>
                    <a:pt x="134619" y="1099820"/>
                  </a:lnTo>
                  <a:lnTo>
                    <a:pt x="142240" y="1104900"/>
                  </a:lnTo>
                  <a:lnTo>
                    <a:pt x="167640" y="1127759"/>
                  </a:lnTo>
                  <a:lnTo>
                    <a:pt x="191769" y="1145540"/>
                  </a:lnTo>
                  <a:lnTo>
                    <a:pt x="199390" y="1153159"/>
                  </a:lnTo>
                  <a:lnTo>
                    <a:pt x="219709" y="1165859"/>
                  </a:lnTo>
                  <a:lnTo>
                    <a:pt x="241300" y="1174750"/>
                  </a:lnTo>
                  <a:lnTo>
                    <a:pt x="271780" y="1182370"/>
                  </a:lnTo>
                  <a:lnTo>
                    <a:pt x="306069" y="1197609"/>
                  </a:lnTo>
                  <a:lnTo>
                    <a:pt x="351790" y="1205229"/>
                  </a:lnTo>
                  <a:lnTo>
                    <a:pt x="361950" y="1205229"/>
                  </a:lnTo>
                  <a:lnTo>
                    <a:pt x="383540" y="1214120"/>
                  </a:lnTo>
                  <a:lnTo>
                    <a:pt x="406400" y="1226820"/>
                  </a:lnTo>
                  <a:lnTo>
                    <a:pt x="452119" y="1259840"/>
                  </a:lnTo>
                  <a:lnTo>
                    <a:pt x="477519" y="1264920"/>
                  </a:lnTo>
                  <a:lnTo>
                    <a:pt x="502919" y="1268729"/>
                  </a:lnTo>
                  <a:lnTo>
                    <a:pt x="534669" y="1280159"/>
                  </a:lnTo>
                  <a:lnTo>
                    <a:pt x="621030" y="1292859"/>
                  </a:lnTo>
                  <a:lnTo>
                    <a:pt x="631189" y="1296670"/>
                  </a:lnTo>
                  <a:lnTo>
                    <a:pt x="640080" y="1301750"/>
                  </a:lnTo>
                  <a:lnTo>
                    <a:pt x="646430" y="1308100"/>
                  </a:lnTo>
                  <a:lnTo>
                    <a:pt x="654050" y="1311909"/>
                  </a:lnTo>
                  <a:lnTo>
                    <a:pt x="669289" y="1316990"/>
                  </a:lnTo>
                  <a:lnTo>
                    <a:pt x="755650" y="1320800"/>
                  </a:lnTo>
                  <a:lnTo>
                    <a:pt x="1018539" y="1320800"/>
                  </a:lnTo>
                  <a:lnTo>
                    <a:pt x="1038860" y="1324609"/>
                  </a:lnTo>
                  <a:lnTo>
                    <a:pt x="1056639" y="1329690"/>
                  </a:lnTo>
                  <a:lnTo>
                    <a:pt x="1083310" y="1333500"/>
                  </a:lnTo>
                  <a:lnTo>
                    <a:pt x="1111250" y="1342390"/>
                  </a:lnTo>
                  <a:lnTo>
                    <a:pt x="1192530" y="1346200"/>
                  </a:lnTo>
                  <a:lnTo>
                    <a:pt x="2009139" y="1346200"/>
                  </a:lnTo>
                  <a:lnTo>
                    <a:pt x="2029460" y="1350009"/>
                  </a:lnTo>
                  <a:lnTo>
                    <a:pt x="2047239" y="1355090"/>
                  </a:lnTo>
                  <a:lnTo>
                    <a:pt x="2132329" y="1358900"/>
                  </a:lnTo>
                  <a:lnTo>
                    <a:pt x="2222500" y="1358900"/>
                  </a:lnTo>
                  <a:lnTo>
                    <a:pt x="2244089" y="1362709"/>
                  </a:lnTo>
                  <a:lnTo>
                    <a:pt x="2263139" y="1367790"/>
                  </a:lnTo>
                  <a:lnTo>
                    <a:pt x="2350770" y="1371600"/>
                  </a:lnTo>
                  <a:lnTo>
                    <a:pt x="2630170" y="1371600"/>
                  </a:lnTo>
                  <a:lnTo>
                    <a:pt x="2651760" y="1367790"/>
                  </a:lnTo>
                  <a:lnTo>
                    <a:pt x="2668270" y="1361440"/>
                  </a:lnTo>
                  <a:lnTo>
                    <a:pt x="2680970" y="1353820"/>
                  </a:lnTo>
                  <a:lnTo>
                    <a:pt x="2691129" y="1342390"/>
                  </a:lnTo>
                  <a:lnTo>
                    <a:pt x="2696210" y="1334770"/>
                  </a:lnTo>
                  <a:lnTo>
                    <a:pt x="2708910" y="1323340"/>
                  </a:lnTo>
                  <a:lnTo>
                    <a:pt x="2715260" y="1318259"/>
                  </a:lnTo>
                  <a:lnTo>
                    <a:pt x="2720339" y="1311909"/>
                  </a:lnTo>
                  <a:lnTo>
                    <a:pt x="2724150" y="1305559"/>
                  </a:lnTo>
                  <a:lnTo>
                    <a:pt x="2726689" y="1297940"/>
                  </a:lnTo>
                  <a:lnTo>
                    <a:pt x="2730500" y="1291590"/>
                  </a:lnTo>
                  <a:lnTo>
                    <a:pt x="2747010" y="1275079"/>
                  </a:lnTo>
                  <a:lnTo>
                    <a:pt x="2749550" y="1271270"/>
                  </a:lnTo>
                  <a:lnTo>
                    <a:pt x="2752089" y="1266190"/>
                  </a:lnTo>
                  <a:lnTo>
                    <a:pt x="2772410" y="1238250"/>
                  </a:lnTo>
                  <a:lnTo>
                    <a:pt x="2786379" y="1197609"/>
                  </a:lnTo>
                  <a:lnTo>
                    <a:pt x="2801620" y="1164590"/>
                  </a:lnTo>
                  <a:lnTo>
                    <a:pt x="2805429" y="1129029"/>
                  </a:lnTo>
                  <a:lnTo>
                    <a:pt x="2807970" y="1098550"/>
                  </a:lnTo>
                  <a:lnTo>
                    <a:pt x="2816860" y="1068070"/>
                  </a:lnTo>
                  <a:lnTo>
                    <a:pt x="2827020" y="1046479"/>
                  </a:lnTo>
                  <a:lnTo>
                    <a:pt x="2829560" y="1031240"/>
                  </a:lnTo>
                  <a:lnTo>
                    <a:pt x="2830829" y="993140"/>
                  </a:lnTo>
                  <a:lnTo>
                    <a:pt x="2832100" y="941070"/>
                  </a:lnTo>
                  <a:lnTo>
                    <a:pt x="2832100" y="683259"/>
                  </a:lnTo>
                  <a:lnTo>
                    <a:pt x="2824479" y="659129"/>
                  </a:lnTo>
                  <a:lnTo>
                    <a:pt x="2814320" y="636270"/>
                  </a:lnTo>
                  <a:lnTo>
                    <a:pt x="2809239" y="607060"/>
                  </a:lnTo>
                  <a:lnTo>
                    <a:pt x="2802889" y="567689"/>
                  </a:lnTo>
                  <a:lnTo>
                    <a:pt x="2796539" y="535939"/>
                  </a:lnTo>
                  <a:lnTo>
                    <a:pt x="2794000" y="500379"/>
                  </a:lnTo>
                  <a:lnTo>
                    <a:pt x="2794000" y="457200"/>
                  </a:lnTo>
                  <a:lnTo>
                    <a:pt x="2794000" y="448310"/>
                  </a:lnTo>
                  <a:lnTo>
                    <a:pt x="2790189" y="431800"/>
                  </a:lnTo>
                  <a:lnTo>
                    <a:pt x="2773679" y="389889"/>
                  </a:lnTo>
                  <a:lnTo>
                    <a:pt x="2766060" y="355600"/>
                  </a:lnTo>
                  <a:lnTo>
                    <a:pt x="2759710" y="339089"/>
                  </a:lnTo>
                  <a:lnTo>
                    <a:pt x="2758439" y="321310"/>
                  </a:lnTo>
                  <a:lnTo>
                    <a:pt x="2754629" y="314960"/>
                  </a:lnTo>
                  <a:lnTo>
                    <a:pt x="2749550" y="308610"/>
                  </a:lnTo>
                  <a:lnTo>
                    <a:pt x="2743200" y="303529"/>
                  </a:lnTo>
                  <a:lnTo>
                    <a:pt x="2739389" y="297179"/>
                  </a:lnTo>
                  <a:lnTo>
                    <a:pt x="2731770" y="276860"/>
                  </a:lnTo>
                  <a:lnTo>
                    <a:pt x="2727960" y="273050"/>
                  </a:lnTo>
                  <a:lnTo>
                    <a:pt x="2725420" y="271779"/>
                  </a:lnTo>
                  <a:lnTo>
                    <a:pt x="2722879" y="265429"/>
                  </a:lnTo>
                  <a:lnTo>
                    <a:pt x="2717800" y="240029"/>
                  </a:lnTo>
                  <a:lnTo>
                    <a:pt x="2696210" y="198120"/>
                  </a:lnTo>
                  <a:lnTo>
                    <a:pt x="2688589" y="181610"/>
                  </a:lnTo>
                  <a:lnTo>
                    <a:pt x="2675889" y="168910"/>
                  </a:lnTo>
                  <a:lnTo>
                    <a:pt x="2651760" y="148589"/>
                  </a:lnTo>
                  <a:lnTo>
                    <a:pt x="2633979" y="124460"/>
                  </a:lnTo>
                  <a:lnTo>
                    <a:pt x="2628900" y="120650"/>
                  </a:lnTo>
                  <a:lnTo>
                    <a:pt x="2625089" y="118110"/>
                  </a:lnTo>
                  <a:lnTo>
                    <a:pt x="2616200" y="109220"/>
                  </a:lnTo>
                  <a:lnTo>
                    <a:pt x="2599689" y="86360"/>
                  </a:lnTo>
                  <a:lnTo>
                    <a:pt x="2575560" y="68579"/>
                  </a:lnTo>
                  <a:lnTo>
                    <a:pt x="2571750" y="63500"/>
                  </a:lnTo>
                  <a:lnTo>
                    <a:pt x="2569210" y="59689"/>
                  </a:lnTo>
                  <a:lnTo>
                    <a:pt x="2565400" y="57150"/>
                  </a:lnTo>
                  <a:lnTo>
                    <a:pt x="2546350" y="49529"/>
                  </a:lnTo>
                  <a:lnTo>
                    <a:pt x="2522220" y="34289"/>
                  </a:lnTo>
                  <a:lnTo>
                    <a:pt x="2500629" y="26670"/>
                  </a:lnTo>
                  <a:lnTo>
                    <a:pt x="2496820" y="22860"/>
                  </a:lnTo>
                  <a:lnTo>
                    <a:pt x="2494279" y="20320"/>
                  </a:lnTo>
                  <a:lnTo>
                    <a:pt x="2487929" y="17779"/>
                  </a:lnTo>
                  <a:lnTo>
                    <a:pt x="2452370" y="13970"/>
                  </a:lnTo>
                  <a:lnTo>
                    <a:pt x="2409189" y="11429"/>
                  </a:lnTo>
                  <a:lnTo>
                    <a:pt x="2379979" y="3810"/>
                  </a:lnTo>
                  <a:lnTo>
                    <a:pt x="2299970" y="0"/>
                  </a:lnTo>
                  <a:lnTo>
                    <a:pt x="1717039" y="0"/>
                  </a:lnTo>
                  <a:lnTo>
                    <a:pt x="1701800" y="3810"/>
                  </a:lnTo>
                  <a:lnTo>
                    <a:pt x="1684020" y="8889"/>
                  </a:lnTo>
                  <a:lnTo>
                    <a:pt x="1659889" y="12700"/>
                  </a:lnTo>
                  <a:lnTo>
                    <a:pt x="1625600" y="22860"/>
                  </a:lnTo>
                  <a:lnTo>
                    <a:pt x="1545589" y="26670"/>
                  </a:lnTo>
                  <a:lnTo>
                    <a:pt x="1524000" y="38100"/>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226" name="TextBox 12"/>
          <p:cNvSpPr/>
          <p:nvPr/>
        </p:nvSpPr>
        <p:spPr>
          <a:xfrm>
            <a:off x="4559400" y="914400"/>
            <a:ext cx="5460840" cy="324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Comic Sans MS - 24"/>
              </a:rPr>
              <a:t>opposite integers</a:t>
            </a:r>
            <a:r>
              <a:rPr b="0" lang="en-US" sz="2300" spc="-1" strike="noStrike">
                <a:solidFill>
                  <a:srgbClr val="0000ff"/>
                </a:solidFill>
                <a:latin typeface="Comic Sans MS - 24"/>
              </a:rPr>
              <a:t>:</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two integers with the same "numeral", but different signs.  For example,</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two integers represented  by points that are the same distance in opposite directions from zero on a number line</a:t>
            </a:r>
            <a:endParaRPr b="0" lang="en-US" sz="2300" spc="-1" strike="noStrike">
              <a:solidFill>
                <a:srgbClr val="000000"/>
              </a:solidFill>
              <a:latin typeface="Calibri"/>
            </a:endParaRPr>
          </a:p>
        </p:txBody>
      </p:sp>
      <p:grpSp>
        <p:nvGrpSpPr>
          <p:cNvPr id="227" name="Group 31"/>
          <p:cNvGrpSpPr/>
          <p:nvPr/>
        </p:nvGrpSpPr>
        <p:grpSpPr>
          <a:xfrm>
            <a:off x="6176880" y="2336760"/>
            <a:ext cx="3390840" cy="1833840"/>
            <a:chOff x="6176880" y="2336760"/>
            <a:chExt cx="3390840" cy="1833840"/>
          </a:xfrm>
        </p:grpSpPr>
        <p:grpSp>
          <p:nvGrpSpPr>
            <p:cNvPr id="228" name="Group 29"/>
            <p:cNvGrpSpPr/>
            <p:nvPr/>
          </p:nvGrpSpPr>
          <p:grpSpPr>
            <a:xfrm>
              <a:off x="6176880" y="2336760"/>
              <a:ext cx="3390840" cy="668520"/>
              <a:chOff x="6176880" y="2336760"/>
              <a:chExt cx="3390840" cy="668520"/>
            </a:xfrm>
          </p:grpSpPr>
          <p:grpSp>
            <p:nvGrpSpPr>
              <p:cNvPr id="229" name="Group 17"/>
              <p:cNvGrpSpPr/>
              <p:nvPr/>
            </p:nvGrpSpPr>
            <p:grpSpPr>
              <a:xfrm>
                <a:off x="6176880" y="2336760"/>
                <a:ext cx="740520" cy="668520"/>
                <a:chOff x="6176880" y="2336760"/>
                <a:chExt cx="740520" cy="668520"/>
              </a:xfrm>
            </p:grpSpPr>
            <p:sp>
              <p:nvSpPr>
                <p:cNvPr id="230" name="Freeform 13"/>
                <p:cNvSpPr/>
                <p:nvPr/>
              </p:nvSpPr>
              <p:spPr>
                <a:xfrm>
                  <a:off x="6176880" y="2336760"/>
                  <a:ext cx="740520" cy="668520"/>
                </a:xfrm>
                <a:custGeom>
                  <a:avLst/>
                  <a:gdLst>
                    <a:gd name="textAreaLeft" fmla="*/ 0 w 740520"/>
                    <a:gd name="textAreaRight" fmla="*/ 740880 w 740520"/>
                    <a:gd name="textAreaTop" fmla="*/ 0 h 668520"/>
                    <a:gd name="textAreaBottom" fmla="*/ 668880 h 668520"/>
                  </a:gdLst>
                  <a:ahLst/>
                  <a:rect l="textAreaLeft" t="textAreaTop" r="textAreaRight" b="textAreaBottom"/>
                  <a:pathLst>
                    <a:path w="740792" h="668402">
                      <a:moveTo>
                        <a:pt x="0" y="0"/>
                      </a:moveTo>
                      <a:lnTo>
                        <a:pt x="740791" y="0"/>
                      </a:lnTo>
                      <a:lnTo>
                        <a:pt x="740791" y="668401"/>
                      </a:lnTo>
                      <a:lnTo>
                        <a:pt x="0" y="668401"/>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231" name="Group 16"/>
                <p:cNvGrpSpPr/>
                <p:nvPr/>
              </p:nvGrpSpPr>
              <p:grpSpPr>
                <a:xfrm>
                  <a:off x="6391080" y="2514960"/>
                  <a:ext cx="321480" cy="303120"/>
                  <a:chOff x="6391080" y="2514960"/>
                  <a:chExt cx="321480" cy="303120"/>
                </a:xfrm>
              </p:grpSpPr>
              <p:sp>
                <p:nvSpPr>
                  <p:cNvPr id="232" name="Straight Connector 14"/>
                  <p:cNvSpPr/>
                  <p:nvPr/>
                </p:nvSpPr>
                <p:spPr>
                  <a:xfrm>
                    <a:off x="6391080" y="2675520"/>
                    <a:ext cx="321480" cy="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3" name="Straight Connector 15"/>
                  <p:cNvSpPr/>
                  <p:nvPr/>
                </p:nvSpPr>
                <p:spPr>
                  <a:xfrm flipV="1">
                    <a:off x="6546960" y="2514960"/>
                    <a:ext cx="0" cy="30312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234" name="Group 20"/>
              <p:cNvGrpSpPr/>
              <p:nvPr/>
            </p:nvGrpSpPr>
            <p:grpSpPr>
              <a:xfrm>
                <a:off x="8028000" y="2336760"/>
                <a:ext cx="740520" cy="668520"/>
                <a:chOff x="8028000" y="2336760"/>
                <a:chExt cx="740520" cy="668520"/>
              </a:xfrm>
            </p:grpSpPr>
            <p:sp>
              <p:nvSpPr>
                <p:cNvPr id="235" name="Freeform 18"/>
                <p:cNvSpPr/>
                <p:nvPr/>
              </p:nvSpPr>
              <p:spPr>
                <a:xfrm>
                  <a:off x="8028000" y="2336760"/>
                  <a:ext cx="740520" cy="668520"/>
                </a:xfrm>
                <a:custGeom>
                  <a:avLst/>
                  <a:gdLst>
                    <a:gd name="textAreaLeft" fmla="*/ 0 w 740520"/>
                    <a:gd name="textAreaRight" fmla="*/ 740880 w 740520"/>
                    <a:gd name="textAreaTop" fmla="*/ 0 h 668520"/>
                    <a:gd name="textAreaBottom" fmla="*/ 668880 h 668520"/>
                  </a:gdLst>
                  <a:ahLst/>
                  <a:rect l="textAreaLeft" t="textAreaTop" r="textAreaRight" b="textAreaBottom"/>
                  <a:pathLst>
                    <a:path w="740792" h="668402">
                      <a:moveTo>
                        <a:pt x="0" y="0"/>
                      </a:moveTo>
                      <a:lnTo>
                        <a:pt x="740791" y="0"/>
                      </a:lnTo>
                      <a:lnTo>
                        <a:pt x="740791" y="668401"/>
                      </a:lnTo>
                      <a:lnTo>
                        <a:pt x="0" y="668401"/>
                      </a:ln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6" name="Straight Connector 19"/>
                <p:cNvSpPr/>
                <p:nvPr/>
              </p:nvSpPr>
              <p:spPr>
                <a:xfrm>
                  <a:off x="8232480" y="2675520"/>
                  <a:ext cx="32148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37" name="Group 25"/>
              <p:cNvGrpSpPr/>
              <p:nvPr/>
            </p:nvGrpSpPr>
            <p:grpSpPr>
              <a:xfrm>
                <a:off x="6975720" y="2336760"/>
                <a:ext cx="740520" cy="668520"/>
                <a:chOff x="6975720" y="2336760"/>
                <a:chExt cx="740520" cy="668520"/>
              </a:xfrm>
            </p:grpSpPr>
            <p:sp>
              <p:nvSpPr>
                <p:cNvPr id="238" name="Freeform 21"/>
                <p:cNvSpPr/>
                <p:nvPr/>
              </p:nvSpPr>
              <p:spPr>
                <a:xfrm>
                  <a:off x="6975720" y="2336760"/>
                  <a:ext cx="740520" cy="668520"/>
                </a:xfrm>
                <a:custGeom>
                  <a:avLst/>
                  <a:gdLst>
                    <a:gd name="textAreaLeft" fmla="*/ 0 w 740520"/>
                    <a:gd name="textAreaRight" fmla="*/ 740880 w 740520"/>
                    <a:gd name="textAreaTop" fmla="*/ 0 h 668520"/>
                    <a:gd name="textAreaBottom" fmla="*/ 668880 h 668520"/>
                  </a:gdLst>
                  <a:ahLst/>
                  <a:rect l="textAreaLeft" t="textAreaTop" r="textAreaRight" b="textAreaBottom"/>
                  <a:pathLst>
                    <a:path w="740791" h="668402">
                      <a:moveTo>
                        <a:pt x="0" y="0"/>
                      </a:moveTo>
                      <a:lnTo>
                        <a:pt x="740790" y="0"/>
                      </a:lnTo>
                      <a:lnTo>
                        <a:pt x="740790" y="668401"/>
                      </a:lnTo>
                      <a:lnTo>
                        <a:pt x="0" y="668401"/>
                      </a:lnTo>
                      <a:close/>
                    </a:path>
                  </a:pathLst>
                </a:custGeom>
                <a:solidFill>
                  <a:srgbClr val="ff0000"/>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239" name="Group 24"/>
                <p:cNvGrpSpPr/>
                <p:nvPr/>
              </p:nvGrpSpPr>
              <p:grpSpPr>
                <a:xfrm>
                  <a:off x="7189920" y="2514960"/>
                  <a:ext cx="321480" cy="303120"/>
                  <a:chOff x="7189920" y="2514960"/>
                  <a:chExt cx="321480" cy="303120"/>
                </a:xfrm>
              </p:grpSpPr>
              <p:sp>
                <p:nvSpPr>
                  <p:cNvPr id="240" name="Straight Connector 22"/>
                  <p:cNvSpPr/>
                  <p:nvPr/>
                </p:nvSpPr>
                <p:spPr>
                  <a:xfrm>
                    <a:off x="7189920" y="2675520"/>
                    <a:ext cx="321480" cy="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1" name="Straight Connector 23"/>
                  <p:cNvSpPr/>
                  <p:nvPr/>
                </p:nvSpPr>
                <p:spPr>
                  <a:xfrm flipV="1">
                    <a:off x="7345800" y="2514960"/>
                    <a:ext cx="0" cy="303120"/>
                  </a:xfrm>
                  <a:prstGeom prst="line">
                    <a:avLst/>
                  </a:prstGeom>
                  <a:ln w="127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242" name="Group 28"/>
              <p:cNvGrpSpPr/>
              <p:nvPr/>
            </p:nvGrpSpPr>
            <p:grpSpPr>
              <a:xfrm>
                <a:off x="8827200" y="2336760"/>
                <a:ext cx="740520" cy="668520"/>
                <a:chOff x="8827200" y="2336760"/>
                <a:chExt cx="740520" cy="668520"/>
              </a:xfrm>
            </p:grpSpPr>
            <p:sp>
              <p:nvSpPr>
                <p:cNvPr id="243" name="Freeform 26"/>
                <p:cNvSpPr/>
                <p:nvPr/>
              </p:nvSpPr>
              <p:spPr>
                <a:xfrm>
                  <a:off x="8827200" y="2336760"/>
                  <a:ext cx="740520" cy="668520"/>
                </a:xfrm>
                <a:custGeom>
                  <a:avLst/>
                  <a:gdLst>
                    <a:gd name="textAreaLeft" fmla="*/ 0 w 740520"/>
                    <a:gd name="textAreaRight" fmla="*/ 740880 w 740520"/>
                    <a:gd name="textAreaTop" fmla="*/ 0 h 668520"/>
                    <a:gd name="textAreaBottom" fmla="*/ 668880 h 668520"/>
                  </a:gdLst>
                  <a:ahLst/>
                  <a:rect l="textAreaLeft" t="textAreaTop" r="textAreaRight" b="textAreaBottom"/>
                  <a:pathLst>
                    <a:path w="740792" h="668402">
                      <a:moveTo>
                        <a:pt x="0" y="0"/>
                      </a:moveTo>
                      <a:lnTo>
                        <a:pt x="740791" y="0"/>
                      </a:lnTo>
                      <a:lnTo>
                        <a:pt x="740791" y="668401"/>
                      </a:lnTo>
                      <a:lnTo>
                        <a:pt x="0" y="668401"/>
                      </a:ln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44" name="Straight Connector 27"/>
                <p:cNvSpPr/>
                <p:nvPr/>
              </p:nvSpPr>
              <p:spPr>
                <a:xfrm>
                  <a:off x="9031680" y="2675520"/>
                  <a:ext cx="32148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245" name="TextBox 30"/>
            <p:cNvSpPr/>
            <p:nvPr/>
          </p:nvSpPr>
          <p:spPr>
            <a:xfrm>
              <a:off x="6616800" y="3009600"/>
              <a:ext cx="2818440" cy="116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 36"/>
                </a:rPr>
                <a:t>+2</a:t>
              </a:r>
              <a:r>
                <a:rPr b="0" lang="en-US" sz="3500" spc="-1" strike="noStrike">
                  <a:solidFill>
                    <a:srgbClr val="000000"/>
                  </a:solidFill>
                  <a:latin typeface="Arial - 36"/>
                </a:rPr>
                <a:t>	</a:t>
              </a:r>
              <a:r>
                <a:rPr b="0" lang="en-US" sz="3500" spc="-1" strike="noStrike">
                  <a:solidFill>
                    <a:srgbClr val="000000"/>
                  </a:solidFill>
                  <a:latin typeface="Arial - 36"/>
                </a:rPr>
                <a:t>	</a:t>
              </a:r>
              <a:r>
                <a:rPr b="0" lang="en-US" sz="3500" spc="-1" strike="noStrike">
                  <a:solidFill>
                    <a:srgbClr val="000000"/>
                  </a:solidFill>
                  <a:latin typeface="Arial - 36"/>
                </a:rPr>
                <a:t>	</a:t>
              </a:r>
              <a:r>
                <a:rPr b="0" lang="en-US" sz="3500" spc="-1" strike="noStrike">
                  <a:solidFill>
                    <a:srgbClr val="000000"/>
                  </a:solidFill>
                  <a:latin typeface="Arial - 36"/>
                </a:rPr>
                <a:t>-2</a:t>
              </a:r>
              <a:endParaRPr b="0" lang="en-US" sz="3500" spc="-1" strike="noStrike">
                <a:solidFill>
                  <a:srgbClr val="000000"/>
                </a:solidFill>
                <a:latin typeface="Calibri"/>
              </a:endParaRPr>
            </a:p>
          </p:txBody>
        </p:sp>
      </p:grpSp>
      <p:grpSp>
        <p:nvGrpSpPr>
          <p:cNvPr id="246" name="Group 64"/>
          <p:cNvGrpSpPr/>
          <p:nvPr/>
        </p:nvGrpSpPr>
        <p:grpSpPr>
          <a:xfrm>
            <a:off x="4718160" y="5568840"/>
            <a:ext cx="5010120" cy="533880"/>
            <a:chOff x="4718160" y="5568840"/>
            <a:chExt cx="5010120" cy="533880"/>
          </a:xfrm>
        </p:grpSpPr>
        <p:grpSp>
          <p:nvGrpSpPr>
            <p:cNvPr id="247" name="Group 60"/>
            <p:cNvGrpSpPr/>
            <p:nvPr/>
          </p:nvGrpSpPr>
          <p:grpSpPr>
            <a:xfrm>
              <a:off x="4718160" y="5568840"/>
              <a:ext cx="5010120" cy="533880"/>
              <a:chOff x="4718160" y="5568840"/>
              <a:chExt cx="5010120" cy="533880"/>
            </a:xfrm>
          </p:grpSpPr>
          <p:sp>
            <p:nvSpPr>
              <p:cNvPr id="248" name="TextBox 32"/>
              <p:cNvSpPr/>
              <p:nvPr/>
            </p:nvSpPr>
            <p:spPr>
              <a:xfrm>
                <a:off x="6629760" y="5765400"/>
                <a:ext cx="330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1</a:t>
                </a:r>
                <a:endParaRPr b="0" lang="en-US" sz="900" spc="-1" strike="noStrike">
                  <a:solidFill>
                    <a:srgbClr val="000000"/>
                  </a:solidFill>
                  <a:latin typeface="Calibri"/>
                </a:endParaRPr>
              </a:p>
            </p:txBody>
          </p:sp>
          <p:sp>
            <p:nvSpPr>
              <p:cNvPr id="249" name="TextBox 33"/>
              <p:cNvSpPr/>
              <p:nvPr/>
            </p:nvSpPr>
            <p:spPr>
              <a:xfrm>
                <a:off x="7112160" y="5778000"/>
                <a:ext cx="279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 12"/>
                  </a:rPr>
                  <a:t>0</a:t>
                </a:r>
                <a:endParaRPr b="0" lang="en-US" sz="800" spc="-1" strike="noStrike">
                  <a:solidFill>
                    <a:srgbClr val="000000"/>
                  </a:solidFill>
                  <a:latin typeface="Calibri"/>
                </a:endParaRPr>
              </a:p>
            </p:txBody>
          </p:sp>
          <p:sp>
            <p:nvSpPr>
              <p:cNvPr id="250" name="TextBox 34"/>
              <p:cNvSpPr/>
              <p:nvPr/>
            </p:nvSpPr>
            <p:spPr>
              <a:xfrm>
                <a:off x="6235920" y="5765400"/>
                <a:ext cx="25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 12"/>
                  </a:rPr>
                  <a:t>-2</a:t>
                </a:r>
                <a:endParaRPr b="0" lang="en-US" sz="800" spc="-1" strike="noStrike">
                  <a:solidFill>
                    <a:srgbClr val="000000"/>
                  </a:solidFill>
                  <a:latin typeface="Calibri"/>
                </a:endParaRPr>
              </a:p>
            </p:txBody>
          </p:sp>
          <p:sp>
            <p:nvSpPr>
              <p:cNvPr id="251" name="TextBox 35"/>
              <p:cNvSpPr/>
              <p:nvPr/>
            </p:nvSpPr>
            <p:spPr>
              <a:xfrm>
                <a:off x="5803920" y="576540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3</a:t>
                </a:r>
                <a:endParaRPr b="0" lang="en-US" sz="900" spc="-1" strike="noStrike">
                  <a:solidFill>
                    <a:srgbClr val="000000"/>
                  </a:solidFill>
                  <a:latin typeface="Calibri"/>
                </a:endParaRPr>
              </a:p>
            </p:txBody>
          </p:sp>
          <p:sp>
            <p:nvSpPr>
              <p:cNvPr id="252" name="TextBox 36"/>
              <p:cNvSpPr/>
              <p:nvPr/>
            </p:nvSpPr>
            <p:spPr>
              <a:xfrm>
                <a:off x="5384880" y="576540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4</a:t>
                </a:r>
                <a:endParaRPr b="0" lang="en-US" sz="900" spc="-1" strike="noStrike">
                  <a:solidFill>
                    <a:srgbClr val="000000"/>
                  </a:solidFill>
                  <a:latin typeface="Calibri"/>
                </a:endParaRPr>
              </a:p>
            </p:txBody>
          </p:sp>
          <p:sp>
            <p:nvSpPr>
              <p:cNvPr id="253" name="TextBox 37"/>
              <p:cNvSpPr/>
              <p:nvPr/>
            </p:nvSpPr>
            <p:spPr>
              <a:xfrm>
                <a:off x="4991040" y="576540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5</a:t>
                </a:r>
                <a:endParaRPr b="0" lang="en-US" sz="900" spc="-1" strike="noStrike">
                  <a:solidFill>
                    <a:srgbClr val="000000"/>
                  </a:solidFill>
                  <a:latin typeface="Calibri"/>
                </a:endParaRPr>
              </a:p>
            </p:txBody>
          </p:sp>
          <p:sp>
            <p:nvSpPr>
              <p:cNvPr id="254" name="TextBox 38"/>
              <p:cNvSpPr/>
              <p:nvPr/>
            </p:nvSpPr>
            <p:spPr>
              <a:xfrm>
                <a:off x="7531560" y="5765400"/>
                <a:ext cx="330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1</a:t>
                </a:r>
                <a:endParaRPr b="0" lang="en-US" sz="900" spc="-1" strike="noStrike">
                  <a:solidFill>
                    <a:srgbClr val="000000"/>
                  </a:solidFill>
                  <a:latin typeface="Calibri"/>
                </a:endParaRPr>
              </a:p>
            </p:txBody>
          </p:sp>
          <p:sp>
            <p:nvSpPr>
              <p:cNvPr id="255" name="TextBox 39"/>
              <p:cNvSpPr/>
              <p:nvPr/>
            </p:nvSpPr>
            <p:spPr>
              <a:xfrm>
                <a:off x="7963200" y="5765400"/>
                <a:ext cx="253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 12"/>
                  </a:rPr>
                  <a:t>2</a:t>
                </a:r>
                <a:endParaRPr b="0" lang="en-US" sz="800" spc="-1" strike="noStrike">
                  <a:solidFill>
                    <a:srgbClr val="000000"/>
                  </a:solidFill>
                  <a:latin typeface="Calibri"/>
                </a:endParaRPr>
              </a:p>
            </p:txBody>
          </p:sp>
          <p:sp>
            <p:nvSpPr>
              <p:cNvPr id="256" name="TextBox 40"/>
              <p:cNvSpPr/>
              <p:nvPr/>
            </p:nvSpPr>
            <p:spPr>
              <a:xfrm>
                <a:off x="8344440" y="577800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3</a:t>
                </a:r>
                <a:endParaRPr b="0" lang="en-US" sz="900" spc="-1" strike="noStrike">
                  <a:solidFill>
                    <a:srgbClr val="000000"/>
                  </a:solidFill>
                  <a:latin typeface="Calibri"/>
                </a:endParaRPr>
              </a:p>
            </p:txBody>
          </p:sp>
          <p:sp>
            <p:nvSpPr>
              <p:cNvPr id="257" name="TextBox 41"/>
              <p:cNvSpPr/>
              <p:nvPr/>
            </p:nvSpPr>
            <p:spPr>
              <a:xfrm>
                <a:off x="8763480" y="577800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4</a:t>
                </a:r>
                <a:endParaRPr b="0" lang="en-US" sz="900" spc="-1" strike="noStrike">
                  <a:solidFill>
                    <a:srgbClr val="000000"/>
                  </a:solidFill>
                  <a:latin typeface="Calibri"/>
                </a:endParaRPr>
              </a:p>
            </p:txBody>
          </p:sp>
          <p:sp>
            <p:nvSpPr>
              <p:cNvPr id="258" name="TextBox 42"/>
              <p:cNvSpPr/>
              <p:nvPr/>
            </p:nvSpPr>
            <p:spPr>
              <a:xfrm>
                <a:off x="9182520" y="576540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5</a:t>
                </a:r>
                <a:endParaRPr b="0" lang="en-US" sz="900" spc="-1" strike="noStrike">
                  <a:solidFill>
                    <a:srgbClr val="000000"/>
                  </a:solidFill>
                  <a:latin typeface="Calibri"/>
                </a:endParaRPr>
              </a:p>
            </p:txBody>
          </p:sp>
          <p:grpSp>
            <p:nvGrpSpPr>
              <p:cNvPr id="259" name="Group 48"/>
              <p:cNvGrpSpPr/>
              <p:nvPr/>
            </p:nvGrpSpPr>
            <p:grpSpPr>
              <a:xfrm>
                <a:off x="4718160" y="5568840"/>
                <a:ext cx="5010120" cy="212040"/>
                <a:chOff x="4718160" y="5568840"/>
                <a:chExt cx="5010120" cy="212040"/>
              </a:xfrm>
            </p:grpSpPr>
            <p:sp>
              <p:nvSpPr>
                <p:cNvPr id="260" name="Freeform 43"/>
                <p:cNvSpPr/>
                <p:nvPr/>
              </p:nvSpPr>
              <p:spPr>
                <a:xfrm>
                  <a:off x="4725000" y="5670000"/>
                  <a:ext cx="5002200" cy="7920"/>
                </a:xfrm>
                <a:custGeom>
                  <a:avLst/>
                  <a:gdLst>
                    <a:gd name="textAreaLeft" fmla="*/ 0 w 5002200"/>
                    <a:gd name="textAreaRight" fmla="*/ 5002560 w 5002200"/>
                    <a:gd name="textAreaTop" fmla="*/ 0 h 7920"/>
                    <a:gd name="textAreaBottom" fmla="*/ 8280 h 7920"/>
                  </a:gdLst>
                  <a:ahLst/>
                  <a:rect l="textAreaLeft" t="textAreaTop" r="textAreaRight" b="textAreaBottom"/>
                  <a:pathLst>
                    <a:path w="5001770" h="8002">
                      <a:moveTo>
                        <a:pt x="0" y="8001"/>
                      </a:moveTo>
                      <a:lnTo>
                        <a:pt x="0" y="0"/>
                      </a:lnTo>
                      <a:lnTo>
                        <a:pt x="5001769" y="0"/>
                      </a:lnTo>
                      <a:lnTo>
                        <a:pt x="5001769" y="8001"/>
                      </a:lnTo>
                      <a:close/>
                    </a:path>
                  </a:pathLst>
                </a:custGeom>
                <a:solidFill>
                  <a:srgbClr val="000000"/>
                </a:solidFill>
                <a:ln w="0">
                  <a:solidFill>
                    <a:srgbClr val="000000"/>
                  </a:solidFill>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Calibri"/>
                  </a:endParaRPr>
                </a:p>
              </p:txBody>
            </p:sp>
            <p:sp>
              <p:nvSpPr>
                <p:cNvPr id="261" name="Freeform 44"/>
                <p:cNvSpPr/>
                <p:nvPr/>
              </p:nvSpPr>
              <p:spPr>
                <a:xfrm>
                  <a:off x="4718160" y="5568840"/>
                  <a:ext cx="144360" cy="110880"/>
                </a:xfrm>
                <a:custGeom>
                  <a:avLst/>
                  <a:gdLst>
                    <a:gd name="textAreaLeft" fmla="*/ 0 w 144360"/>
                    <a:gd name="textAreaRight" fmla="*/ 144720 w 144360"/>
                    <a:gd name="textAreaTop" fmla="*/ 0 h 110880"/>
                    <a:gd name="textAreaBottom" fmla="*/ 111240 h 110880"/>
                  </a:gdLst>
                  <a:ahLst/>
                  <a:rect l="textAreaLeft" t="textAreaTop" r="textAreaRight" b="textAreaBottom"/>
                  <a:pathLst>
                    <a:path w="144399" h="110873">
                      <a:moveTo>
                        <a:pt x="6984" y="110872"/>
                      </a:moveTo>
                      <a:lnTo>
                        <a:pt x="0" y="105284"/>
                      </a:lnTo>
                      <a:lnTo>
                        <a:pt x="137414" y="0"/>
                      </a:lnTo>
                      <a:lnTo>
                        <a:pt x="144398" y="546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2" name="Freeform 45"/>
                <p:cNvSpPr/>
                <p:nvPr/>
              </p:nvSpPr>
              <p:spPr>
                <a:xfrm>
                  <a:off x="4719960" y="5669640"/>
                  <a:ext cx="144360" cy="110880"/>
                </a:xfrm>
                <a:custGeom>
                  <a:avLst/>
                  <a:gdLst>
                    <a:gd name="textAreaLeft" fmla="*/ 0 w 144360"/>
                    <a:gd name="textAreaRight" fmla="*/ 144720 w 144360"/>
                    <a:gd name="textAreaTop" fmla="*/ 0 h 110880"/>
                    <a:gd name="textAreaBottom" fmla="*/ 111240 h 110880"/>
                  </a:gdLst>
                  <a:ahLst/>
                  <a:rect l="textAreaLeft" t="textAreaTop" r="textAreaRight" b="textAreaBottom"/>
                  <a:pathLst>
                    <a:path w="144527" h="110999">
                      <a:moveTo>
                        <a:pt x="0" y="5588"/>
                      </a:moveTo>
                      <a:lnTo>
                        <a:pt x="7112" y="0"/>
                      </a:lnTo>
                      <a:lnTo>
                        <a:pt x="144526" y="105282"/>
                      </a:lnTo>
                      <a:lnTo>
                        <a:pt x="137542" y="11099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3" name="Freeform 46"/>
                <p:cNvSpPr/>
                <p:nvPr/>
              </p:nvSpPr>
              <p:spPr>
                <a:xfrm>
                  <a:off x="9583920" y="5569200"/>
                  <a:ext cx="144360" cy="110880"/>
                </a:xfrm>
                <a:custGeom>
                  <a:avLst/>
                  <a:gdLst>
                    <a:gd name="textAreaLeft" fmla="*/ 0 w 144360"/>
                    <a:gd name="textAreaRight" fmla="*/ 144720 w 144360"/>
                    <a:gd name="textAreaTop" fmla="*/ 0 h 110880"/>
                    <a:gd name="textAreaBottom" fmla="*/ 111240 h 110880"/>
                  </a:gdLst>
                  <a:ahLst/>
                  <a:rect l="textAreaLeft" t="textAreaTop" r="textAreaRight" b="textAreaBottom"/>
                  <a:pathLst>
                    <a:path w="144526" h="110999">
                      <a:moveTo>
                        <a:pt x="144525" y="105284"/>
                      </a:moveTo>
                      <a:lnTo>
                        <a:pt x="137540" y="110998"/>
                      </a:lnTo>
                      <a:lnTo>
                        <a:pt x="0" y="5589"/>
                      </a:lnTo>
                      <a:lnTo>
                        <a:pt x="7112"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4" name="Freeform 47"/>
                <p:cNvSpPr/>
                <p:nvPr/>
              </p:nvSpPr>
              <p:spPr>
                <a:xfrm>
                  <a:off x="9581760" y="5670000"/>
                  <a:ext cx="144360" cy="110880"/>
                </a:xfrm>
                <a:custGeom>
                  <a:avLst/>
                  <a:gdLst>
                    <a:gd name="textAreaLeft" fmla="*/ 0 w 144360"/>
                    <a:gd name="textAreaRight" fmla="*/ 144720 w 144360"/>
                    <a:gd name="textAreaTop" fmla="*/ 0 h 110880"/>
                    <a:gd name="textAreaBottom" fmla="*/ 111240 h 110880"/>
                  </a:gdLst>
                  <a:ahLst/>
                  <a:rect l="textAreaLeft" t="textAreaTop" r="textAreaRight" b="textAreaBottom"/>
                  <a:pathLst>
                    <a:path w="144527" h="110871">
                      <a:moveTo>
                        <a:pt x="137542" y="0"/>
                      </a:moveTo>
                      <a:lnTo>
                        <a:pt x="144526" y="5588"/>
                      </a:lnTo>
                      <a:lnTo>
                        <a:pt x="7112" y="110870"/>
                      </a:lnTo>
                      <a:lnTo>
                        <a:pt x="0" y="10528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265" name="Freeform 49"/>
              <p:cNvSpPr/>
              <p:nvPr/>
            </p:nvSpPr>
            <p:spPr>
              <a:xfrm>
                <a:off x="9281880" y="558864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1050" h="161292">
                    <a:moveTo>
                      <a:pt x="0" y="0"/>
                    </a:moveTo>
                    <a:lnTo>
                      <a:pt x="11049" y="0"/>
                    </a:lnTo>
                    <a:lnTo>
                      <a:pt x="11049" y="161291"/>
                    </a:lnTo>
                    <a:lnTo>
                      <a:pt x="0" y="1612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6" name="Freeform 50"/>
              <p:cNvSpPr/>
              <p:nvPr/>
            </p:nvSpPr>
            <p:spPr>
              <a:xfrm>
                <a:off x="8875440" y="558864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1050" h="161292">
                    <a:moveTo>
                      <a:pt x="0" y="0"/>
                    </a:moveTo>
                    <a:lnTo>
                      <a:pt x="11049" y="0"/>
                    </a:lnTo>
                    <a:lnTo>
                      <a:pt x="11049" y="161291"/>
                    </a:lnTo>
                    <a:lnTo>
                      <a:pt x="0" y="1612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7" name="Freeform 51"/>
              <p:cNvSpPr/>
              <p:nvPr/>
            </p:nvSpPr>
            <p:spPr>
              <a:xfrm>
                <a:off x="8443800" y="558864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1050" h="161292">
                    <a:moveTo>
                      <a:pt x="0" y="0"/>
                    </a:moveTo>
                    <a:lnTo>
                      <a:pt x="11049" y="0"/>
                    </a:lnTo>
                    <a:lnTo>
                      <a:pt x="11049" y="161291"/>
                    </a:lnTo>
                    <a:lnTo>
                      <a:pt x="0" y="1612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8" name="Freeform 52"/>
              <p:cNvSpPr/>
              <p:nvPr/>
            </p:nvSpPr>
            <p:spPr>
              <a:xfrm>
                <a:off x="8037360" y="558864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1050" h="161292">
                    <a:moveTo>
                      <a:pt x="0" y="0"/>
                    </a:moveTo>
                    <a:lnTo>
                      <a:pt x="11049" y="0"/>
                    </a:lnTo>
                    <a:lnTo>
                      <a:pt x="11049" y="161291"/>
                    </a:lnTo>
                    <a:lnTo>
                      <a:pt x="0" y="1612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9" name="Freeform 53"/>
              <p:cNvSpPr/>
              <p:nvPr/>
            </p:nvSpPr>
            <p:spPr>
              <a:xfrm>
                <a:off x="7630560" y="558864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0923" h="161292">
                    <a:moveTo>
                      <a:pt x="0" y="0"/>
                    </a:moveTo>
                    <a:lnTo>
                      <a:pt x="10922" y="0"/>
                    </a:lnTo>
                    <a:lnTo>
                      <a:pt x="10922" y="161291"/>
                    </a:lnTo>
                    <a:lnTo>
                      <a:pt x="0" y="1612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0" name="Freeform 54"/>
              <p:cNvSpPr/>
              <p:nvPr/>
            </p:nvSpPr>
            <p:spPr>
              <a:xfrm>
                <a:off x="6784200" y="559512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1050" h="161291">
                    <a:moveTo>
                      <a:pt x="0" y="0"/>
                    </a:moveTo>
                    <a:lnTo>
                      <a:pt x="11049" y="0"/>
                    </a:lnTo>
                    <a:lnTo>
                      <a:pt x="11049" y="161290"/>
                    </a:lnTo>
                    <a:lnTo>
                      <a:pt x="0" y="16129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1" name="Freeform 55"/>
              <p:cNvSpPr/>
              <p:nvPr/>
            </p:nvSpPr>
            <p:spPr>
              <a:xfrm>
                <a:off x="6377760" y="559512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1049" h="161291">
                    <a:moveTo>
                      <a:pt x="0" y="0"/>
                    </a:moveTo>
                    <a:lnTo>
                      <a:pt x="11048" y="0"/>
                    </a:lnTo>
                    <a:lnTo>
                      <a:pt x="11048" y="161290"/>
                    </a:lnTo>
                    <a:lnTo>
                      <a:pt x="0" y="16129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2" name="Freeform 56"/>
              <p:cNvSpPr/>
              <p:nvPr/>
            </p:nvSpPr>
            <p:spPr>
              <a:xfrm>
                <a:off x="5946120" y="5595120"/>
                <a:ext cx="11160" cy="161280"/>
              </a:xfrm>
              <a:custGeom>
                <a:avLst/>
                <a:gdLst>
                  <a:gd name="textAreaLeft" fmla="*/ 0 w 11160"/>
                  <a:gd name="textAreaRight" fmla="*/ 11520 w 11160"/>
                  <a:gd name="textAreaTop" fmla="*/ 0 h 161280"/>
                  <a:gd name="textAreaBottom" fmla="*/ 161640 h 161280"/>
                </a:gdLst>
                <a:ahLst/>
                <a:rect l="textAreaLeft" t="textAreaTop" r="textAreaRight" b="textAreaBottom"/>
                <a:pathLst>
                  <a:path w="11177" h="161291">
                    <a:moveTo>
                      <a:pt x="0" y="0"/>
                    </a:moveTo>
                    <a:lnTo>
                      <a:pt x="11176" y="0"/>
                    </a:lnTo>
                    <a:lnTo>
                      <a:pt x="11176" y="161290"/>
                    </a:lnTo>
                    <a:lnTo>
                      <a:pt x="0" y="16129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3" name="Freeform 57"/>
              <p:cNvSpPr/>
              <p:nvPr/>
            </p:nvSpPr>
            <p:spPr>
              <a:xfrm>
                <a:off x="5539680" y="5595120"/>
                <a:ext cx="10800" cy="161280"/>
              </a:xfrm>
              <a:custGeom>
                <a:avLst/>
                <a:gdLst>
                  <a:gd name="textAreaLeft" fmla="*/ 0 w 10800"/>
                  <a:gd name="textAreaRight" fmla="*/ 10800 w 10800"/>
                  <a:gd name="textAreaTop" fmla="*/ 0 h 161280"/>
                  <a:gd name="textAreaBottom" fmla="*/ 161640 h 161280"/>
                </a:gdLst>
                <a:ahLst/>
                <a:rect l="textAreaLeft" t="textAreaTop" r="textAreaRight" b="textAreaBottom"/>
                <a:pathLst>
                  <a:path w="10924" h="161291">
                    <a:moveTo>
                      <a:pt x="0" y="0"/>
                    </a:moveTo>
                    <a:lnTo>
                      <a:pt x="10923" y="0"/>
                    </a:lnTo>
                    <a:lnTo>
                      <a:pt x="10923" y="161290"/>
                    </a:lnTo>
                    <a:lnTo>
                      <a:pt x="0" y="16129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4" name="Freeform 58"/>
              <p:cNvSpPr/>
              <p:nvPr/>
            </p:nvSpPr>
            <p:spPr>
              <a:xfrm>
                <a:off x="5132880" y="559512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1049" h="161291">
                    <a:moveTo>
                      <a:pt x="0" y="0"/>
                    </a:moveTo>
                    <a:lnTo>
                      <a:pt x="11048" y="0"/>
                    </a:lnTo>
                    <a:lnTo>
                      <a:pt x="11048" y="161290"/>
                    </a:lnTo>
                    <a:lnTo>
                      <a:pt x="0" y="16129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5" name="Freeform 59"/>
              <p:cNvSpPr/>
              <p:nvPr/>
            </p:nvSpPr>
            <p:spPr>
              <a:xfrm>
                <a:off x="7207560" y="5588640"/>
                <a:ext cx="10800" cy="161280"/>
              </a:xfrm>
              <a:custGeom>
                <a:avLst/>
                <a:gdLst>
                  <a:gd name="textAreaLeft" fmla="*/ 0 w 10800"/>
                  <a:gd name="textAreaRight" fmla="*/ 11160 w 10800"/>
                  <a:gd name="textAreaTop" fmla="*/ 0 h 161280"/>
                  <a:gd name="textAreaBottom" fmla="*/ 161640 h 161280"/>
                </a:gdLst>
                <a:ahLst/>
                <a:rect l="textAreaLeft" t="textAreaTop" r="textAreaRight" b="textAreaBottom"/>
                <a:pathLst>
                  <a:path w="10923" h="161292">
                    <a:moveTo>
                      <a:pt x="0" y="0"/>
                    </a:moveTo>
                    <a:lnTo>
                      <a:pt x="10922" y="0"/>
                    </a:lnTo>
                    <a:lnTo>
                      <a:pt x="10922" y="161291"/>
                    </a:lnTo>
                    <a:lnTo>
                      <a:pt x="0" y="1612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276" name="Group 63"/>
            <p:cNvGrpSpPr/>
            <p:nvPr/>
          </p:nvGrpSpPr>
          <p:grpSpPr>
            <a:xfrm>
              <a:off x="6322320" y="5629320"/>
              <a:ext cx="1782000" cy="91440"/>
              <a:chOff x="6322320" y="5629320"/>
              <a:chExt cx="1782000" cy="91440"/>
            </a:xfrm>
          </p:grpSpPr>
          <p:sp>
            <p:nvSpPr>
              <p:cNvPr id="277" name="Freeform 61"/>
              <p:cNvSpPr/>
              <p:nvPr/>
            </p:nvSpPr>
            <p:spPr>
              <a:xfrm>
                <a:off x="6322320" y="5629320"/>
                <a:ext cx="96480" cy="88920"/>
              </a:xfrm>
              <a:custGeom>
                <a:avLst/>
                <a:gdLst>
                  <a:gd name="textAreaLeft" fmla="*/ 0 w 96480"/>
                  <a:gd name="textAreaRight" fmla="*/ 96840 w 96480"/>
                  <a:gd name="textAreaTop" fmla="*/ 0 h 88920"/>
                  <a:gd name="textAreaBottom" fmla="*/ 89280 h 88920"/>
                </a:gdLst>
                <a:ahLst/>
                <a:rect l="textAreaLeft" t="textAreaTop" r="textAreaRight" b="textAreaBottom"/>
                <a:pathLst>
                  <a:path w="96521" h="88901">
                    <a:moveTo>
                      <a:pt x="57150" y="2541"/>
                    </a:moveTo>
                    <a:lnTo>
                      <a:pt x="46991" y="2541"/>
                    </a:lnTo>
                    <a:lnTo>
                      <a:pt x="43181" y="3811"/>
                    </a:lnTo>
                    <a:lnTo>
                      <a:pt x="39370" y="6350"/>
                    </a:lnTo>
                    <a:lnTo>
                      <a:pt x="35561" y="7620"/>
                    </a:lnTo>
                    <a:lnTo>
                      <a:pt x="30481" y="10161"/>
                    </a:lnTo>
                    <a:lnTo>
                      <a:pt x="19050" y="15241"/>
                    </a:lnTo>
                    <a:lnTo>
                      <a:pt x="13970" y="19050"/>
                    </a:lnTo>
                    <a:lnTo>
                      <a:pt x="10161" y="22861"/>
                    </a:lnTo>
                    <a:lnTo>
                      <a:pt x="6350" y="27941"/>
                    </a:lnTo>
                    <a:lnTo>
                      <a:pt x="3811" y="33020"/>
                    </a:lnTo>
                    <a:lnTo>
                      <a:pt x="1270" y="38100"/>
                    </a:lnTo>
                    <a:lnTo>
                      <a:pt x="0" y="44450"/>
                    </a:lnTo>
                    <a:lnTo>
                      <a:pt x="1270" y="49531"/>
                    </a:lnTo>
                    <a:lnTo>
                      <a:pt x="2541" y="54611"/>
                    </a:lnTo>
                    <a:lnTo>
                      <a:pt x="3811" y="60961"/>
                    </a:lnTo>
                    <a:lnTo>
                      <a:pt x="6350" y="64770"/>
                    </a:lnTo>
                    <a:lnTo>
                      <a:pt x="8891" y="69850"/>
                    </a:lnTo>
                    <a:lnTo>
                      <a:pt x="11431" y="73661"/>
                    </a:lnTo>
                    <a:lnTo>
                      <a:pt x="15241" y="76200"/>
                    </a:lnTo>
                    <a:lnTo>
                      <a:pt x="17781" y="80011"/>
                    </a:lnTo>
                    <a:lnTo>
                      <a:pt x="21591" y="82550"/>
                    </a:lnTo>
                    <a:lnTo>
                      <a:pt x="25400" y="85091"/>
                    </a:lnTo>
                    <a:lnTo>
                      <a:pt x="30481" y="86361"/>
                    </a:lnTo>
                    <a:lnTo>
                      <a:pt x="36831" y="87631"/>
                    </a:lnTo>
                    <a:lnTo>
                      <a:pt x="41911" y="87631"/>
                    </a:lnTo>
                    <a:lnTo>
                      <a:pt x="48261" y="88900"/>
                    </a:lnTo>
                    <a:lnTo>
                      <a:pt x="54611" y="88900"/>
                    </a:lnTo>
                    <a:lnTo>
                      <a:pt x="58420" y="87631"/>
                    </a:lnTo>
                    <a:lnTo>
                      <a:pt x="62231" y="86361"/>
                    </a:lnTo>
                    <a:lnTo>
                      <a:pt x="63500" y="83820"/>
                    </a:lnTo>
                    <a:lnTo>
                      <a:pt x="67311" y="82550"/>
                    </a:lnTo>
                    <a:lnTo>
                      <a:pt x="71120" y="82550"/>
                    </a:lnTo>
                    <a:lnTo>
                      <a:pt x="76200" y="81281"/>
                    </a:lnTo>
                    <a:lnTo>
                      <a:pt x="80011" y="80011"/>
                    </a:lnTo>
                    <a:lnTo>
                      <a:pt x="82550" y="76200"/>
                    </a:lnTo>
                    <a:lnTo>
                      <a:pt x="83820" y="72391"/>
                    </a:lnTo>
                    <a:lnTo>
                      <a:pt x="86361" y="68581"/>
                    </a:lnTo>
                    <a:lnTo>
                      <a:pt x="88900" y="64770"/>
                    </a:lnTo>
                    <a:lnTo>
                      <a:pt x="91441" y="60961"/>
                    </a:lnTo>
                    <a:lnTo>
                      <a:pt x="92711" y="57150"/>
                    </a:lnTo>
                    <a:lnTo>
                      <a:pt x="93981" y="52070"/>
                    </a:lnTo>
                    <a:lnTo>
                      <a:pt x="95250" y="46991"/>
                    </a:lnTo>
                    <a:lnTo>
                      <a:pt x="95250" y="41911"/>
                    </a:lnTo>
                    <a:lnTo>
                      <a:pt x="96520" y="36831"/>
                    </a:lnTo>
                    <a:lnTo>
                      <a:pt x="96520" y="31750"/>
                    </a:lnTo>
                    <a:lnTo>
                      <a:pt x="93981" y="27941"/>
                    </a:lnTo>
                    <a:lnTo>
                      <a:pt x="91441" y="25400"/>
                    </a:lnTo>
                    <a:lnTo>
                      <a:pt x="86361" y="24131"/>
                    </a:lnTo>
                    <a:lnTo>
                      <a:pt x="81281" y="22861"/>
                    </a:lnTo>
                    <a:lnTo>
                      <a:pt x="74931" y="21591"/>
                    </a:lnTo>
                    <a:lnTo>
                      <a:pt x="69850" y="21591"/>
                    </a:lnTo>
                    <a:lnTo>
                      <a:pt x="64770" y="21591"/>
                    </a:lnTo>
                    <a:lnTo>
                      <a:pt x="59691" y="20320"/>
                    </a:lnTo>
                    <a:lnTo>
                      <a:pt x="55881" y="20320"/>
                    </a:lnTo>
                    <a:lnTo>
                      <a:pt x="50800" y="22861"/>
                    </a:lnTo>
                    <a:lnTo>
                      <a:pt x="45720" y="25400"/>
                    </a:lnTo>
                    <a:lnTo>
                      <a:pt x="39370" y="29211"/>
                    </a:lnTo>
                    <a:lnTo>
                      <a:pt x="34291" y="31750"/>
                    </a:lnTo>
                    <a:lnTo>
                      <a:pt x="30481" y="34291"/>
                    </a:lnTo>
                    <a:lnTo>
                      <a:pt x="25400" y="35561"/>
                    </a:lnTo>
                    <a:lnTo>
                      <a:pt x="24131" y="38100"/>
                    </a:lnTo>
                    <a:lnTo>
                      <a:pt x="24131" y="41911"/>
                    </a:lnTo>
                    <a:lnTo>
                      <a:pt x="25400" y="45720"/>
                    </a:lnTo>
                    <a:lnTo>
                      <a:pt x="26670" y="49531"/>
                    </a:lnTo>
                    <a:lnTo>
                      <a:pt x="26670" y="53341"/>
                    </a:lnTo>
                    <a:lnTo>
                      <a:pt x="26670" y="57150"/>
                    </a:lnTo>
                    <a:lnTo>
                      <a:pt x="29211" y="59691"/>
                    </a:lnTo>
                    <a:lnTo>
                      <a:pt x="33020" y="63500"/>
                    </a:lnTo>
                    <a:lnTo>
                      <a:pt x="38100" y="66041"/>
                    </a:lnTo>
                    <a:lnTo>
                      <a:pt x="41911" y="66041"/>
                    </a:lnTo>
                    <a:lnTo>
                      <a:pt x="45720" y="64770"/>
                    </a:lnTo>
                    <a:lnTo>
                      <a:pt x="60961" y="52070"/>
                    </a:lnTo>
                    <a:lnTo>
                      <a:pt x="62231" y="48261"/>
                    </a:lnTo>
                    <a:lnTo>
                      <a:pt x="64770" y="43181"/>
                    </a:lnTo>
                    <a:lnTo>
                      <a:pt x="64770" y="39370"/>
                    </a:lnTo>
                    <a:lnTo>
                      <a:pt x="64770" y="33020"/>
                    </a:lnTo>
                    <a:lnTo>
                      <a:pt x="63500" y="27941"/>
                    </a:lnTo>
                    <a:lnTo>
                      <a:pt x="60961" y="22861"/>
                    </a:lnTo>
                    <a:lnTo>
                      <a:pt x="58420" y="17781"/>
                    </a:lnTo>
                    <a:lnTo>
                      <a:pt x="55881" y="13970"/>
                    </a:lnTo>
                    <a:lnTo>
                      <a:pt x="53341" y="10161"/>
                    </a:lnTo>
                    <a:lnTo>
                      <a:pt x="49531" y="7620"/>
                    </a:lnTo>
                    <a:lnTo>
                      <a:pt x="44450" y="6350"/>
                    </a:lnTo>
                    <a:lnTo>
                      <a:pt x="38100" y="5081"/>
                    </a:lnTo>
                    <a:lnTo>
                      <a:pt x="33020" y="5081"/>
                    </a:lnTo>
                    <a:lnTo>
                      <a:pt x="26670" y="3811"/>
                    </a:lnTo>
                    <a:lnTo>
                      <a:pt x="20320" y="3811"/>
                    </a:lnTo>
                    <a:lnTo>
                      <a:pt x="17781" y="5081"/>
                    </a:lnTo>
                    <a:lnTo>
                      <a:pt x="16511" y="8891"/>
                    </a:lnTo>
                    <a:lnTo>
                      <a:pt x="16511" y="12700"/>
                    </a:lnTo>
                    <a:lnTo>
                      <a:pt x="17781" y="16511"/>
                    </a:lnTo>
                    <a:lnTo>
                      <a:pt x="20320" y="19050"/>
                    </a:lnTo>
                    <a:lnTo>
                      <a:pt x="22861" y="22861"/>
                    </a:lnTo>
                    <a:lnTo>
                      <a:pt x="24131" y="25400"/>
                    </a:lnTo>
                    <a:lnTo>
                      <a:pt x="25400" y="29211"/>
                    </a:lnTo>
                    <a:lnTo>
                      <a:pt x="26670" y="31750"/>
                    </a:lnTo>
                    <a:lnTo>
                      <a:pt x="29211" y="34291"/>
                    </a:lnTo>
                    <a:lnTo>
                      <a:pt x="33020" y="38100"/>
                    </a:lnTo>
                    <a:lnTo>
                      <a:pt x="38100" y="40641"/>
                    </a:lnTo>
                    <a:lnTo>
                      <a:pt x="41911" y="43181"/>
                    </a:lnTo>
                    <a:lnTo>
                      <a:pt x="45720" y="45720"/>
                    </a:lnTo>
                    <a:lnTo>
                      <a:pt x="49531" y="49531"/>
                    </a:lnTo>
                    <a:lnTo>
                      <a:pt x="54611" y="50800"/>
                    </a:lnTo>
                    <a:lnTo>
                      <a:pt x="59691" y="52070"/>
                    </a:lnTo>
                    <a:lnTo>
                      <a:pt x="66041" y="53341"/>
                    </a:lnTo>
                    <a:lnTo>
                      <a:pt x="69850" y="52070"/>
                    </a:lnTo>
                    <a:lnTo>
                      <a:pt x="72391" y="49531"/>
                    </a:lnTo>
                    <a:lnTo>
                      <a:pt x="73661" y="45720"/>
                    </a:lnTo>
                    <a:lnTo>
                      <a:pt x="73661" y="40641"/>
                    </a:lnTo>
                    <a:lnTo>
                      <a:pt x="72391" y="35561"/>
                    </a:lnTo>
                    <a:lnTo>
                      <a:pt x="71120" y="30481"/>
                    </a:lnTo>
                    <a:lnTo>
                      <a:pt x="67311" y="26670"/>
                    </a:lnTo>
                    <a:lnTo>
                      <a:pt x="63500" y="22861"/>
                    </a:lnTo>
                    <a:lnTo>
                      <a:pt x="58420" y="19050"/>
                    </a:lnTo>
                    <a:lnTo>
                      <a:pt x="52070" y="17781"/>
                    </a:lnTo>
                    <a:lnTo>
                      <a:pt x="45720" y="17781"/>
                    </a:lnTo>
                    <a:lnTo>
                      <a:pt x="40641" y="19050"/>
                    </a:lnTo>
                    <a:lnTo>
                      <a:pt x="34291" y="19050"/>
                    </a:lnTo>
                    <a:lnTo>
                      <a:pt x="30481" y="19050"/>
                    </a:lnTo>
                    <a:lnTo>
                      <a:pt x="26670" y="20320"/>
                    </a:lnTo>
                    <a:lnTo>
                      <a:pt x="22861" y="21591"/>
                    </a:lnTo>
                    <a:lnTo>
                      <a:pt x="21591" y="25400"/>
                    </a:lnTo>
                    <a:lnTo>
                      <a:pt x="20320" y="29211"/>
                    </a:lnTo>
                    <a:lnTo>
                      <a:pt x="19050" y="34291"/>
                    </a:lnTo>
                    <a:lnTo>
                      <a:pt x="19050" y="39370"/>
                    </a:lnTo>
                    <a:lnTo>
                      <a:pt x="19050" y="44450"/>
                    </a:lnTo>
                    <a:lnTo>
                      <a:pt x="19050" y="48261"/>
                    </a:lnTo>
                    <a:lnTo>
                      <a:pt x="21591" y="52070"/>
                    </a:lnTo>
                    <a:lnTo>
                      <a:pt x="22861" y="55881"/>
                    </a:lnTo>
                    <a:lnTo>
                      <a:pt x="26670" y="59691"/>
                    </a:lnTo>
                    <a:lnTo>
                      <a:pt x="31750" y="62231"/>
                    </a:lnTo>
                    <a:lnTo>
                      <a:pt x="36831" y="66041"/>
                    </a:lnTo>
                    <a:lnTo>
                      <a:pt x="43181" y="67311"/>
                    </a:lnTo>
                    <a:lnTo>
                      <a:pt x="48261" y="69850"/>
                    </a:lnTo>
                    <a:lnTo>
                      <a:pt x="54611" y="69850"/>
                    </a:lnTo>
                    <a:lnTo>
                      <a:pt x="58420" y="68581"/>
                    </a:lnTo>
                    <a:lnTo>
                      <a:pt x="62231" y="66041"/>
                    </a:lnTo>
                    <a:lnTo>
                      <a:pt x="63500" y="62231"/>
                    </a:lnTo>
                    <a:lnTo>
                      <a:pt x="66041" y="58420"/>
                    </a:lnTo>
                    <a:lnTo>
                      <a:pt x="68581" y="55881"/>
                    </a:lnTo>
                    <a:lnTo>
                      <a:pt x="71120" y="52070"/>
                    </a:lnTo>
                    <a:lnTo>
                      <a:pt x="72391" y="49531"/>
                    </a:lnTo>
                    <a:lnTo>
                      <a:pt x="71120" y="46991"/>
                    </a:lnTo>
                    <a:lnTo>
                      <a:pt x="69850" y="43181"/>
                    </a:lnTo>
                    <a:lnTo>
                      <a:pt x="69850" y="39370"/>
                    </a:lnTo>
                    <a:lnTo>
                      <a:pt x="68581" y="35561"/>
                    </a:lnTo>
                    <a:lnTo>
                      <a:pt x="68581" y="30481"/>
                    </a:lnTo>
                    <a:lnTo>
                      <a:pt x="67311" y="25400"/>
                    </a:lnTo>
                    <a:lnTo>
                      <a:pt x="67311" y="13970"/>
                    </a:lnTo>
                    <a:lnTo>
                      <a:pt x="68581" y="10161"/>
                    </a:lnTo>
                    <a:lnTo>
                      <a:pt x="69850" y="5081"/>
                    </a:lnTo>
                    <a:lnTo>
                      <a:pt x="72391" y="1270"/>
                    </a:lnTo>
                    <a:lnTo>
                      <a:pt x="74931" y="0"/>
                    </a:lnTo>
                    <a:lnTo>
                      <a:pt x="77470" y="0"/>
                    </a:lnTo>
                    <a:lnTo>
                      <a:pt x="81281" y="1270"/>
                    </a:lnTo>
                    <a:lnTo>
                      <a:pt x="83820" y="2541"/>
                    </a:lnTo>
                    <a:lnTo>
                      <a:pt x="87631" y="5081"/>
                    </a:lnTo>
                    <a:lnTo>
                      <a:pt x="90170" y="7620"/>
                    </a:lnTo>
                    <a:lnTo>
                      <a:pt x="92711" y="10161"/>
                    </a:lnTo>
                    <a:lnTo>
                      <a:pt x="93981" y="15241"/>
                    </a:lnTo>
                    <a:lnTo>
                      <a:pt x="95250" y="19050"/>
                    </a:lnTo>
                    <a:lnTo>
                      <a:pt x="95250" y="24131"/>
                    </a:lnTo>
                    <a:lnTo>
                      <a:pt x="96520" y="30481"/>
                    </a:lnTo>
                    <a:lnTo>
                      <a:pt x="96520" y="35561"/>
                    </a:lnTo>
                    <a:lnTo>
                      <a:pt x="95250" y="39370"/>
                    </a:lnTo>
                    <a:lnTo>
                      <a:pt x="93981" y="44450"/>
                    </a:lnTo>
                    <a:lnTo>
                      <a:pt x="91441" y="46991"/>
                    </a:lnTo>
                    <a:lnTo>
                      <a:pt x="90170" y="52070"/>
                    </a:lnTo>
                    <a:lnTo>
                      <a:pt x="88900" y="57150"/>
                    </a:lnTo>
                    <a:lnTo>
                      <a:pt x="88900" y="62231"/>
                    </a:lnTo>
                    <a:lnTo>
                      <a:pt x="86361" y="66041"/>
                    </a:lnTo>
                    <a:lnTo>
                      <a:pt x="81281" y="69850"/>
                    </a:lnTo>
                    <a:lnTo>
                      <a:pt x="77470" y="73661"/>
                    </a:lnTo>
                    <a:lnTo>
                      <a:pt x="73661" y="73661"/>
                    </a:lnTo>
                    <a:lnTo>
                      <a:pt x="71120" y="72391"/>
                    </a:lnTo>
                    <a:lnTo>
                      <a:pt x="69850" y="69850"/>
                    </a:lnTo>
                    <a:lnTo>
                      <a:pt x="72391" y="66041"/>
                    </a:lnTo>
                    <a:lnTo>
                      <a:pt x="77470" y="63500"/>
                    </a:lnTo>
                    <a:lnTo>
                      <a:pt x="96520" y="54611"/>
                    </a:lnTo>
                  </a:path>
                </a:pathLst>
              </a:custGeom>
              <a:noFill/>
              <a:ln w="25920">
                <a:solidFill>
                  <a:srgbClr val="ff0000"/>
                </a:solidFill>
                <a:round/>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Calibri"/>
                </a:endParaRPr>
              </a:p>
            </p:txBody>
          </p:sp>
          <p:sp>
            <p:nvSpPr>
              <p:cNvPr id="278" name="Freeform 62"/>
              <p:cNvSpPr/>
              <p:nvPr/>
            </p:nvSpPr>
            <p:spPr>
              <a:xfrm>
                <a:off x="7978680" y="5632920"/>
                <a:ext cx="125640" cy="87840"/>
              </a:xfrm>
              <a:custGeom>
                <a:avLst/>
                <a:gdLst>
                  <a:gd name="textAreaLeft" fmla="*/ 0 w 125640"/>
                  <a:gd name="textAreaRight" fmla="*/ 126000 w 125640"/>
                  <a:gd name="textAreaTop" fmla="*/ 0 h 87840"/>
                  <a:gd name="textAreaBottom" fmla="*/ 88200 h 87840"/>
                </a:gdLst>
                <a:ahLst/>
                <a:rect l="textAreaLeft" t="textAreaTop" r="textAreaRight" b="textAreaBottom"/>
                <a:pathLst>
                  <a:path w="125730" h="87631">
                    <a:moveTo>
                      <a:pt x="62229" y="0"/>
                    </a:moveTo>
                    <a:lnTo>
                      <a:pt x="48260" y="11430"/>
                    </a:lnTo>
                    <a:lnTo>
                      <a:pt x="44450" y="12700"/>
                    </a:lnTo>
                    <a:lnTo>
                      <a:pt x="39369" y="13970"/>
                    </a:lnTo>
                    <a:lnTo>
                      <a:pt x="34290" y="15239"/>
                    </a:lnTo>
                    <a:lnTo>
                      <a:pt x="30479" y="17780"/>
                    </a:lnTo>
                    <a:lnTo>
                      <a:pt x="27940" y="21589"/>
                    </a:lnTo>
                    <a:lnTo>
                      <a:pt x="26669" y="25400"/>
                    </a:lnTo>
                    <a:lnTo>
                      <a:pt x="26669" y="30480"/>
                    </a:lnTo>
                    <a:lnTo>
                      <a:pt x="27940" y="35559"/>
                    </a:lnTo>
                    <a:lnTo>
                      <a:pt x="29210" y="40639"/>
                    </a:lnTo>
                    <a:lnTo>
                      <a:pt x="31750" y="44450"/>
                    </a:lnTo>
                    <a:lnTo>
                      <a:pt x="34290" y="45720"/>
                    </a:lnTo>
                    <a:lnTo>
                      <a:pt x="36829" y="48259"/>
                    </a:lnTo>
                    <a:lnTo>
                      <a:pt x="40640" y="49530"/>
                    </a:lnTo>
                    <a:lnTo>
                      <a:pt x="52069" y="54609"/>
                    </a:lnTo>
                    <a:lnTo>
                      <a:pt x="55879" y="57150"/>
                    </a:lnTo>
                    <a:lnTo>
                      <a:pt x="57150" y="59689"/>
                    </a:lnTo>
                    <a:lnTo>
                      <a:pt x="59690" y="62230"/>
                    </a:lnTo>
                    <a:lnTo>
                      <a:pt x="62229" y="64770"/>
                    </a:lnTo>
                    <a:lnTo>
                      <a:pt x="67310" y="66039"/>
                    </a:lnTo>
                    <a:lnTo>
                      <a:pt x="72390" y="66039"/>
                    </a:lnTo>
                    <a:lnTo>
                      <a:pt x="77469" y="67309"/>
                    </a:lnTo>
                    <a:lnTo>
                      <a:pt x="83819" y="67309"/>
                    </a:lnTo>
                    <a:lnTo>
                      <a:pt x="90169" y="67309"/>
                    </a:lnTo>
                    <a:lnTo>
                      <a:pt x="93979" y="66039"/>
                    </a:lnTo>
                    <a:lnTo>
                      <a:pt x="96519" y="62230"/>
                    </a:lnTo>
                    <a:lnTo>
                      <a:pt x="99060" y="58420"/>
                    </a:lnTo>
                    <a:lnTo>
                      <a:pt x="100329" y="54609"/>
                    </a:lnTo>
                    <a:lnTo>
                      <a:pt x="100329" y="49530"/>
                    </a:lnTo>
                    <a:lnTo>
                      <a:pt x="101600" y="44450"/>
                    </a:lnTo>
                    <a:lnTo>
                      <a:pt x="100329" y="41909"/>
                    </a:lnTo>
                    <a:lnTo>
                      <a:pt x="99060" y="40639"/>
                    </a:lnTo>
                    <a:lnTo>
                      <a:pt x="96519" y="41909"/>
                    </a:lnTo>
                    <a:lnTo>
                      <a:pt x="93979" y="40639"/>
                    </a:lnTo>
                    <a:lnTo>
                      <a:pt x="91440" y="39370"/>
                    </a:lnTo>
                    <a:lnTo>
                      <a:pt x="88900" y="38100"/>
                    </a:lnTo>
                    <a:lnTo>
                      <a:pt x="83819" y="34289"/>
                    </a:lnTo>
                    <a:lnTo>
                      <a:pt x="78740" y="30480"/>
                    </a:lnTo>
                    <a:lnTo>
                      <a:pt x="73660" y="25400"/>
                    </a:lnTo>
                    <a:lnTo>
                      <a:pt x="67310" y="22859"/>
                    </a:lnTo>
                    <a:lnTo>
                      <a:pt x="62229" y="20320"/>
                    </a:lnTo>
                    <a:lnTo>
                      <a:pt x="55879" y="19050"/>
                    </a:lnTo>
                    <a:lnTo>
                      <a:pt x="49529" y="20320"/>
                    </a:lnTo>
                    <a:lnTo>
                      <a:pt x="43179" y="22859"/>
                    </a:lnTo>
                    <a:lnTo>
                      <a:pt x="35560" y="26670"/>
                    </a:lnTo>
                    <a:lnTo>
                      <a:pt x="31750" y="30480"/>
                    </a:lnTo>
                    <a:lnTo>
                      <a:pt x="29210" y="33020"/>
                    </a:lnTo>
                    <a:lnTo>
                      <a:pt x="26669" y="35559"/>
                    </a:lnTo>
                    <a:lnTo>
                      <a:pt x="25400" y="40639"/>
                    </a:lnTo>
                    <a:lnTo>
                      <a:pt x="25400" y="44450"/>
                    </a:lnTo>
                    <a:lnTo>
                      <a:pt x="24129" y="49530"/>
                    </a:lnTo>
                    <a:lnTo>
                      <a:pt x="26669" y="53339"/>
                    </a:lnTo>
                    <a:lnTo>
                      <a:pt x="29210" y="57150"/>
                    </a:lnTo>
                    <a:lnTo>
                      <a:pt x="34290" y="60959"/>
                    </a:lnTo>
                    <a:lnTo>
                      <a:pt x="40640" y="63500"/>
                    </a:lnTo>
                    <a:lnTo>
                      <a:pt x="48260" y="64770"/>
                    </a:lnTo>
                    <a:lnTo>
                      <a:pt x="55879" y="66039"/>
                    </a:lnTo>
                    <a:lnTo>
                      <a:pt x="63500" y="67309"/>
                    </a:lnTo>
                    <a:lnTo>
                      <a:pt x="71119" y="67309"/>
                    </a:lnTo>
                    <a:lnTo>
                      <a:pt x="78740" y="67309"/>
                    </a:lnTo>
                    <a:lnTo>
                      <a:pt x="91440" y="67309"/>
                    </a:lnTo>
                    <a:lnTo>
                      <a:pt x="99060" y="68580"/>
                    </a:lnTo>
                    <a:lnTo>
                      <a:pt x="104140" y="67309"/>
                    </a:lnTo>
                    <a:lnTo>
                      <a:pt x="109219" y="66039"/>
                    </a:lnTo>
                    <a:lnTo>
                      <a:pt x="113029" y="63500"/>
                    </a:lnTo>
                    <a:lnTo>
                      <a:pt x="116840" y="60959"/>
                    </a:lnTo>
                    <a:lnTo>
                      <a:pt x="120650" y="58420"/>
                    </a:lnTo>
                    <a:lnTo>
                      <a:pt x="124460" y="55880"/>
                    </a:lnTo>
                    <a:lnTo>
                      <a:pt x="125729" y="52070"/>
                    </a:lnTo>
                    <a:lnTo>
                      <a:pt x="125729" y="48259"/>
                    </a:lnTo>
                    <a:lnTo>
                      <a:pt x="124460" y="43180"/>
                    </a:lnTo>
                    <a:lnTo>
                      <a:pt x="121919" y="39370"/>
                    </a:lnTo>
                    <a:lnTo>
                      <a:pt x="116840" y="35559"/>
                    </a:lnTo>
                    <a:lnTo>
                      <a:pt x="111760" y="31750"/>
                    </a:lnTo>
                    <a:lnTo>
                      <a:pt x="109219" y="29209"/>
                    </a:lnTo>
                    <a:lnTo>
                      <a:pt x="106679" y="25400"/>
                    </a:lnTo>
                    <a:lnTo>
                      <a:pt x="105410" y="22859"/>
                    </a:lnTo>
                    <a:lnTo>
                      <a:pt x="101600" y="19050"/>
                    </a:lnTo>
                    <a:lnTo>
                      <a:pt x="97790" y="16509"/>
                    </a:lnTo>
                    <a:lnTo>
                      <a:pt x="92710" y="13970"/>
                    </a:lnTo>
                    <a:lnTo>
                      <a:pt x="87629" y="11430"/>
                    </a:lnTo>
                    <a:lnTo>
                      <a:pt x="83819" y="7620"/>
                    </a:lnTo>
                    <a:lnTo>
                      <a:pt x="80010" y="5080"/>
                    </a:lnTo>
                    <a:lnTo>
                      <a:pt x="74929" y="3809"/>
                    </a:lnTo>
                    <a:lnTo>
                      <a:pt x="69850" y="2539"/>
                    </a:lnTo>
                    <a:lnTo>
                      <a:pt x="64769" y="1270"/>
                    </a:lnTo>
                    <a:lnTo>
                      <a:pt x="58419" y="0"/>
                    </a:lnTo>
                    <a:lnTo>
                      <a:pt x="52069" y="0"/>
                    </a:lnTo>
                    <a:lnTo>
                      <a:pt x="45719" y="0"/>
                    </a:lnTo>
                    <a:lnTo>
                      <a:pt x="40640" y="1270"/>
                    </a:lnTo>
                    <a:lnTo>
                      <a:pt x="35560" y="2539"/>
                    </a:lnTo>
                    <a:lnTo>
                      <a:pt x="31750" y="3809"/>
                    </a:lnTo>
                    <a:lnTo>
                      <a:pt x="27940" y="6350"/>
                    </a:lnTo>
                    <a:lnTo>
                      <a:pt x="24129" y="8889"/>
                    </a:lnTo>
                    <a:lnTo>
                      <a:pt x="20319" y="11430"/>
                    </a:lnTo>
                    <a:lnTo>
                      <a:pt x="19050" y="15239"/>
                    </a:lnTo>
                    <a:lnTo>
                      <a:pt x="19050" y="19050"/>
                    </a:lnTo>
                    <a:lnTo>
                      <a:pt x="20319" y="24130"/>
                    </a:lnTo>
                    <a:lnTo>
                      <a:pt x="22860" y="27939"/>
                    </a:lnTo>
                    <a:lnTo>
                      <a:pt x="25400" y="29209"/>
                    </a:lnTo>
                    <a:lnTo>
                      <a:pt x="27940" y="30480"/>
                    </a:lnTo>
                    <a:lnTo>
                      <a:pt x="30479" y="33020"/>
                    </a:lnTo>
                    <a:lnTo>
                      <a:pt x="33019" y="35559"/>
                    </a:lnTo>
                    <a:lnTo>
                      <a:pt x="36829" y="38100"/>
                    </a:lnTo>
                    <a:lnTo>
                      <a:pt x="40640" y="39370"/>
                    </a:lnTo>
                    <a:lnTo>
                      <a:pt x="45719" y="40639"/>
                    </a:lnTo>
                    <a:lnTo>
                      <a:pt x="52069" y="40639"/>
                    </a:lnTo>
                    <a:lnTo>
                      <a:pt x="55879" y="40639"/>
                    </a:lnTo>
                    <a:lnTo>
                      <a:pt x="60960" y="39370"/>
                    </a:lnTo>
                    <a:lnTo>
                      <a:pt x="64769" y="36830"/>
                    </a:lnTo>
                    <a:lnTo>
                      <a:pt x="68579" y="34289"/>
                    </a:lnTo>
                    <a:lnTo>
                      <a:pt x="72390" y="30480"/>
                    </a:lnTo>
                    <a:lnTo>
                      <a:pt x="74929" y="25400"/>
                    </a:lnTo>
                    <a:lnTo>
                      <a:pt x="77469" y="21589"/>
                    </a:lnTo>
                    <a:lnTo>
                      <a:pt x="78740" y="17780"/>
                    </a:lnTo>
                    <a:lnTo>
                      <a:pt x="80010" y="15239"/>
                    </a:lnTo>
                    <a:lnTo>
                      <a:pt x="78740" y="12700"/>
                    </a:lnTo>
                    <a:lnTo>
                      <a:pt x="76200" y="11430"/>
                    </a:lnTo>
                    <a:lnTo>
                      <a:pt x="71119" y="10159"/>
                    </a:lnTo>
                    <a:lnTo>
                      <a:pt x="66040" y="10159"/>
                    </a:lnTo>
                    <a:lnTo>
                      <a:pt x="60960" y="11430"/>
                    </a:lnTo>
                    <a:lnTo>
                      <a:pt x="54610" y="12700"/>
                    </a:lnTo>
                    <a:lnTo>
                      <a:pt x="50800" y="16509"/>
                    </a:lnTo>
                    <a:lnTo>
                      <a:pt x="48260" y="20320"/>
                    </a:lnTo>
                    <a:lnTo>
                      <a:pt x="46990" y="24130"/>
                    </a:lnTo>
                    <a:lnTo>
                      <a:pt x="46990" y="29209"/>
                    </a:lnTo>
                    <a:lnTo>
                      <a:pt x="50800" y="31750"/>
                    </a:lnTo>
                    <a:lnTo>
                      <a:pt x="58419" y="39370"/>
                    </a:lnTo>
                    <a:lnTo>
                      <a:pt x="66040" y="44450"/>
                    </a:lnTo>
                    <a:lnTo>
                      <a:pt x="69850" y="46989"/>
                    </a:lnTo>
                    <a:lnTo>
                      <a:pt x="74929" y="48259"/>
                    </a:lnTo>
                    <a:lnTo>
                      <a:pt x="81279" y="49530"/>
                    </a:lnTo>
                    <a:lnTo>
                      <a:pt x="85090" y="48259"/>
                    </a:lnTo>
                    <a:lnTo>
                      <a:pt x="87629" y="44450"/>
                    </a:lnTo>
                    <a:lnTo>
                      <a:pt x="88900" y="41909"/>
                    </a:lnTo>
                    <a:lnTo>
                      <a:pt x="88900" y="38100"/>
                    </a:lnTo>
                    <a:lnTo>
                      <a:pt x="87629" y="34289"/>
                    </a:lnTo>
                    <a:lnTo>
                      <a:pt x="86360" y="31750"/>
                    </a:lnTo>
                    <a:lnTo>
                      <a:pt x="82550" y="27939"/>
                    </a:lnTo>
                    <a:lnTo>
                      <a:pt x="78740" y="25400"/>
                    </a:lnTo>
                    <a:lnTo>
                      <a:pt x="72390" y="22859"/>
                    </a:lnTo>
                    <a:lnTo>
                      <a:pt x="67310" y="20320"/>
                    </a:lnTo>
                    <a:lnTo>
                      <a:pt x="60960" y="19050"/>
                    </a:lnTo>
                    <a:lnTo>
                      <a:pt x="54610" y="17780"/>
                    </a:lnTo>
                    <a:lnTo>
                      <a:pt x="50800" y="19050"/>
                    </a:lnTo>
                    <a:lnTo>
                      <a:pt x="48260" y="22859"/>
                    </a:lnTo>
                    <a:lnTo>
                      <a:pt x="46990" y="26670"/>
                    </a:lnTo>
                    <a:lnTo>
                      <a:pt x="45719" y="30480"/>
                    </a:lnTo>
                    <a:lnTo>
                      <a:pt x="44450" y="35559"/>
                    </a:lnTo>
                    <a:lnTo>
                      <a:pt x="44450" y="40639"/>
                    </a:lnTo>
                    <a:lnTo>
                      <a:pt x="43179" y="45720"/>
                    </a:lnTo>
                    <a:lnTo>
                      <a:pt x="43179" y="57150"/>
                    </a:lnTo>
                    <a:lnTo>
                      <a:pt x="43179" y="73659"/>
                    </a:lnTo>
                    <a:lnTo>
                      <a:pt x="45719" y="78739"/>
                    </a:lnTo>
                    <a:lnTo>
                      <a:pt x="48260" y="82550"/>
                    </a:lnTo>
                    <a:lnTo>
                      <a:pt x="53340" y="86359"/>
                    </a:lnTo>
                    <a:lnTo>
                      <a:pt x="57150" y="87630"/>
                    </a:lnTo>
                    <a:lnTo>
                      <a:pt x="60960" y="87630"/>
                    </a:lnTo>
                    <a:lnTo>
                      <a:pt x="64769" y="87630"/>
                    </a:lnTo>
                    <a:lnTo>
                      <a:pt x="68579" y="85089"/>
                    </a:lnTo>
                    <a:lnTo>
                      <a:pt x="72390" y="81280"/>
                    </a:lnTo>
                    <a:lnTo>
                      <a:pt x="76200" y="76200"/>
                    </a:lnTo>
                    <a:lnTo>
                      <a:pt x="77469" y="72389"/>
                    </a:lnTo>
                    <a:lnTo>
                      <a:pt x="80010" y="67309"/>
                    </a:lnTo>
                    <a:lnTo>
                      <a:pt x="80010" y="60959"/>
                    </a:lnTo>
                    <a:lnTo>
                      <a:pt x="81279" y="55880"/>
                    </a:lnTo>
                    <a:lnTo>
                      <a:pt x="81279" y="50800"/>
                    </a:lnTo>
                    <a:lnTo>
                      <a:pt x="81279" y="44450"/>
                    </a:lnTo>
                    <a:lnTo>
                      <a:pt x="80010" y="40639"/>
                    </a:lnTo>
                    <a:lnTo>
                      <a:pt x="76200" y="39370"/>
                    </a:lnTo>
                    <a:lnTo>
                      <a:pt x="71119" y="36830"/>
                    </a:lnTo>
                    <a:lnTo>
                      <a:pt x="68579" y="34289"/>
                    </a:lnTo>
                    <a:lnTo>
                      <a:pt x="67310" y="30480"/>
                    </a:lnTo>
                    <a:lnTo>
                      <a:pt x="64769" y="25400"/>
                    </a:lnTo>
                    <a:lnTo>
                      <a:pt x="62229" y="22859"/>
                    </a:lnTo>
                    <a:lnTo>
                      <a:pt x="58419" y="20320"/>
                    </a:lnTo>
                    <a:lnTo>
                      <a:pt x="53340" y="19050"/>
                    </a:lnTo>
                    <a:lnTo>
                      <a:pt x="46990" y="17780"/>
                    </a:lnTo>
                    <a:lnTo>
                      <a:pt x="41910" y="17780"/>
                    </a:lnTo>
                    <a:lnTo>
                      <a:pt x="35560" y="17780"/>
                    </a:lnTo>
                    <a:lnTo>
                      <a:pt x="29210" y="16509"/>
                    </a:lnTo>
                    <a:lnTo>
                      <a:pt x="16510" y="16509"/>
                    </a:lnTo>
                    <a:lnTo>
                      <a:pt x="11429" y="17780"/>
                    </a:lnTo>
                    <a:lnTo>
                      <a:pt x="6350" y="19050"/>
                    </a:lnTo>
                    <a:lnTo>
                      <a:pt x="1269" y="21589"/>
                    </a:lnTo>
                    <a:lnTo>
                      <a:pt x="0" y="22859"/>
                    </a:lnTo>
                    <a:lnTo>
                      <a:pt x="0" y="25400"/>
                    </a:lnTo>
                    <a:lnTo>
                      <a:pt x="1269" y="27939"/>
                    </a:lnTo>
                    <a:lnTo>
                      <a:pt x="6350" y="30480"/>
                    </a:lnTo>
                    <a:lnTo>
                      <a:pt x="13969" y="31750"/>
                    </a:lnTo>
                    <a:lnTo>
                      <a:pt x="24129" y="31750"/>
                    </a:lnTo>
                    <a:lnTo>
                      <a:pt x="33019" y="33020"/>
                    </a:lnTo>
                    <a:lnTo>
                      <a:pt x="72390" y="34289"/>
                    </a:lnTo>
                  </a:path>
                </a:pathLst>
              </a:custGeom>
              <a:noFill/>
              <a:ln w="25920">
                <a:solidFill>
                  <a:srgbClr val="ff0000"/>
                </a:solidFill>
                <a:round/>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Calibri"/>
                </a:endParaRPr>
              </a:p>
            </p:txBody>
          </p:sp>
        </p:grpSp>
      </p:grpSp>
      <p:sp>
        <p:nvSpPr>
          <p:cNvPr id="279" name="TextBox 65"/>
          <p:cNvSpPr/>
          <p:nvPr/>
        </p:nvSpPr>
        <p:spPr>
          <a:xfrm>
            <a:off x="1181160" y="511812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 24"/>
              </a:rPr>
              <a:t>use brackets!</a:t>
            </a:r>
            <a:endParaRPr b="0" lang="en-US" sz="2400" spc="-1" strike="noStrike">
              <a:solidFill>
                <a:srgbClr val="000000"/>
              </a:solidFill>
              <a:latin typeface="Calibri"/>
            </a:endParaRPr>
          </a:p>
        </p:txBody>
      </p:sp>
      <p:sp>
        <p:nvSpPr>
          <p:cNvPr id="280" name="Straight Connector 66"/>
          <p:cNvSpPr/>
          <p:nvPr/>
        </p:nvSpPr>
        <p:spPr>
          <a:xfrm flipV="1">
            <a:off x="2641680" y="4787640"/>
            <a:ext cx="38160" cy="266760"/>
          </a:xfrm>
          <a:prstGeom prst="line">
            <a:avLst/>
          </a:prstGeom>
          <a:ln w="381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1" name="Straight Connector 67"/>
          <p:cNvSpPr/>
          <p:nvPr/>
        </p:nvSpPr>
        <p:spPr>
          <a:xfrm flipH="1" flipV="1">
            <a:off x="1536480" y="4826160"/>
            <a:ext cx="37800" cy="304560"/>
          </a:xfrm>
          <a:prstGeom prst="line">
            <a:avLst/>
          </a:prstGeom>
          <a:ln w="381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2" name="Straight Connector 68"/>
          <p:cNvSpPr/>
          <p:nvPr/>
        </p:nvSpPr>
        <p:spPr>
          <a:xfrm flipH="1" flipV="1">
            <a:off x="1879200" y="4812840"/>
            <a:ext cx="25560" cy="241560"/>
          </a:xfrm>
          <a:prstGeom prst="line">
            <a:avLst/>
          </a:prstGeom>
          <a:ln w="381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3" name="Straight Connector 69"/>
          <p:cNvSpPr/>
          <p:nvPr/>
        </p:nvSpPr>
        <p:spPr>
          <a:xfrm flipV="1">
            <a:off x="2209680" y="4800240"/>
            <a:ext cx="76320" cy="266760"/>
          </a:xfrm>
          <a:prstGeom prst="line">
            <a:avLst/>
          </a:prstGeom>
          <a:ln w="381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TextBox 1"/>
          <p:cNvSpPr/>
          <p:nvPr/>
        </p:nvSpPr>
        <p:spPr>
          <a:xfrm>
            <a:off x="304920" y="165240"/>
            <a:ext cx="1023624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ff"/>
                </a:solidFill>
                <a:latin typeface="Comic Sans MS - 36"/>
              </a:rPr>
              <a:t>Assignment:</a:t>
            </a:r>
            <a:endParaRPr b="0" lang="en-US" sz="5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ff"/>
                </a:solidFill>
                <a:latin typeface="Comic Sans MS - 36"/>
              </a:rPr>
              <a:t>9</a:t>
            </a:r>
            <a:r>
              <a:rPr b="0" lang="en-US" sz="4200" spc="-1" strike="noStrike" u="sng">
                <a:solidFill>
                  <a:srgbClr val="ff0000"/>
                </a:solidFill>
                <a:uFillTx/>
                <a:latin typeface="Comic Sans MS - 28"/>
              </a:rPr>
              <a:t>.1 Explore Integer Addition</a:t>
            </a:r>
            <a:endParaRPr b="0" lang="en-US" sz="4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u="sng">
                <a:solidFill>
                  <a:srgbClr val="ff0000"/>
                </a:solidFill>
                <a:uFillTx/>
                <a:latin typeface="Comic Sans MS - 28"/>
              </a:rPr>
              <a:t>p</a:t>
            </a:r>
            <a:r>
              <a:rPr b="0" lang="en-CA" sz="4200" spc="-1" strike="noStrike">
                <a:solidFill>
                  <a:srgbClr val="ff0000"/>
                </a:solidFill>
                <a:latin typeface="Comic Sans MS - 28"/>
              </a:rPr>
              <a:t>. 313, #1–4 (as a class), 5, 7, 9, 11, 13</a:t>
            </a:r>
            <a:endParaRPr b="0" lang="en-US" sz="4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Comic Sans MS - 28"/>
              </a:rPr>
              <a:t>Still  Good? # 12, 14-16</a:t>
            </a:r>
            <a:endParaRPr b="0" lang="en-US" sz="4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Comic Sans MS - 28"/>
              </a:rPr>
              <a:t>Pro Star? # 17-20</a:t>
            </a:r>
            <a:endParaRPr b="0" lang="en-US" sz="4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TextBox 1"/>
          <p:cNvSpPr/>
          <p:nvPr/>
        </p:nvSpPr>
        <p:spPr>
          <a:xfrm>
            <a:off x="241200" y="0"/>
            <a:ext cx="462276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Comic Sans MS - 36"/>
              </a:rPr>
              <a:t>9.2 - Add Integers</a:t>
            </a:r>
            <a:endParaRPr b="0" lang="en-US" sz="3500" spc="-1" strike="noStrike">
              <a:solidFill>
                <a:srgbClr val="000000"/>
              </a:solidFill>
              <a:latin typeface="Calibri"/>
            </a:endParaRPr>
          </a:p>
        </p:txBody>
      </p:sp>
      <p:sp>
        <p:nvSpPr>
          <p:cNvPr id="286" name="TextBox 2"/>
          <p:cNvSpPr/>
          <p:nvPr/>
        </p:nvSpPr>
        <p:spPr>
          <a:xfrm>
            <a:off x="254160" y="673200"/>
            <a:ext cx="9372600" cy="25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After this lesson, you will be able to...</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Comic Sans MS - 24"/>
              </a:rPr>
              <a:t>·</a:t>
            </a:r>
            <a:r>
              <a:rPr b="0" lang="en-CA" sz="2300" spc="-1" strike="noStrike">
                <a:solidFill>
                  <a:srgbClr val="0000ff"/>
                </a:solidFill>
                <a:latin typeface="Comic Sans MS - 24"/>
              </a:rPr>
              <a:t>add integers using a number line</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You can use an arrow on a horizontal or vertical number line to represent an integer.  The direction of the arrow shows the sign of the integer.  The length of the arrow shows the value of the numeral of the integer.</a:t>
            </a:r>
            <a:endParaRPr b="0" lang="en-US" sz="2300" spc="-1" strike="noStrike">
              <a:solidFill>
                <a:srgbClr val="000000"/>
              </a:solidFill>
              <a:latin typeface="Calibri"/>
            </a:endParaRPr>
          </a:p>
        </p:txBody>
      </p:sp>
      <p:grpSp>
        <p:nvGrpSpPr>
          <p:cNvPr id="287" name="Group 31"/>
          <p:cNvGrpSpPr/>
          <p:nvPr/>
        </p:nvGrpSpPr>
        <p:grpSpPr>
          <a:xfrm>
            <a:off x="388800" y="4662360"/>
            <a:ext cx="5683320" cy="608040"/>
            <a:chOff x="388800" y="4662360"/>
            <a:chExt cx="5683320" cy="608040"/>
          </a:xfrm>
        </p:grpSpPr>
        <p:sp>
          <p:nvSpPr>
            <p:cNvPr id="288" name="TextBox 3"/>
            <p:cNvSpPr/>
            <p:nvPr/>
          </p:nvSpPr>
          <p:spPr>
            <a:xfrm>
              <a:off x="2565000" y="490212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1</a:t>
              </a:r>
              <a:endParaRPr b="0" lang="en-US" sz="900" spc="-1" strike="noStrike">
                <a:solidFill>
                  <a:srgbClr val="000000"/>
                </a:solidFill>
                <a:latin typeface="Calibri"/>
              </a:endParaRPr>
            </a:p>
          </p:txBody>
        </p:sp>
        <p:sp>
          <p:nvSpPr>
            <p:cNvPr id="289" name="TextBox 4"/>
            <p:cNvSpPr/>
            <p:nvPr/>
          </p:nvSpPr>
          <p:spPr>
            <a:xfrm>
              <a:off x="3123720" y="4914720"/>
              <a:ext cx="3045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0</a:t>
              </a:r>
              <a:endParaRPr b="0" lang="en-US" sz="900" spc="-1" strike="noStrike">
                <a:solidFill>
                  <a:srgbClr val="000000"/>
                </a:solidFill>
                <a:latin typeface="Calibri"/>
              </a:endParaRPr>
            </a:p>
          </p:txBody>
        </p:sp>
        <p:sp>
          <p:nvSpPr>
            <p:cNvPr id="290" name="TextBox 5"/>
            <p:cNvSpPr/>
            <p:nvPr/>
          </p:nvSpPr>
          <p:spPr>
            <a:xfrm>
              <a:off x="2120400" y="4902120"/>
              <a:ext cx="27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2</a:t>
              </a:r>
              <a:endParaRPr b="0" lang="en-US" sz="900" spc="-1" strike="noStrike">
                <a:solidFill>
                  <a:srgbClr val="000000"/>
                </a:solidFill>
                <a:latin typeface="Calibri"/>
              </a:endParaRPr>
            </a:p>
          </p:txBody>
        </p:sp>
        <p:sp>
          <p:nvSpPr>
            <p:cNvPr id="291" name="TextBox 6"/>
            <p:cNvSpPr/>
            <p:nvPr/>
          </p:nvSpPr>
          <p:spPr>
            <a:xfrm>
              <a:off x="1625040" y="49021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3</a:t>
              </a:r>
              <a:endParaRPr b="0" lang="en-US" sz="1000" spc="-1" strike="noStrike">
                <a:solidFill>
                  <a:srgbClr val="000000"/>
                </a:solidFill>
                <a:latin typeface="Calibri"/>
              </a:endParaRPr>
            </a:p>
          </p:txBody>
        </p:sp>
        <p:sp>
          <p:nvSpPr>
            <p:cNvPr id="292" name="TextBox 7"/>
            <p:cNvSpPr/>
            <p:nvPr/>
          </p:nvSpPr>
          <p:spPr>
            <a:xfrm>
              <a:off x="1154880" y="49021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4</a:t>
              </a:r>
              <a:endParaRPr b="0" lang="en-US" sz="1000" spc="-1" strike="noStrike">
                <a:solidFill>
                  <a:srgbClr val="000000"/>
                </a:solidFill>
                <a:latin typeface="Calibri"/>
              </a:endParaRPr>
            </a:p>
          </p:txBody>
        </p:sp>
        <p:sp>
          <p:nvSpPr>
            <p:cNvPr id="293" name="TextBox 8"/>
            <p:cNvSpPr/>
            <p:nvPr/>
          </p:nvSpPr>
          <p:spPr>
            <a:xfrm>
              <a:off x="710280" y="49021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5</a:t>
              </a:r>
              <a:endParaRPr b="0" lang="en-US" sz="1000" spc="-1" strike="noStrike">
                <a:solidFill>
                  <a:srgbClr val="000000"/>
                </a:solidFill>
                <a:latin typeface="Calibri"/>
              </a:endParaRPr>
            </a:p>
          </p:txBody>
        </p:sp>
        <p:sp>
          <p:nvSpPr>
            <p:cNvPr id="294" name="TextBox 9"/>
            <p:cNvSpPr/>
            <p:nvPr/>
          </p:nvSpPr>
          <p:spPr>
            <a:xfrm>
              <a:off x="3593880" y="490212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1</a:t>
              </a:r>
              <a:endParaRPr b="0" lang="en-US" sz="900" spc="-1" strike="noStrike">
                <a:solidFill>
                  <a:srgbClr val="000000"/>
                </a:solidFill>
                <a:latin typeface="Calibri"/>
              </a:endParaRPr>
            </a:p>
          </p:txBody>
        </p:sp>
        <p:sp>
          <p:nvSpPr>
            <p:cNvPr id="295" name="TextBox 10"/>
            <p:cNvSpPr/>
            <p:nvPr/>
          </p:nvSpPr>
          <p:spPr>
            <a:xfrm>
              <a:off x="4076640" y="4902120"/>
              <a:ext cx="279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2</a:t>
              </a:r>
              <a:endParaRPr b="0" lang="en-US" sz="900" spc="-1" strike="noStrike">
                <a:solidFill>
                  <a:srgbClr val="000000"/>
                </a:solidFill>
                <a:latin typeface="Calibri"/>
              </a:endParaRPr>
            </a:p>
          </p:txBody>
        </p:sp>
        <p:sp>
          <p:nvSpPr>
            <p:cNvPr id="296" name="TextBox 11"/>
            <p:cNvSpPr/>
            <p:nvPr/>
          </p:nvSpPr>
          <p:spPr>
            <a:xfrm>
              <a:off x="4521240" y="49147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3</a:t>
              </a:r>
              <a:endParaRPr b="0" lang="en-US" sz="1000" spc="-1" strike="noStrike">
                <a:solidFill>
                  <a:srgbClr val="000000"/>
                </a:solidFill>
                <a:latin typeface="Calibri"/>
              </a:endParaRPr>
            </a:p>
          </p:txBody>
        </p:sp>
        <p:sp>
          <p:nvSpPr>
            <p:cNvPr id="297" name="TextBox 12"/>
            <p:cNvSpPr/>
            <p:nvPr/>
          </p:nvSpPr>
          <p:spPr>
            <a:xfrm>
              <a:off x="4991040" y="49147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4</a:t>
              </a:r>
              <a:endParaRPr b="0" lang="en-US" sz="1000" spc="-1" strike="noStrike">
                <a:solidFill>
                  <a:srgbClr val="000000"/>
                </a:solidFill>
                <a:latin typeface="Calibri"/>
              </a:endParaRPr>
            </a:p>
          </p:txBody>
        </p:sp>
        <p:sp>
          <p:nvSpPr>
            <p:cNvPr id="298" name="TextBox 13"/>
            <p:cNvSpPr/>
            <p:nvPr/>
          </p:nvSpPr>
          <p:spPr>
            <a:xfrm>
              <a:off x="5461200" y="49021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5</a:t>
              </a:r>
              <a:endParaRPr b="0" lang="en-US" sz="1000" spc="-1" strike="noStrike">
                <a:solidFill>
                  <a:srgbClr val="000000"/>
                </a:solidFill>
                <a:latin typeface="Calibri"/>
              </a:endParaRPr>
            </a:p>
          </p:txBody>
        </p:sp>
        <p:grpSp>
          <p:nvGrpSpPr>
            <p:cNvPr id="299" name="Group 19"/>
            <p:cNvGrpSpPr/>
            <p:nvPr/>
          </p:nvGrpSpPr>
          <p:grpSpPr>
            <a:xfrm>
              <a:off x="388800" y="4662360"/>
              <a:ext cx="5683320" cy="258120"/>
              <a:chOff x="388800" y="4662360"/>
              <a:chExt cx="5683320" cy="258120"/>
            </a:xfrm>
          </p:grpSpPr>
          <p:sp>
            <p:nvSpPr>
              <p:cNvPr id="300" name="Freeform 14"/>
              <p:cNvSpPr/>
              <p:nvPr/>
            </p:nvSpPr>
            <p:spPr>
              <a:xfrm>
                <a:off x="396360" y="4785480"/>
                <a:ext cx="5674320" cy="9720"/>
              </a:xfrm>
              <a:custGeom>
                <a:avLst/>
                <a:gdLst>
                  <a:gd name="textAreaLeft" fmla="*/ 0 w 5674320"/>
                  <a:gd name="textAreaRight" fmla="*/ 5674680 w 5674320"/>
                  <a:gd name="textAreaTop" fmla="*/ 0 h 9720"/>
                  <a:gd name="textAreaBottom" fmla="*/ 10080 h 9720"/>
                </a:gdLst>
                <a:ahLst/>
                <a:rect l="textAreaLeft" t="textAreaTop" r="textAreaRight" b="textAreaBottom"/>
                <a:pathLst>
                  <a:path w="5673471" h="9779">
                    <a:moveTo>
                      <a:pt x="0" y="9778"/>
                    </a:moveTo>
                    <a:lnTo>
                      <a:pt x="0" y="0"/>
                    </a:lnTo>
                    <a:lnTo>
                      <a:pt x="5673470" y="0"/>
                    </a:lnTo>
                    <a:lnTo>
                      <a:pt x="5673470" y="9778"/>
                    </a:lnTo>
                    <a:close/>
                  </a:path>
                </a:pathLst>
              </a:custGeom>
              <a:solidFill>
                <a:srgbClr val="000000"/>
              </a:solidFill>
              <a:ln w="0">
                <a:solidFill>
                  <a:srgbClr val="000000"/>
                </a:solidFill>
              </a:ln>
            </p:spPr>
            <p:style>
              <a:lnRef idx="0"/>
              <a:fillRef idx="0"/>
              <a:effectRef idx="0"/>
              <a:fontRef idx="minor"/>
            </p:style>
            <p:txBody>
              <a:bodyPr lIns="90000" rIns="90000" tIns="-36720" bIns="-36720" anchor="ctr">
                <a:noAutofit/>
              </a:bodyPr>
              <a:p>
                <a:endParaRPr b="0" lang="en-US" sz="1800" spc="-1" strike="noStrike">
                  <a:solidFill>
                    <a:srgbClr val="000000"/>
                  </a:solidFill>
                  <a:latin typeface="Calibri"/>
                </a:endParaRPr>
              </a:p>
            </p:txBody>
          </p:sp>
          <p:sp>
            <p:nvSpPr>
              <p:cNvPr id="301" name="Freeform 15"/>
              <p:cNvSpPr/>
              <p:nvPr/>
            </p:nvSpPr>
            <p:spPr>
              <a:xfrm>
                <a:off x="388800" y="466236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0" h="134747">
                    <a:moveTo>
                      <a:pt x="7874" y="134746"/>
                    </a:moveTo>
                    <a:lnTo>
                      <a:pt x="0" y="127889"/>
                    </a:lnTo>
                    <a:lnTo>
                      <a:pt x="155828" y="0"/>
                    </a:lnTo>
                    <a:lnTo>
                      <a:pt x="163829" y="673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2" name="Freeform 16"/>
              <p:cNvSpPr/>
              <p:nvPr/>
            </p:nvSpPr>
            <p:spPr>
              <a:xfrm>
                <a:off x="390960" y="478512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1" h="134749">
                    <a:moveTo>
                      <a:pt x="0" y="6731"/>
                    </a:moveTo>
                    <a:lnTo>
                      <a:pt x="8000" y="0"/>
                    </a:lnTo>
                    <a:lnTo>
                      <a:pt x="163830" y="127890"/>
                    </a:lnTo>
                    <a:lnTo>
                      <a:pt x="155956" y="13474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3" name="Freeform 17"/>
              <p:cNvSpPr/>
              <p:nvPr/>
            </p:nvSpPr>
            <p:spPr>
              <a:xfrm>
                <a:off x="5908320" y="466272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1" h="134620">
                    <a:moveTo>
                      <a:pt x="163830" y="127888"/>
                    </a:moveTo>
                    <a:lnTo>
                      <a:pt x="155956" y="134619"/>
                    </a:lnTo>
                    <a:lnTo>
                      <a:pt x="0" y="6857"/>
                    </a:lnTo>
                    <a:lnTo>
                      <a:pt x="7874"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4" name="Freeform 18"/>
              <p:cNvSpPr/>
              <p:nvPr/>
            </p:nvSpPr>
            <p:spPr>
              <a:xfrm>
                <a:off x="5906160" y="478548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1" h="134621">
                    <a:moveTo>
                      <a:pt x="155956" y="0"/>
                    </a:moveTo>
                    <a:lnTo>
                      <a:pt x="163830" y="6858"/>
                    </a:lnTo>
                    <a:lnTo>
                      <a:pt x="8002" y="134620"/>
                    </a:lnTo>
                    <a:lnTo>
                      <a:pt x="0" y="12788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305" name="Freeform 20"/>
            <p:cNvSpPr/>
            <p:nvPr/>
          </p:nvSpPr>
          <p:spPr>
            <a:xfrm>
              <a:off x="5565600" y="468648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4" h="195709">
                  <a:moveTo>
                    <a:pt x="0" y="0"/>
                  </a:moveTo>
                  <a:lnTo>
                    <a:pt x="12573" y="0"/>
                  </a:lnTo>
                  <a:lnTo>
                    <a:pt x="12573"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6" name="Freeform 21"/>
            <p:cNvSpPr/>
            <p:nvPr/>
          </p:nvSpPr>
          <p:spPr>
            <a:xfrm>
              <a:off x="5104440" y="468648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446" h="195709">
                  <a:moveTo>
                    <a:pt x="0" y="0"/>
                  </a:moveTo>
                  <a:lnTo>
                    <a:pt x="12445" y="0"/>
                  </a:lnTo>
                  <a:lnTo>
                    <a:pt x="12445"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7" name="Freeform 22"/>
            <p:cNvSpPr/>
            <p:nvPr/>
          </p:nvSpPr>
          <p:spPr>
            <a:xfrm>
              <a:off x="4615200" y="468648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4" h="195709">
                  <a:moveTo>
                    <a:pt x="0" y="0"/>
                  </a:moveTo>
                  <a:lnTo>
                    <a:pt x="12573" y="0"/>
                  </a:lnTo>
                  <a:lnTo>
                    <a:pt x="12573"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8" name="Freeform 23"/>
            <p:cNvSpPr/>
            <p:nvPr/>
          </p:nvSpPr>
          <p:spPr>
            <a:xfrm>
              <a:off x="4153680" y="468648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5" h="195709">
                  <a:moveTo>
                    <a:pt x="0" y="0"/>
                  </a:moveTo>
                  <a:lnTo>
                    <a:pt x="12574" y="0"/>
                  </a:lnTo>
                  <a:lnTo>
                    <a:pt x="12574"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9" name="Freeform 24"/>
            <p:cNvSpPr/>
            <p:nvPr/>
          </p:nvSpPr>
          <p:spPr>
            <a:xfrm>
              <a:off x="3692520" y="468648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448" h="195709">
                  <a:moveTo>
                    <a:pt x="0" y="0"/>
                  </a:moveTo>
                  <a:lnTo>
                    <a:pt x="12447" y="0"/>
                  </a:lnTo>
                  <a:lnTo>
                    <a:pt x="12447"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0" name="Freeform 25"/>
            <p:cNvSpPr/>
            <p:nvPr/>
          </p:nvSpPr>
          <p:spPr>
            <a:xfrm>
              <a:off x="2732400" y="46944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4" h="195834">
                  <a:moveTo>
                    <a:pt x="0" y="0"/>
                  </a:moveTo>
                  <a:lnTo>
                    <a:pt x="12573" y="0"/>
                  </a:lnTo>
                  <a:lnTo>
                    <a:pt x="12573"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1" name="Freeform 26"/>
            <p:cNvSpPr/>
            <p:nvPr/>
          </p:nvSpPr>
          <p:spPr>
            <a:xfrm>
              <a:off x="2271240" y="46944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5" h="195834">
                  <a:moveTo>
                    <a:pt x="0" y="0"/>
                  </a:moveTo>
                  <a:lnTo>
                    <a:pt x="12574" y="0"/>
                  </a:lnTo>
                  <a:lnTo>
                    <a:pt x="12574"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2" name="Freeform 27"/>
            <p:cNvSpPr/>
            <p:nvPr/>
          </p:nvSpPr>
          <p:spPr>
            <a:xfrm>
              <a:off x="1781640" y="46944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5" h="195834">
                  <a:moveTo>
                    <a:pt x="0" y="0"/>
                  </a:moveTo>
                  <a:lnTo>
                    <a:pt x="12574" y="0"/>
                  </a:lnTo>
                  <a:lnTo>
                    <a:pt x="12574"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3" name="Freeform 28"/>
            <p:cNvSpPr/>
            <p:nvPr/>
          </p:nvSpPr>
          <p:spPr>
            <a:xfrm>
              <a:off x="1320480" y="46944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4" h="195834">
                  <a:moveTo>
                    <a:pt x="0" y="0"/>
                  </a:moveTo>
                  <a:lnTo>
                    <a:pt x="12573" y="0"/>
                  </a:lnTo>
                  <a:lnTo>
                    <a:pt x="12573"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4" name="Freeform 29"/>
            <p:cNvSpPr/>
            <p:nvPr/>
          </p:nvSpPr>
          <p:spPr>
            <a:xfrm>
              <a:off x="859320" y="46944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3" h="195834">
                  <a:moveTo>
                    <a:pt x="0" y="0"/>
                  </a:moveTo>
                  <a:lnTo>
                    <a:pt x="12572" y="0"/>
                  </a:lnTo>
                  <a:lnTo>
                    <a:pt x="12572"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5" name="Freeform 30"/>
            <p:cNvSpPr/>
            <p:nvPr/>
          </p:nvSpPr>
          <p:spPr>
            <a:xfrm>
              <a:off x="3212640" y="468648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448" h="195709">
                  <a:moveTo>
                    <a:pt x="0" y="0"/>
                  </a:moveTo>
                  <a:lnTo>
                    <a:pt x="12447" y="0"/>
                  </a:lnTo>
                  <a:lnTo>
                    <a:pt x="12447"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316" name="Group 60"/>
          <p:cNvGrpSpPr/>
          <p:nvPr/>
        </p:nvGrpSpPr>
        <p:grpSpPr>
          <a:xfrm>
            <a:off x="363600" y="6249960"/>
            <a:ext cx="5683320" cy="607680"/>
            <a:chOff x="363600" y="6249960"/>
            <a:chExt cx="5683320" cy="607680"/>
          </a:xfrm>
        </p:grpSpPr>
        <p:sp>
          <p:nvSpPr>
            <p:cNvPr id="317" name="TextBox 32"/>
            <p:cNvSpPr/>
            <p:nvPr/>
          </p:nvSpPr>
          <p:spPr>
            <a:xfrm>
              <a:off x="2539800" y="648936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1</a:t>
              </a:r>
              <a:endParaRPr b="0" lang="en-US" sz="900" spc="-1" strike="noStrike">
                <a:solidFill>
                  <a:srgbClr val="000000"/>
                </a:solidFill>
                <a:latin typeface="Calibri"/>
              </a:endParaRPr>
            </a:p>
          </p:txBody>
        </p:sp>
        <p:sp>
          <p:nvSpPr>
            <p:cNvPr id="318" name="TextBox 33"/>
            <p:cNvSpPr/>
            <p:nvPr/>
          </p:nvSpPr>
          <p:spPr>
            <a:xfrm>
              <a:off x="3098520" y="6502320"/>
              <a:ext cx="3045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0</a:t>
              </a:r>
              <a:endParaRPr b="0" lang="en-US" sz="900" spc="-1" strike="noStrike">
                <a:solidFill>
                  <a:srgbClr val="000000"/>
                </a:solidFill>
                <a:latin typeface="Calibri"/>
              </a:endParaRPr>
            </a:p>
          </p:txBody>
        </p:sp>
        <p:sp>
          <p:nvSpPr>
            <p:cNvPr id="319" name="TextBox 34"/>
            <p:cNvSpPr/>
            <p:nvPr/>
          </p:nvSpPr>
          <p:spPr>
            <a:xfrm>
              <a:off x="2095200" y="6489360"/>
              <a:ext cx="27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2</a:t>
              </a:r>
              <a:endParaRPr b="0" lang="en-US" sz="900" spc="-1" strike="noStrike">
                <a:solidFill>
                  <a:srgbClr val="000000"/>
                </a:solidFill>
                <a:latin typeface="Calibri"/>
              </a:endParaRPr>
            </a:p>
          </p:txBody>
        </p:sp>
        <p:sp>
          <p:nvSpPr>
            <p:cNvPr id="320" name="TextBox 35"/>
            <p:cNvSpPr/>
            <p:nvPr/>
          </p:nvSpPr>
          <p:spPr>
            <a:xfrm>
              <a:off x="1599840" y="648936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3</a:t>
              </a:r>
              <a:endParaRPr b="0" lang="en-US" sz="1000" spc="-1" strike="noStrike">
                <a:solidFill>
                  <a:srgbClr val="000000"/>
                </a:solidFill>
                <a:latin typeface="Calibri"/>
              </a:endParaRPr>
            </a:p>
          </p:txBody>
        </p:sp>
        <p:sp>
          <p:nvSpPr>
            <p:cNvPr id="321" name="TextBox 36"/>
            <p:cNvSpPr/>
            <p:nvPr/>
          </p:nvSpPr>
          <p:spPr>
            <a:xfrm>
              <a:off x="1129680" y="648936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4</a:t>
              </a:r>
              <a:endParaRPr b="0" lang="en-US" sz="1000" spc="-1" strike="noStrike">
                <a:solidFill>
                  <a:srgbClr val="000000"/>
                </a:solidFill>
                <a:latin typeface="Calibri"/>
              </a:endParaRPr>
            </a:p>
          </p:txBody>
        </p:sp>
        <p:sp>
          <p:nvSpPr>
            <p:cNvPr id="322" name="TextBox 37"/>
            <p:cNvSpPr/>
            <p:nvPr/>
          </p:nvSpPr>
          <p:spPr>
            <a:xfrm>
              <a:off x="685080" y="648936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5</a:t>
              </a:r>
              <a:endParaRPr b="0" lang="en-US" sz="1000" spc="-1" strike="noStrike">
                <a:solidFill>
                  <a:srgbClr val="000000"/>
                </a:solidFill>
                <a:latin typeface="Calibri"/>
              </a:endParaRPr>
            </a:p>
          </p:txBody>
        </p:sp>
        <p:sp>
          <p:nvSpPr>
            <p:cNvPr id="323" name="TextBox 38"/>
            <p:cNvSpPr/>
            <p:nvPr/>
          </p:nvSpPr>
          <p:spPr>
            <a:xfrm>
              <a:off x="3568680" y="6489360"/>
              <a:ext cx="355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1</a:t>
              </a:r>
              <a:endParaRPr b="0" lang="en-US" sz="900" spc="-1" strike="noStrike">
                <a:solidFill>
                  <a:srgbClr val="000000"/>
                </a:solidFill>
                <a:latin typeface="Calibri"/>
              </a:endParaRPr>
            </a:p>
          </p:txBody>
        </p:sp>
        <p:sp>
          <p:nvSpPr>
            <p:cNvPr id="324" name="TextBox 39"/>
            <p:cNvSpPr/>
            <p:nvPr/>
          </p:nvSpPr>
          <p:spPr>
            <a:xfrm>
              <a:off x="4051440" y="6489360"/>
              <a:ext cx="279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2</a:t>
              </a:r>
              <a:endParaRPr b="0" lang="en-US" sz="900" spc="-1" strike="noStrike">
                <a:solidFill>
                  <a:srgbClr val="000000"/>
                </a:solidFill>
                <a:latin typeface="Calibri"/>
              </a:endParaRPr>
            </a:p>
          </p:txBody>
        </p:sp>
        <p:sp>
          <p:nvSpPr>
            <p:cNvPr id="325" name="TextBox 40"/>
            <p:cNvSpPr/>
            <p:nvPr/>
          </p:nvSpPr>
          <p:spPr>
            <a:xfrm>
              <a:off x="4496040" y="65023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3</a:t>
              </a:r>
              <a:endParaRPr b="0" lang="en-US" sz="1000" spc="-1" strike="noStrike">
                <a:solidFill>
                  <a:srgbClr val="000000"/>
                </a:solidFill>
                <a:latin typeface="Calibri"/>
              </a:endParaRPr>
            </a:p>
          </p:txBody>
        </p:sp>
        <p:sp>
          <p:nvSpPr>
            <p:cNvPr id="326" name="TextBox 41"/>
            <p:cNvSpPr/>
            <p:nvPr/>
          </p:nvSpPr>
          <p:spPr>
            <a:xfrm>
              <a:off x="4965840" y="65023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4</a:t>
              </a:r>
              <a:endParaRPr b="0" lang="en-US" sz="1000" spc="-1" strike="noStrike">
                <a:solidFill>
                  <a:srgbClr val="000000"/>
                </a:solidFill>
                <a:latin typeface="Calibri"/>
              </a:endParaRPr>
            </a:p>
          </p:txBody>
        </p:sp>
        <p:sp>
          <p:nvSpPr>
            <p:cNvPr id="327" name="TextBox 42"/>
            <p:cNvSpPr/>
            <p:nvPr/>
          </p:nvSpPr>
          <p:spPr>
            <a:xfrm>
              <a:off x="5436000" y="648936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2"/>
                </a:rPr>
                <a:t>5</a:t>
              </a:r>
              <a:endParaRPr b="0" lang="en-US" sz="1000" spc="-1" strike="noStrike">
                <a:solidFill>
                  <a:srgbClr val="000000"/>
                </a:solidFill>
                <a:latin typeface="Calibri"/>
              </a:endParaRPr>
            </a:p>
          </p:txBody>
        </p:sp>
        <p:grpSp>
          <p:nvGrpSpPr>
            <p:cNvPr id="328" name="Group 48"/>
            <p:cNvGrpSpPr/>
            <p:nvPr/>
          </p:nvGrpSpPr>
          <p:grpSpPr>
            <a:xfrm>
              <a:off x="363600" y="6249960"/>
              <a:ext cx="5683320" cy="258120"/>
              <a:chOff x="363600" y="6249960"/>
              <a:chExt cx="5683320" cy="258120"/>
            </a:xfrm>
          </p:grpSpPr>
          <p:sp>
            <p:nvSpPr>
              <p:cNvPr id="329" name="Freeform 43"/>
              <p:cNvSpPr/>
              <p:nvPr/>
            </p:nvSpPr>
            <p:spPr>
              <a:xfrm>
                <a:off x="371160" y="6373080"/>
                <a:ext cx="5674320" cy="9720"/>
              </a:xfrm>
              <a:custGeom>
                <a:avLst/>
                <a:gdLst>
                  <a:gd name="textAreaLeft" fmla="*/ 0 w 5674320"/>
                  <a:gd name="textAreaRight" fmla="*/ 5674680 w 5674320"/>
                  <a:gd name="textAreaTop" fmla="*/ 0 h 9720"/>
                  <a:gd name="textAreaBottom" fmla="*/ 10080 h 9720"/>
                </a:gdLst>
                <a:ahLst/>
                <a:rect l="textAreaLeft" t="textAreaTop" r="textAreaRight" b="textAreaBottom"/>
                <a:pathLst>
                  <a:path w="5673471" h="9779">
                    <a:moveTo>
                      <a:pt x="0" y="9778"/>
                    </a:moveTo>
                    <a:lnTo>
                      <a:pt x="0" y="0"/>
                    </a:lnTo>
                    <a:lnTo>
                      <a:pt x="5673470" y="0"/>
                    </a:lnTo>
                    <a:lnTo>
                      <a:pt x="5673470" y="9778"/>
                    </a:lnTo>
                    <a:close/>
                  </a:path>
                </a:pathLst>
              </a:custGeom>
              <a:solidFill>
                <a:srgbClr val="000000"/>
              </a:solidFill>
              <a:ln w="0">
                <a:solidFill>
                  <a:srgbClr val="000000"/>
                </a:solidFill>
              </a:ln>
            </p:spPr>
            <p:style>
              <a:lnRef idx="0"/>
              <a:fillRef idx="0"/>
              <a:effectRef idx="0"/>
              <a:fontRef idx="minor"/>
            </p:style>
            <p:txBody>
              <a:bodyPr lIns="90000" rIns="90000" tIns="-36720" bIns="-36720" anchor="ctr">
                <a:noAutofit/>
              </a:bodyPr>
              <a:p>
                <a:endParaRPr b="0" lang="en-US" sz="1800" spc="-1" strike="noStrike">
                  <a:solidFill>
                    <a:srgbClr val="000000"/>
                  </a:solidFill>
                  <a:latin typeface="Calibri"/>
                </a:endParaRPr>
              </a:p>
            </p:txBody>
          </p:sp>
          <p:sp>
            <p:nvSpPr>
              <p:cNvPr id="330" name="Freeform 44"/>
              <p:cNvSpPr/>
              <p:nvPr/>
            </p:nvSpPr>
            <p:spPr>
              <a:xfrm>
                <a:off x="363600" y="624996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0" h="134747">
                    <a:moveTo>
                      <a:pt x="7874" y="134746"/>
                    </a:moveTo>
                    <a:lnTo>
                      <a:pt x="0" y="127889"/>
                    </a:lnTo>
                    <a:lnTo>
                      <a:pt x="155828" y="0"/>
                    </a:lnTo>
                    <a:lnTo>
                      <a:pt x="163829" y="673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1" name="Freeform 45"/>
              <p:cNvSpPr/>
              <p:nvPr/>
            </p:nvSpPr>
            <p:spPr>
              <a:xfrm>
                <a:off x="365760" y="637272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1" h="134748">
                    <a:moveTo>
                      <a:pt x="0" y="6731"/>
                    </a:moveTo>
                    <a:lnTo>
                      <a:pt x="8000" y="0"/>
                    </a:lnTo>
                    <a:lnTo>
                      <a:pt x="163830" y="127890"/>
                    </a:lnTo>
                    <a:lnTo>
                      <a:pt x="155956" y="13474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2" name="Freeform 46"/>
              <p:cNvSpPr/>
              <p:nvPr/>
            </p:nvSpPr>
            <p:spPr>
              <a:xfrm>
                <a:off x="5883120" y="625032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1" h="134620">
                    <a:moveTo>
                      <a:pt x="163830" y="127888"/>
                    </a:moveTo>
                    <a:lnTo>
                      <a:pt x="155956" y="134619"/>
                    </a:lnTo>
                    <a:lnTo>
                      <a:pt x="0" y="6857"/>
                    </a:lnTo>
                    <a:lnTo>
                      <a:pt x="7874"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3" name="Freeform 47"/>
              <p:cNvSpPr/>
              <p:nvPr/>
            </p:nvSpPr>
            <p:spPr>
              <a:xfrm>
                <a:off x="5880960" y="6373080"/>
                <a:ext cx="163800" cy="135000"/>
              </a:xfrm>
              <a:custGeom>
                <a:avLst/>
                <a:gdLst>
                  <a:gd name="textAreaLeft" fmla="*/ 0 w 163800"/>
                  <a:gd name="textAreaRight" fmla="*/ 164160 w 163800"/>
                  <a:gd name="textAreaTop" fmla="*/ 0 h 135000"/>
                  <a:gd name="textAreaBottom" fmla="*/ 135360 h 135000"/>
                </a:gdLst>
                <a:ahLst/>
                <a:rect l="textAreaLeft" t="textAreaTop" r="textAreaRight" b="textAreaBottom"/>
                <a:pathLst>
                  <a:path w="163831" h="134621">
                    <a:moveTo>
                      <a:pt x="155956" y="0"/>
                    </a:moveTo>
                    <a:lnTo>
                      <a:pt x="163830" y="6858"/>
                    </a:lnTo>
                    <a:lnTo>
                      <a:pt x="8002" y="134620"/>
                    </a:lnTo>
                    <a:lnTo>
                      <a:pt x="0" y="12788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334" name="Freeform 49"/>
            <p:cNvSpPr/>
            <p:nvPr/>
          </p:nvSpPr>
          <p:spPr>
            <a:xfrm>
              <a:off x="5540400" y="6274080"/>
              <a:ext cx="12240" cy="195840"/>
            </a:xfrm>
            <a:custGeom>
              <a:avLst/>
              <a:gdLst>
                <a:gd name="textAreaLeft" fmla="*/ 0 w 12240"/>
                <a:gd name="textAreaRight" fmla="*/ 12600 w 12240"/>
                <a:gd name="textAreaTop" fmla="*/ 0 h 195840"/>
                <a:gd name="textAreaBottom" fmla="*/ 196200 h 195840"/>
              </a:gdLst>
              <a:ahLst/>
              <a:rect l="textAreaLeft" t="textAreaTop" r="textAreaRight" b="textAreaBottom"/>
              <a:pathLst>
                <a:path w="12574" h="195709">
                  <a:moveTo>
                    <a:pt x="0" y="0"/>
                  </a:moveTo>
                  <a:lnTo>
                    <a:pt x="12573" y="0"/>
                  </a:lnTo>
                  <a:lnTo>
                    <a:pt x="12573"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5" name="Freeform 50"/>
            <p:cNvSpPr/>
            <p:nvPr/>
          </p:nvSpPr>
          <p:spPr>
            <a:xfrm>
              <a:off x="5079240" y="6274080"/>
              <a:ext cx="12240" cy="195840"/>
            </a:xfrm>
            <a:custGeom>
              <a:avLst/>
              <a:gdLst>
                <a:gd name="textAreaLeft" fmla="*/ 0 w 12240"/>
                <a:gd name="textAreaRight" fmla="*/ 12600 w 12240"/>
                <a:gd name="textAreaTop" fmla="*/ 0 h 195840"/>
                <a:gd name="textAreaBottom" fmla="*/ 196200 h 195840"/>
              </a:gdLst>
              <a:ahLst/>
              <a:rect l="textAreaLeft" t="textAreaTop" r="textAreaRight" b="textAreaBottom"/>
              <a:pathLst>
                <a:path w="12446" h="195709">
                  <a:moveTo>
                    <a:pt x="0" y="0"/>
                  </a:moveTo>
                  <a:lnTo>
                    <a:pt x="12445" y="0"/>
                  </a:lnTo>
                  <a:lnTo>
                    <a:pt x="12445"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6" name="Freeform 51"/>
            <p:cNvSpPr/>
            <p:nvPr/>
          </p:nvSpPr>
          <p:spPr>
            <a:xfrm>
              <a:off x="4590000" y="6274080"/>
              <a:ext cx="12240" cy="195840"/>
            </a:xfrm>
            <a:custGeom>
              <a:avLst/>
              <a:gdLst>
                <a:gd name="textAreaLeft" fmla="*/ 0 w 12240"/>
                <a:gd name="textAreaRight" fmla="*/ 12600 w 12240"/>
                <a:gd name="textAreaTop" fmla="*/ 0 h 195840"/>
                <a:gd name="textAreaBottom" fmla="*/ 196200 h 195840"/>
              </a:gdLst>
              <a:ahLst/>
              <a:rect l="textAreaLeft" t="textAreaTop" r="textAreaRight" b="textAreaBottom"/>
              <a:pathLst>
                <a:path w="12574" h="195709">
                  <a:moveTo>
                    <a:pt x="0" y="0"/>
                  </a:moveTo>
                  <a:lnTo>
                    <a:pt x="12573" y="0"/>
                  </a:lnTo>
                  <a:lnTo>
                    <a:pt x="12573"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7" name="Freeform 52"/>
            <p:cNvSpPr/>
            <p:nvPr/>
          </p:nvSpPr>
          <p:spPr>
            <a:xfrm>
              <a:off x="4128480" y="6274080"/>
              <a:ext cx="12240" cy="195840"/>
            </a:xfrm>
            <a:custGeom>
              <a:avLst/>
              <a:gdLst>
                <a:gd name="textAreaLeft" fmla="*/ 0 w 12240"/>
                <a:gd name="textAreaRight" fmla="*/ 12600 w 12240"/>
                <a:gd name="textAreaTop" fmla="*/ 0 h 195840"/>
                <a:gd name="textAreaBottom" fmla="*/ 196200 h 195840"/>
              </a:gdLst>
              <a:ahLst/>
              <a:rect l="textAreaLeft" t="textAreaTop" r="textAreaRight" b="textAreaBottom"/>
              <a:pathLst>
                <a:path w="12575" h="195709">
                  <a:moveTo>
                    <a:pt x="0" y="0"/>
                  </a:moveTo>
                  <a:lnTo>
                    <a:pt x="12574" y="0"/>
                  </a:lnTo>
                  <a:lnTo>
                    <a:pt x="12574"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8" name="Freeform 53"/>
            <p:cNvSpPr/>
            <p:nvPr/>
          </p:nvSpPr>
          <p:spPr>
            <a:xfrm>
              <a:off x="3667320" y="6274080"/>
              <a:ext cx="12240" cy="195840"/>
            </a:xfrm>
            <a:custGeom>
              <a:avLst/>
              <a:gdLst>
                <a:gd name="textAreaLeft" fmla="*/ 0 w 12240"/>
                <a:gd name="textAreaRight" fmla="*/ 12600 w 12240"/>
                <a:gd name="textAreaTop" fmla="*/ 0 h 195840"/>
                <a:gd name="textAreaBottom" fmla="*/ 196200 h 195840"/>
              </a:gdLst>
              <a:ahLst/>
              <a:rect l="textAreaLeft" t="textAreaTop" r="textAreaRight" b="textAreaBottom"/>
              <a:pathLst>
                <a:path w="12448" h="195709">
                  <a:moveTo>
                    <a:pt x="0" y="0"/>
                  </a:moveTo>
                  <a:lnTo>
                    <a:pt x="12447" y="0"/>
                  </a:lnTo>
                  <a:lnTo>
                    <a:pt x="12447"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9" name="Freeform 54"/>
            <p:cNvSpPr/>
            <p:nvPr/>
          </p:nvSpPr>
          <p:spPr>
            <a:xfrm>
              <a:off x="2707200" y="62820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4" h="195834">
                  <a:moveTo>
                    <a:pt x="0" y="0"/>
                  </a:moveTo>
                  <a:lnTo>
                    <a:pt x="12573" y="0"/>
                  </a:lnTo>
                  <a:lnTo>
                    <a:pt x="12573"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0" name="Freeform 55"/>
            <p:cNvSpPr/>
            <p:nvPr/>
          </p:nvSpPr>
          <p:spPr>
            <a:xfrm>
              <a:off x="2246040" y="62820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5" h="195834">
                  <a:moveTo>
                    <a:pt x="0" y="0"/>
                  </a:moveTo>
                  <a:lnTo>
                    <a:pt x="12574" y="0"/>
                  </a:lnTo>
                  <a:lnTo>
                    <a:pt x="12574"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1" name="Freeform 56"/>
            <p:cNvSpPr/>
            <p:nvPr/>
          </p:nvSpPr>
          <p:spPr>
            <a:xfrm>
              <a:off x="1756440" y="62820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5" h="195834">
                  <a:moveTo>
                    <a:pt x="0" y="0"/>
                  </a:moveTo>
                  <a:lnTo>
                    <a:pt x="12574" y="0"/>
                  </a:lnTo>
                  <a:lnTo>
                    <a:pt x="12574"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2" name="Freeform 57"/>
            <p:cNvSpPr/>
            <p:nvPr/>
          </p:nvSpPr>
          <p:spPr>
            <a:xfrm>
              <a:off x="1295280" y="62820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4" h="195834">
                  <a:moveTo>
                    <a:pt x="0" y="0"/>
                  </a:moveTo>
                  <a:lnTo>
                    <a:pt x="12573" y="0"/>
                  </a:lnTo>
                  <a:lnTo>
                    <a:pt x="12573"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3" name="Freeform 58"/>
            <p:cNvSpPr/>
            <p:nvPr/>
          </p:nvSpPr>
          <p:spPr>
            <a:xfrm>
              <a:off x="834120" y="6282000"/>
              <a:ext cx="12240" cy="196200"/>
            </a:xfrm>
            <a:custGeom>
              <a:avLst/>
              <a:gdLst>
                <a:gd name="textAreaLeft" fmla="*/ 0 w 12240"/>
                <a:gd name="textAreaRight" fmla="*/ 12600 w 12240"/>
                <a:gd name="textAreaTop" fmla="*/ 0 h 196200"/>
                <a:gd name="textAreaBottom" fmla="*/ 196560 h 196200"/>
              </a:gdLst>
              <a:ahLst/>
              <a:rect l="textAreaLeft" t="textAreaTop" r="textAreaRight" b="textAreaBottom"/>
              <a:pathLst>
                <a:path w="12573" h="195834">
                  <a:moveTo>
                    <a:pt x="0" y="0"/>
                  </a:moveTo>
                  <a:lnTo>
                    <a:pt x="12572" y="0"/>
                  </a:lnTo>
                  <a:lnTo>
                    <a:pt x="12572" y="195833"/>
                  </a:lnTo>
                  <a:lnTo>
                    <a:pt x="0" y="1958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4" name="Freeform 59"/>
            <p:cNvSpPr/>
            <p:nvPr/>
          </p:nvSpPr>
          <p:spPr>
            <a:xfrm>
              <a:off x="3187440" y="6274080"/>
              <a:ext cx="12240" cy="195840"/>
            </a:xfrm>
            <a:custGeom>
              <a:avLst/>
              <a:gdLst>
                <a:gd name="textAreaLeft" fmla="*/ 0 w 12240"/>
                <a:gd name="textAreaRight" fmla="*/ 12600 w 12240"/>
                <a:gd name="textAreaTop" fmla="*/ 0 h 195840"/>
                <a:gd name="textAreaBottom" fmla="*/ 196200 h 195840"/>
              </a:gdLst>
              <a:ahLst/>
              <a:rect l="textAreaLeft" t="textAreaTop" r="textAreaRight" b="textAreaBottom"/>
              <a:pathLst>
                <a:path w="12448" h="195709">
                  <a:moveTo>
                    <a:pt x="0" y="0"/>
                  </a:moveTo>
                  <a:lnTo>
                    <a:pt x="12447" y="0"/>
                  </a:lnTo>
                  <a:lnTo>
                    <a:pt x="12447" y="195708"/>
                  </a:lnTo>
                  <a:lnTo>
                    <a:pt x="0" y="1957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345" name="Straight Connector 61"/>
          <p:cNvSpPr/>
          <p:nvPr/>
        </p:nvSpPr>
        <p:spPr>
          <a:xfrm>
            <a:off x="3200400" y="4419720"/>
            <a:ext cx="1371600" cy="0"/>
          </a:xfrm>
          <a:prstGeom prst="line">
            <a:avLst/>
          </a:prstGeom>
          <a:ln w="3816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6" name="Straight Connector 62"/>
          <p:cNvSpPr/>
          <p:nvPr/>
        </p:nvSpPr>
        <p:spPr>
          <a:xfrm flipH="1">
            <a:off x="863640" y="6070680"/>
            <a:ext cx="2311200" cy="0"/>
          </a:xfrm>
          <a:prstGeom prst="line">
            <a:avLst/>
          </a:prstGeom>
          <a:ln w="3816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7" name="TextBox 63"/>
          <p:cNvSpPr/>
          <p:nvPr/>
        </p:nvSpPr>
        <p:spPr>
          <a:xfrm>
            <a:off x="3632040" y="4152960"/>
            <a:ext cx="55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 16"/>
              </a:rPr>
              <a:t>+3</a:t>
            </a:r>
            <a:endParaRPr b="0" lang="en-US" sz="1600" spc="-1" strike="noStrike">
              <a:solidFill>
                <a:srgbClr val="000000"/>
              </a:solidFill>
              <a:latin typeface="Calibri"/>
            </a:endParaRPr>
          </a:p>
        </p:txBody>
      </p:sp>
      <p:sp>
        <p:nvSpPr>
          <p:cNvPr id="348" name="TextBox 64"/>
          <p:cNvSpPr/>
          <p:nvPr/>
        </p:nvSpPr>
        <p:spPr>
          <a:xfrm>
            <a:off x="1765440" y="576576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mic Sans MS - 16"/>
              </a:rPr>
              <a:t>-5</a:t>
            </a:r>
            <a:endParaRPr b="0" lang="en-US" sz="1500" spc="-1" strike="noStrike">
              <a:solidFill>
                <a:srgbClr val="000000"/>
              </a:solidFill>
              <a:latin typeface="Calibri"/>
            </a:endParaRPr>
          </a:p>
        </p:txBody>
      </p:sp>
      <p:grpSp>
        <p:nvGrpSpPr>
          <p:cNvPr id="349" name="Group 93"/>
          <p:cNvGrpSpPr/>
          <p:nvPr/>
        </p:nvGrpSpPr>
        <p:grpSpPr>
          <a:xfrm>
            <a:off x="7094520" y="3649680"/>
            <a:ext cx="405720" cy="3944880"/>
            <a:chOff x="7094520" y="3649680"/>
            <a:chExt cx="405720" cy="3944880"/>
          </a:xfrm>
        </p:grpSpPr>
        <p:sp>
          <p:nvSpPr>
            <p:cNvPr id="350" name="TextBox 65"/>
            <p:cNvSpPr/>
            <p:nvPr/>
          </p:nvSpPr>
          <p:spPr>
            <a:xfrm rot="16200000">
              <a:off x="7176240" y="5866560"/>
              <a:ext cx="2793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1</a:t>
              </a:r>
              <a:endParaRPr b="0" lang="en-US" sz="600" spc="-1" strike="noStrike">
                <a:solidFill>
                  <a:srgbClr val="000000"/>
                </a:solidFill>
                <a:latin typeface="Calibri"/>
              </a:endParaRPr>
            </a:p>
          </p:txBody>
        </p:sp>
        <p:sp>
          <p:nvSpPr>
            <p:cNvPr id="351" name="TextBox 66"/>
            <p:cNvSpPr/>
            <p:nvPr/>
          </p:nvSpPr>
          <p:spPr>
            <a:xfrm rot="16200000">
              <a:off x="7189200" y="5498640"/>
              <a:ext cx="25380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0</a:t>
              </a:r>
              <a:endParaRPr b="0" lang="en-US" sz="600" spc="-1" strike="noStrike">
                <a:solidFill>
                  <a:srgbClr val="000000"/>
                </a:solidFill>
                <a:latin typeface="Calibri"/>
              </a:endParaRPr>
            </a:p>
          </p:txBody>
        </p:sp>
        <p:sp>
          <p:nvSpPr>
            <p:cNvPr id="352" name="TextBox 67"/>
            <p:cNvSpPr/>
            <p:nvPr/>
          </p:nvSpPr>
          <p:spPr>
            <a:xfrm rot="16200000">
              <a:off x="7247520" y="6150960"/>
              <a:ext cx="22824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2</a:t>
              </a:r>
              <a:endParaRPr b="0" lang="en-US" sz="600" spc="-1" strike="noStrike">
                <a:solidFill>
                  <a:srgbClr val="000000"/>
                </a:solidFill>
                <a:latin typeface="Calibri"/>
              </a:endParaRPr>
            </a:p>
          </p:txBody>
        </p:sp>
        <p:sp>
          <p:nvSpPr>
            <p:cNvPr id="353" name="TextBox 68"/>
            <p:cNvSpPr/>
            <p:nvPr/>
          </p:nvSpPr>
          <p:spPr>
            <a:xfrm rot="16200000">
              <a:off x="7166520" y="651132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3</a:t>
              </a:r>
              <a:endParaRPr b="0" lang="en-US" sz="700" spc="-1" strike="noStrike">
                <a:solidFill>
                  <a:srgbClr val="000000"/>
                </a:solidFill>
                <a:latin typeface="Calibri"/>
              </a:endParaRPr>
            </a:p>
          </p:txBody>
        </p:sp>
        <p:sp>
          <p:nvSpPr>
            <p:cNvPr id="354" name="TextBox 69"/>
            <p:cNvSpPr/>
            <p:nvPr/>
          </p:nvSpPr>
          <p:spPr>
            <a:xfrm rot="16200000">
              <a:off x="7166520" y="682848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4</a:t>
              </a:r>
              <a:endParaRPr b="0" lang="en-US" sz="700" spc="-1" strike="noStrike">
                <a:solidFill>
                  <a:srgbClr val="000000"/>
                </a:solidFill>
                <a:latin typeface="Calibri"/>
              </a:endParaRPr>
            </a:p>
          </p:txBody>
        </p:sp>
        <p:sp>
          <p:nvSpPr>
            <p:cNvPr id="355" name="TextBox 70"/>
            <p:cNvSpPr/>
            <p:nvPr/>
          </p:nvSpPr>
          <p:spPr>
            <a:xfrm rot="16200000">
              <a:off x="7166520" y="714600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5</a:t>
              </a:r>
              <a:endParaRPr b="0" lang="en-US" sz="700" spc="-1" strike="noStrike">
                <a:solidFill>
                  <a:srgbClr val="000000"/>
                </a:solidFill>
                <a:latin typeface="Calibri"/>
              </a:endParaRPr>
            </a:p>
          </p:txBody>
        </p:sp>
        <p:sp>
          <p:nvSpPr>
            <p:cNvPr id="356" name="TextBox 71"/>
            <p:cNvSpPr/>
            <p:nvPr/>
          </p:nvSpPr>
          <p:spPr>
            <a:xfrm rot="16200000">
              <a:off x="7176240" y="5142600"/>
              <a:ext cx="2793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1</a:t>
              </a:r>
              <a:endParaRPr b="0" lang="en-US" sz="600" spc="-1" strike="noStrike">
                <a:solidFill>
                  <a:srgbClr val="000000"/>
                </a:solidFill>
                <a:latin typeface="Calibri"/>
              </a:endParaRPr>
            </a:p>
          </p:txBody>
        </p:sp>
        <p:sp>
          <p:nvSpPr>
            <p:cNvPr id="357" name="TextBox 72"/>
            <p:cNvSpPr/>
            <p:nvPr/>
          </p:nvSpPr>
          <p:spPr>
            <a:xfrm rot="16200000">
              <a:off x="7201800" y="4838040"/>
              <a:ext cx="2282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2</a:t>
              </a:r>
              <a:endParaRPr b="0" lang="en-US" sz="600" spc="-1" strike="noStrike">
                <a:solidFill>
                  <a:srgbClr val="000000"/>
                </a:solidFill>
                <a:latin typeface="Calibri"/>
              </a:endParaRPr>
            </a:p>
          </p:txBody>
        </p:sp>
        <p:sp>
          <p:nvSpPr>
            <p:cNvPr id="358" name="TextBox 73"/>
            <p:cNvSpPr/>
            <p:nvPr/>
          </p:nvSpPr>
          <p:spPr>
            <a:xfrm rot="16200000">
              <a:off x="7179480" y="449208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3</a:t>
              </a:r>
              <a:endParaRPr b="0" lang="en-US" sz="700" spc="-1" strike="noStrike">
                <a:solidFill>
                  <a:srgbClr val="000000"/>
                </a:solidFill>
                <a:latin typeface="Calibri"/>
              </a:endParaRPr>
            </a:p>
          </p:txBody>
        </p:sp>
        <p:sp>
          <p:nvSpPr>
            <p:cNvPr id="359" name="TextBox 74"/>
            <p:cNvSpPr/>
            <p:nvPr/>
          </p:nvSpPr>
          <p:spPr>
            <a:xfrm rot="16200000">
              <a:off x="7179480" y="417456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4</a:t>
              </a:r>
              <a:endParaRPr b="0" lang="en-US" sz="700" spc="-1" strike="noStrike">
                <a:solidFill>
                  <a:srgbClr val="000000"/>
                </a:solidFill>
                <a:latin typeface="Calibri"/>
              </a:endParaRPr>
            </a:p>
          </p:txBody>
        </p:sp>
        <p:sp>
          <p:nvSpPr>
            <p:cNvPr id="360" name="TextBox 75"/>
            <p:cNvSpPr/>
            <p:nvPr/>
          </p:nvSpPr>
          <p:spPr>
            <a:xfrm rot="16200000">
              <a:off x="7166520" y="384408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5</a:t>
              </a:r>
              <a:endParaRPr b="0" lang="en-US" sz="700" spc="-1" strike="noStrike">
                <a:solidFill>
                  <a:srgbClr val="000000"/>
                </a:solidFill>
                <a:latin typeface="Calibri"/>
              </a:endParaRPr>
            </a:p>
          </p:txBody>
        </p:sp>
        <p:grpSp>
          <p:nvGrpSpPr>
            <p:cNvPr id="361" name="Group 81"/>
            <p:cNvGrpSpPr/>
            <p:nvPr/>
          </p:nvGrpSpPr>
          <p:grpSpPr>
            <a:xfrm>
              <a:off x="7094520" y="3649680"/>
              <a:ext cx="139680" cy="3944880"/>
              <a:chOff x="7094520" y="3649680"/>
              <a:chExt cx="139680" cy="3944880"/>
            </a:xfrm>
          </p:grpSpPr>
          <p:sp>
            <p:nvSpPr>
              <p:cNvPr id="362" name="Freeform 76"/>
              <p:cNvSpPr/>
              <p:nvPr/>
            </p:nvSpPr>
            <p:spPr>
              <a:xfrm rot="16200000">
                <a:off x="5194080" y="5617080"/>
                <a:ext cx="3938760" cy="5040"/>
              </a:xfrm>
              <a:custGeom>
                <a:avLst/>
                <a:gdLst>
                  <a:gd name="textAreaLeft" fmla="*/ 0 w 3938760"/>
                  <a:gd name="textAreaRight" fmla="*/ 3939120 w 3938760"/>
                  <a:gd name="textAreaTop" fmla="*/ 0 h 5040"/>
                  <a:gd name="textAreaBottom" fmla="*/ 5400 h 5040"/>
                </a:gdLst>
                <a:ahLst/>
                <a:rect l="textAreaLeft" t="textAreaTop" r="textAreaRight" b="textAreaBottom"/>
                <a:pathLst>
                  <a:path w="3939160" h="5207">
                    <a:moveTo>
                      <a:pt x="0" y="5206"/>
                    </a:moveTo>
                    <a:lnTo>
                      <a:pt x="0" y="0"/>
                    </a:lnTo>
                    <a:lnTo>
                      <a:pt x="3939159" y="0"/>
                    </a:lnTo>
                    <a:lnTo>
                      <a:pt x="3939159" y="5206"/>
                    </a:lnTo>
                    <a:close/>
                  </a:path>
                </a:pathLst>
              </a:custGeom>
              <a:solidFill>
                <a:srgbClr val="000000"/>
              </a:solidFill>
              <a:ln w="0">
                <a:solidFill>
                  <a:srgbClr val="000000"/>
                </a:solidFill>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Calibri"/>
                </a:endParaRPr>
              </a:p>
            </p:txBody>
          </p:sp>
          <p:sp>
            <p:nvSpPr>
              <p:cNvPr id="363" name="Freeform 77"/>
              <p:cNvSpPr/>
              <p:nvPr/>
            </p:nvSpPr>
            <p:spPr>
              <a:xfrm rot="16200000">
                <a:off x="7074000" y="7500960"/>
                <a:ext cx="113760" cy="73080"/>
              </a:xfrm>
              <a:custGeom>
                <a:avLst/>
                <a:gdLst>
                  <a:gd name="textAreaLeft" fmla="*/ 0 w 113760"/>
                  <a:gd name="textAreaRight" fmla="*/ 114120 w 113760"/>
                  <a:gd name="textAreaTop" fmla="*/ 0 h 73080"/>
                  <a:gd name="textAreaBottom" fmla="*/ 73440 h 73080"/>
                </a:gdLst>
                <a:ahLst/>
                <a:rect l="textAreaLeft" t="textAreaTop" r="textAreaRight" b="textAreaBottom"/>
                <a:pathLst>
                  <a:path w="113793" h="72772">
                    <a:moveTo>
                      <a:pt x="5461" y="72771"/>
                    </a:moveTo>
                    <a:lnTo>
                      <a:pt x="0" y="69088"/>
                    </a:lnTo>
                    <a:lnTo>
                      <a:pt x="108204" y="0"/>
                    </a:lnTo>
                    <a:lnTo>
                      <a:pt x="113792" y="3556"/>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sp>
            <p:nvSpPr>
              <p:cNvPr id="364" name="Freeform 78"/>
              <p:cNvSpPr/>
              <p:nvPr/>
            </p:nvSpPr>
            <p:spPr>
              <a:xfrm rot="16200000">
                <a:off x="7140240" y="7499520"/>
                <a:ext cx="113760" cy="73080"/>
              </a:xfrm>
              <a:custGeom>
                <a:avLst/>
                <a:gdLst>
                  <a:gd name="textAreaLeft" fmla="*/ 0 w 113760"/>
                  <a:gd name="textAreaRight" fmla="*/ 114120 w 113760"/>
                  <a:gd name="textAreaTop" fmla="*/ 0 h 73080"/>
                  <a:gd name="textAreaBottom" fmla="*/ 73440 h 73080"/>
                </a:gdLst>
                <a:ahLst/>
                <a:rect l="textAreaLeft" t="textAreaTop" r="textAreaRight" b="textAreaBottom"/>
                <a:pathLst>
                  <a:path w="113793" h="72899">
                    <a:moveTo>
                      <a:pt x="0" y="3683"/>
                    </a:moveTo>
                    <a:lnTo>
                      <a:pt x="5588" y="0"/>
                    </a:lnTo>
                    <a:lnTo>
                      <a:pt x="113792" y="69215"/>
                    </a:lnTo>
                    <a:lnTo>
                      <a:pt x="108331" y="72898"/>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sp>
            <p:nvSpPr>
              <p:cNvPr id="365" name="Freeform 79"/>
              <p:cNvSpPr/>
              <p:nvPr/>
            </p:nvSpPr>
            <p:spPr>
              <a:xfrm rot="16200000">
                <a:off x="7074000" y="3669840"/>
                <a:ext cx="113760" cy="73080"/>
              </a:xfrm>
              <a:custGeom>
                <a:avLst/>
                <a:gdLst>
                  <a:gd name="textAreaLeft" fmla="*/ 0 w 113760"/>
                  <a:gd name="textAreaRight" fmla="*/ 114120 w 113760"/>
                  <a:gd name="textAreaTop" fmla="*/ 0 h 73080"/>
                  <a:gd name="textAreaBottom" fmla="*/ 73440 h 73080"/>
                </a:gdLst>
                <a:ahLst/>
                <a:rect l="textAreaLeft" t="textAreaTop" r="textAreaRight" b="textAreaBottom"/>
                <a:pathLst>
                  <a:path w="113793" h="72772">
                    <a:moveTo>
                      <a:pt x="113792" y="69088"/>
                    </a:moveTo>
                    <a:lnTo>
                      <a:pt x="108331" y="72771"/>
                    </a:lnTo>
                    <a:lnTo>
                      <a:pt x="0" y="3683"/>
                    </a:lnTo>
                    <a:lnTo>
                      <a:pt x="5461" y="0"/>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sp>
            <p:nvSpPr>
              <p:cNvPr id="366" name="Freeform 80"/>
              <p:cNvSpPr/>
              <p:nvPr/>
            </p:nvSpPr>
            <p:spPr>
              <a:xfrm rot="16200000">
                <a:off x="7140960" y="3671640"/>
                <a:ext cx="113400" cy="73080"/>
              </a:xfrm>
              <a:custGeom>
                <a:avLst/>
                <a:gdLst>
                  <a:gd name="textAreaLeft" fmla="*/ 0 w 113400"/>
                  <a:gd name="textAreaRight" fmla="*/ 113760 w 113400"/>
                  <a:gd name="textAreaTop" fmla="*/ 0 h 73080"/>
                  <a:gd name="textAreaBottom" fmla="*/ 73440 h 73080"/>
                </a:gdLst>
                <a:ahLst/>
                <a:rect l="textAreaLeft" t="textAreaTop" r="textAreaRight" b="textAreaBottom"/>
                <a:pathLst>
                  <a:path w="113666" h="72771">
                    <a:moveTo>
                      <a:pt x="108204" y="0"/>
                    </a:moveTo>
                    <a:lnTo>
                      <a:pt x="113665" y="3682"/>
                    </a:lnTo>
                    <a:lnTo>
                      <a:pt x="5588" y="72770"/>
                    </a:lnTo>
                    <a:lnTo>
                      <a:pt x="0" y="69088"/>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grpSp>
        <p:sp>
          <p:nvSpPr>
            <p:cNvPr id="367" name="Freeform 82"/>
            <p:cNvSpPr/>
            <p:nvPr/>
          </p:nvSpPr>
          <p:spPr>
            <a:xfrm rot="16200000">
              <a:off x="7156080" y="394344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8" name="Freeform 83"/>
            <p:cNvSpPr/>
            <p:nvPr/>
          </p:nvSpPr>
          <p:spPr>
            <a:xfrm rot="16200000">
              <a:off x="7156440" y="4263840"/>
              <a:ext cx="8280" cy="106200"/>
            </a:xfrm>
            <a:custGeom>
              <a:avLst/>
              <a:gdLst>
                <a:gd name="textAreaLeft" fmla="*/ 0 w 8280"/>
                <a:gd name="textAreaRight" fmla="*/ 8640 w 8280"/>
                <a:gd name="textAreaTop" fmla="*/ 0 h 106200"/>
                <a:gd name="textAreaBottom" fmla="*/ 106560 h 106200"/>
              </a:gdLst>
              <a:ahLst/>
              <a:rect l="textAreaLeft" t="textAreaTop" r="textAreaRight" b="textAreaBottom"/>
              <a:pathLst>
                <a:path w="8637" h="105919">
                  <a:moveTo>
                    <a:pt x="0" y="0"/>
                  </a:moveTo>
                  <a:lnTo>
                    <a:pt x="8636" y="0"/>
                  </a:lnTo>
                  <a:lnTo>
                    <a:pt x="8636"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9" name="Freeform 84"/>
            <p:cNvSpPr/>
            <p:nvPr/>
          </p:nvSpPr>
          <p:spPr>
            <a:xfrm rot="16200000">
              <a:off x="7156080" y="460332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70" name="Freeform 85"/>
            <p:cNvSpPr/>
            <p:nvPr/>
          </p:nvSpPr>
          <p:spPr>
            <a:xfrm rot="16200000">
              <a:off x="7156080" y="492372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71" name="Freeform 86"/>
            <p:cNvSpPr/>
            <p:nvPr/>
          </p:nvSpPr>
          <p:spPr>
            <a:xfrm rot="16200000">
              <a:off x="7156080" y="5244120"/>
              <a:ext cx="8280" cy="105840"/>
            </a:xfrm>
            <a:custGeom>
              <a:avLst/>
              <a:gdLst>
                <a:gd name="textAreaLeft" fmla="*/ 0 w 8280"/>
                <a:gd name="textAreaRight" fmla="*/ 8640 w 8280"/>
                <a:gd name="textAreaTop" fmla="*/ 0 h 105840"/>
                <a:gd name="textAreaBottom" fmla="*/ 106200 h 105840"/>
              </a:gdLst>
              <a:ahLst/>
              <a:rect l="textAreaLeft" t="textAreaTop" r="textAreaRight" b="textAreaBottom"/>
              <a:pathLst>
                <a:path w="8637" h="105793">
                  <a:moveTo>
                    <a:pt x="0" y="0"/>
                  </a:moveTo>
                  <a:lnTo>
                    <a:pt x="8636" y="0"/>
                  </a:lnTo>
                  <a:lnTo>
                    <a:pt x="8636" y="105792"/>
                  </a:lnTo>
                  <a:lnTo>
                    <a:pt x="0" y="10579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72" name="Freeform 87"/>
            <p:cNvSpPr/>
            <p:nvPr/>
          </p:nvSpPr>
          <p:spPr>
            <a:xfrm rot="16200000">
              <a:off x="7160760" y="5910480"/>
              <a:ext cx="8280" cy="106200"/>
            </a:xfrm>
            <a:custGeom>
              <a:avLst/>
              <a:gdLst>
                <a:gd name="textAreaLeft" fmla="*/ 0 w 8280"/>
                <a:gd name="textAreaRight" fmla="*/ 8640 w 8280"/>
                <a:gd name="textAreaTop" fmla="*/ 0 h 106200"/>
                <a:gd name="textAreaBottom" fmla="*/ 106560 h 106200"/>
              </a:gdLst>
              <a:ahLst/>
              <a:rect l="textAreaLeft" t="textAreaTop" r="textAreaRight" b="textAreaBottom"/>
              <a:pathLst>
                <a:path w="8637" h="105919">
                  <a:moveTo>
                    <a:pt x="0" y="0"/>
                  </a:moveTo>
                  <a:lnTo>
                    <a:pt x="8636" y="0"/>
                  </a:lnTo>
                  <a:lnTo>
                    <a:pt x="8636"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73" name="Freeform 88"/>
            <p:cNvSpPr/>
            <p:nvPr/>
          </p:nvSpPr>
          <p:spPr>
            <a:xfrm rot="16200000">
              <a:off x="7160760" y="6230520"/>
              <a:ext cx="8280" cy="106200"/>
            </a:xfrm>
            <a:custGeom>
              <a:avLst/>
              <a:gdLst>
                <a:gd name="textAreaLeft" fmla="*/ 0 w 8280"/>
                <a:gd name="textAreaRight" fmla="*/ 8640 w 8280"/>
                <a:gd name="textAreaTop" fmla="*/ 0 h 106200"/>
                <a:gd name="textAreaBottom" fmla="*/ 106560 h 106200"/>
              </a:gdLst>
              <a:ahLst/>
              <a:rect l="textAreaLeft" t="textAreaTop" r="textAreaRight" b="textAreaBottom"/>
              <a:pathLst>
                <a:path w="8636" h="105919">
                  <a:moveTo>
                    <a:pt x="0" y="0"/>
                  </a:moveTo>
                  <a:lnTo>
                    <a:pt x="8635" y="0"/>
                  </a:lnTo>
                  <a:lnTo>
                    <a:pt x="8635"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74" name="Freeform 89"/>
            <p:cNvSpPr/>
            <p:nvPr/>
          </p:nvSpPr>
          <p:spPr>
            <a:xfrm rot="16200000">
              <a:off x="7160400" y="657000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75" name="Freeform 90"/>
            <p:cNvSpPr/>
            <p:nvPr/>
          </p:nvSpPr>
          <p:spPr>
            <a:xfrm rot="16200000">
              <a:off x="7160400" y="689040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76" name="Freeform 91"/>
            <p:cNvSpPr/>
            <p:nvPr/>
          </p:nvSpPr>
          <p:spPr>
            <a:xfrm rot="16200000">
              <a:off x="7160400" y="721044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77" name="Freeform 92"/>
            <p:cNvSpPr/>
            <p:nvPr/>
          </p:nvSpPr>
          <p:spPr>
            <a:xfrm rot="16200000">
              <a:off x="7156440" y="5577120"/>
              <a:ext cx="8280" cy="106200"/>
            </a:xfrm>
            <a:custGeom>
              <a:avLst/>
              <a:gdLst>
                <a:gd name="textAreaLeft" fmla="*/ 0 w 8280"/>
                <a:gd name="textAreaRight" fmla="*/ 8640 w 8280"/>
                <a:gd name="textAreaTop" fmla="*/ 0 h 106200"/>
                <a:gd name="textAreaBottom" fmla="*/ 106560 h 106200"/>
              </a:gdLst>
              <a:ahLst/>
              <a:rect l="textAreaLeft" t="textAreaTop" r="textAreaRight" b="textAreaBottom"/>
              <a:pathLst>
                <a:path w="8637" h="105919">
                  <a:moveTo>
                    <a:pt x="0" y="0"/>
                  </a:moveTo>
                  <a:lnTo>
                    <a:pt x="8636" y="0"/>
                  </a:lnTo>
                  <a:lnTo>
                    <a:pt x="8636"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378" name="Group 122"/>
          <p:cNvGrpSpPr/>
          <p:nvPr/>
        </p:nvGrpSpPr>
        <p:grpSpPr>
          <a:xfrm>
            <a:off x="8593200" y="3675240"/>
            <a:ext cx="405720" cy="3944880"/>
            <a:chOff x="8593200" y="3675240"/>
            <a:chExt cx="405720" cy="3944880"/>
          </a:xfrm>
        </p:grpSpPr>
        <p:sp>
          <p:nvSpPr>
            <p:cNvPr id="379" name="TextBox 94"/>
            <p:cNvSpPr/>
            <p:nvPr/>
          </p:nvSpPr>
          <p:spPr>
            <a:xfrm rot="16200000">
              <a:off x="8674920" y="5892120"/>
              <a:ext cx="2793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1</a:t>
              </a:r>
              <a:endParaRPr b="0" lang="en-US" sz="600" spc="-1" strike="noStrike">
                <a:solidFill>
                  <a:srgbClr val="000000"/>
                </a:solidFill>
                <a:latin typeface="Calibri"/>
              </a:endParaRPr>
            </a:p>
          </p:txBody>
        </p:sp>
        <p:sp>
          <p:nvSpPr>
            <p:cNvPr id="380" name="TextBox 95"/>
            <p:cNvSpPr/>
            <p:nvPr/>
          </p:nvSpPr>
          <p:spPr>
            <a:xfrm rot="16200000">
              <a:off x="8687880" y="5524200"/>
              <a:ext cx="25380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0</a:t>
              </a:r>
              <a:endParaRPr b="0" lang="en-US" sz="600" spc="-1" strike="noStrike">
                <a:solidFill>
                  <a:srgbClr val="000000"/>
                </a:solidFill>
                <a:latin typeface="Calibri"/>
              </a:endParaRPr>
            </a:p>
          </p:txBody>
        </p:sp>
        <p:sp>
          <p:nvSpPr>
            <p:cNvPr id="381" name="TextBox 96"/>
            <p:cNvSpPr/>
            <p:nvPr/>
          </p:nvSpPr>
          <p:spPr>
            <a:xfrm rot="16200000">
              <a:off x="8746200" y="6176520"/>
              <a:ext cx="22824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2</a:t>
              </a:r>
              <a:endParaRPr b="0" lang="en-US" sz="600" spc="-1" strike="noStrike">
                <a:solidFill>
                  <a:srgbClr val="000000"/>
                </a:solidFill>
                <a:latin typeface="Calibri"/>
              </a:endParaRPr>
            </a:p>
          </p:txBody>
        </p:sp>
        <p:sp>
          <p:nvSpPr>
            <p:cNvPr id="382" name="TextBox 97"/>
            <p:cNvSpPr/>
            <p:nvPr/>
          </p:nvSpPr>
          <p:spPr>
            <a:xfrm rot="16200000">
              <a:off x="8665200" y="653688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3</a:t>
              </a:r>
              <a:endParaRPr b="0" lang="en-US" sz="700" spc="-1" strike="noStrike">
                <a:solidFill>
                  <a:srgbClr val="000000"/>
                </a:solidFill>
                <a:latin typeface="Calibri"/>
              </a:endParaRPr>
            </a:p>
          </p:txBody>
        </p:sp>
        <p:sp>
          <p:nvSpPr>
            <p:cNvPr id="383" name="TextBox 98"/>
            <p:cNvSpPr/>
            <p:nvPr/>
          </p:nvSpPr>
          <p:spPr>
            <a:xfrm rot="16200000">
              <a:off x="8665200" y="685404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4</a:t>
              </a:r>
              <a:endParaRPr b="0" lang="en-US" sz="700" spc="-1" strike="noStrike">
                <a:solidFill>
                  <a:srgbClr val="000000"/>
                </a:solidFill>
                <a:latin typeface="Calibri"/>
              </a:endParaRPr>
            </a:p>
          </p:txBody>
        </p:sp>
        <p:sp>
          <p:nvSpPr>
            <p:cNvPr id="384" name="TextBox 99"/>
            <p:cNvSpPr/>
            <p:nvPr/>
          </p:nvSpPr>
          <p:spPr>
            <a:xfrm rot="16200000">
              <a:off x="8665200" y="717156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5</a:t>
              </a:r>
              <a:endParaRPr b="0" lang="en-US" sz="700" spc="-1" strike="noStrike">
                <a:solidFill>
                  <a:srgbClr val="000000"/>
                </a:solidFill>
                <a:latin typeface="Calibri"/>
              </a:endParaRPr>
            </a:p>
          </p:txBody>
        </p:sp>
        <p:sp>
          <p:nvSpPr>
            <p:cNvPr id="385" name="TextBox 100"/>
            <p:cNvSpPr/>
            <p:nvPr/>
          </p:nvSpPr>
          <p:spPr>
            <a:xfrm rot="16200000">
              <a:off x="8674920" y="5168160"/>
              <a:ext cx="2793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1</a:t>
              </a:r>
              <a:endParaRPr b="0" lang="en-US" sz="600" spc="-1" strike="noStrike">
                <a:solidFill>
                  <a:srgbClr val="000000"/>
                </a:solidFill>
                <a:latin typeface="Calibri"/>
              </a:endParaRPr>
            </a:p>
          </p:txBody>
        </p:sp>
        <p:sp>
          <p:nvSpPr>
            <p:cNvPr id="386" name="TextBox 101"/>
            <p:cNvSpPr/>
            <p:nvPr/>
          </p:nvSpPr>
          <p:spPr>
            <a:xfrm rot="16200000">
              <a:off x="8700480" y="4863600"/>
              <a:ext cx="2282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12"/>
                </a:rPr>
                <a:t>2</a:t>
              </a:r>
              <a:endParaRPr b="0" lang="en-US" sz="600" spc="-1" strike="noStrike">
                <a:solidFill>
                  <a:srgbClr val="000000"/>
                </a:solidFill>
                <a:latin typeface="Calibri"/>
              </a:endParaRPr>
            </a:p>
          </p:txBody>
        </p:sp>
        <p:sp>
          <p:nvSpPr>
            <p:cNvPr id="387" name="TextBox 102"/>
            <p:cNvSpPr/>
            <p:nvPr/>
          </p:nvSpPr>
          <p:spPr>
            <a:xfrm rot="16200000">
              <a:off x="8678160" y="451764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3</a:t>
              </a:r>
              <a:endParaRPr b="0" lang="en-US" sz="700" spc="-1" strike="noStrike">
                <a:solidFill>
                  <a:srgbClr val="000000"/>
                </a:solidFill>
                <a:latin typeface="Calibri"/>
              </a:endParaRPr>
            </a:p>
          </p:txBody>
        </p:sp>
        <p:sp>
          <p:nvSpPr>
            <p:cNvPr id="388" name="TextBox 103"/>
            <p:cNvSpPr/>
            <p:nvPr/>
          </p:nvSpPr>
          <p:spPr>
            <a:xfrm rot="16200000">
              <a:off x="8678160" y="420012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4</a:t>
              </a:r>
              <a:endParaRPr b="0" lang="en-US" sz="700" spc="-1" strike="noStrike">
                <a:solidFill>
                  <a:srgbClr val="000000"/>
                </a:solidFill>
                <a:latin typeface="Calibri"/>
              </a:endParaRPr>
            </a:p>
          </p:txBody>
        </p:sp>
        <p:sp>
          <p:nvSpPr>
            <p:cNvPr id="389" name="TextBox 104"/>
            <p:cNvSpPr/>
            <p:nvPr/>
          </p:nvSpPr>
          <p:spPr>
            <a:xfrm rot="16200000">
              <a:off x="8665200" y="3869640"/>
              <a:ext cx="3045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 12"/>
                </a:rPr>
                <a:t>5</a:t>
              </a:r>
              <a:endParaRPr b="0" lang="en-US" sz="700" spc="-1" strike="noStrike">
                <a:solidFill>
                  <a:srgbClr val="000000"/>
                </a:solidFill>
                <a:latin typeface="Calibri"/>
              </a:endParaRPr>
            </a:p>
          </p:txBody>
        </p:sp>
        <p:grpSp>
          <p:nvGrpSpPr>
            <p:cNvPr id="390" name="Group 110"/>
            <p:cNvGrpSpPr/>
            <p:nvPr/>
          </p:nvGrpSpPr>
          <p:grpSpPr>
            <a:xfrm>
              <a:off x="8593200" y="3675240"/>
              <a:ext cx="139680" cy="3944880"/>
              <a:chOff x="8593200" y="3675240"/>
              <a:chExt cx="139680" cy="3944880"/>
            </a:xfrm>
          </p:grpSpPr>
          <p:sp>
            <p:nvSpPr>
              <p:cNvPr id="391" name="Freeform 105"/>
              <p:cNvSpPr/>
              <p:nvPr/>
            </p:nvSpPr>
            <p:spPr>
              <a:xfrm rot="16200000">
                <a:off x="6692760" y="5642640"/>
                <a:ext cx="3938760" cy="5040"/>
              </a:xfrm>
              <a:custGeom>
                <a:avLst/>
                <a:gdLst>
                  <a:gd name="textAreaLeft" fmla="*/ 0 w 3938760"/>
                  <a:gd name="textAreaRight" fmla="*/ 3939120 w 3938760"/>
                  <a:gd name="textAreaTop" fmla="*/ 0 h 5040"/>
                  <a:gd name="textAreaBottom" fmla="*/ 5400 h 5040"/>
                </a:gdLst>
                <a:ahLst/>
                <a:rect l="textAreaLeft" t="textAreaTop" r="textAreaRight" b="textAreaBottom"/>
                <a:pathLst>
                  <a:path w="3939161" h="5208">
                    <a:moveTo>
                      <a:pt x="0" y="5207"/>
                    </a:moveTo>
                    <a:lnTo>
                      <a:pt x="0" y="0"/>
                    </a:lnTo>
                    <a:lnTo>
                      <a:pt x="3939160" y="0"/>
                    </a:lnTo>
                    <a:lnTo>
                      <a:pt x="3939160" y="5207"/>
                    </a:lnTo>
                    <a:close/>
                  </a:path>
                </a:pathLst>
              </a:custGeom>
              <a:solidFill>
                <a:srgbClr val="000000"/>
              </a:solidFill>
              <a:ln w="0">
                <a:solidFill>
                  <a:srgbClr val="000000"/>
                </a:solidFill>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Calibri"/>
                </a:endParaRPr>
              </a:p>
            </p:txBody>
          </p:sp>
          <p:sp>
            <p:nvSpPr>
              <p:cNvPr id="392" name="Freeform 106"/>
              <p:cNvSpPr/>
              <p:nvPr/>
            </p:nvSpPr>
            <p:spPr>
              <a:xfrm rot="16200000">
                <a:off x="8572680" y="7526520"/>
                <a:ext cx="113760" cy="73080"/>
              </a:xfrm>
              <a:custGeom>
                <a:avLst/>
                <a:gdLst>
                  <a:gd name="textAreaLeft" fmla="*/ 0 w 113760"/>
                  <a:gd name="textAreaRight" fmla="*/ 114120 w 113760"/>
                  <a:gd name="textAreaTop" fmla="*/ 0 h 73080"/>
                  <a:gd name="textAreaBottom" fmla="*/ 73440 h 73080"/>
                </a:gdLst>
                <a:ahLst/>
                <a:rect l="textAreaLeft" t="textAreaTop" r="textAreaRight" b="textAreaBottom"/>
                <a:pathLst>
                  <a:path w="113793" h="72772">
                    <a:moveTo>
                      <a:pt x="5461" y="72771"/>
                    </a:moveTo>
                    <a:lnTo>
                      <a:pt x="0" y="69088"/>
                    </a:lnTo>
                    <a:lnTo>
                      <a:pt x="108204" y="0"/>
                    </a:lnTo>
                    <a:lnTo>
                      <a:pt x="113792" y="3556"/>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sp>
            <p:nvSpPr>
              <p:cNvPr id="393" name="Freeform 107"/>
              <p:cNvSpPr/>
              <p:nvPr/>
            </p:nvSpPr>
            <p:spPr>
              <a:xfrm rot="16200000">
                <a:off x="8639280" y="7525440"/>
                <a:ext cx="113400" cy="73080"/>
              </a:xfrm>
              <a:custGeom>
                <a:avLst/>
                <a:gdLst>
                  <a:gd name="textAreaLeft" fmla="*/ 0 w 113400"/>
                  <a:gd name="textAreaRight" fmla="*/ 113760 w 113400"/>
                  <a:gd name="textAreaTop" fmla="*/ 0 h 73080"/>
                  <a:gd name="textAreaBottom" fmla="*/ 73440 h 73080"/>
                </a:gdLst>
                <a:ahLst/>
                <a:rect l="textAreaLeft" t="textAreaTop" r="textAreaRight" b="textAreaBottom"/>
                <a:pathLst>
                  <a:path w="113666" h="72899">
                    <a:moveTo>
                      <a:pt x="0" y="3683"/>
                    </a:moveTo>
                    <a:lnTo>
                      <a:pt x="5461" y="0"/>
                    </a:lnTo>
                    <a:lnTo>
                      <a:pt x="113665" y="69215"/>
                    </a:lnTo>
                    <a:lnTo>
                      <a:pt x="108205" y="72898"/>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sp>
            <p:nvSpPr>
              <p:cNvPr id="394" name="Freeform 108"/>
              <p:cNvSpPr/>
              <p:nvPr/>
            </p:nvSpPr>
            <p:spPr>
              <a:xfrm rot="16200000">
                <a:off x="8572680" y="3695400"/>
                <a:ext cx="113760" cy="73080"/>
              </a:xfrm>
              <a:custGeom>
                <a:avLst/>
                <a:gdLst>
                  <a:gd name="textAreaLeft" fmla="*/ 0 w 113760"/>
                  <a:gd name="textAreaRight" fmla="*/ 114120 w 113760"/>
                  <a:gd name="textAreaTop" fmla="*/ 0 h 73080"/>
                  <a:gd name="textAreaBottom" fmla="*/ 73440 h 73080"/>
                </a:gdLst>
                <a:ahLst/>
                <a:rect l="textAreaLeft" t="textAreaTop" r="textAreaRight" b="textAreaBottom"/>
                <a:pathLst>
                  <a:path w="113794" h="72772">
                    <a:moveTo>
                      <a:pt x="113793" y="69088"/>
                    </a:moveTo>
                    <a:lnTo>
                      <a:pt x="108332" y="72771"/>
                    </a:lnTo>
                    <a:lnTo>
                      <a:pt x="0" y="3683"/>
                    </a:lnTo>
                    <a:lnTo>
                      <a:pt x="5461" y="0"/>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sp>
            <p:nvSpPr>
              <p:cNvPr id="395" name="Freeform 109"/>
              <p:cNvSpPr/>
              <p:nvPr/>
            </p:nvSpPr>
            <p:spPr>
              <a:xfrm rot="16200000">
                <a:off x="8639280" y="3696840"/>
                <a:ext cx="113760" cy="73080"/>
              </a:xfrm>
              <a:custGeom>
                <a:avLst/>
                <a:gdLst>
                  <a:gd name="textAreaLeft" fmla="*/ 0 w 113760"/>
                  <a:gd name="textAreaRight" fmla="*/ 114120 w 113760"/>
                  <a:gd name="textAreaTop" fmla="*/ 0 h 73080"/>
                  <a:gd name="textAreaBottom" fmla="*/ 73440 h 73080"/>
                </a:gdLst>
                <a:ahLst/>
                <a:rect l="textAreaLeft" t="textAreaTop" r="textAreaRight" b="textAreaBottom"/>
                <a:pathLst>
                  <a:path w="113794" h="72772">
                    <a:moveTo>
                      <a:pt x="108332" y="0"/>
                    </a:moveTo>
                    <a:lnTo>
                      <a:pt x="113793" y="3683"/>
                    </a:lnTo>
                    <a:lnTo>
                      <a:pt x="5588" y="72771"/>
                    </a:lnTo>
                    <a:lnTo>
                      <a:pt x="0" y="69088"/>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Calibri"/>
                </a:endParaRPr>
              </a:p>
            </p:txBody>
          </p:sp>
        </p:grpSp>
        <p:sp>
          <p:nvSpPr>
            <p:cNvPr id="396" name="Freeform 111"/>
            <p:cNvSpPr/>
            <p:nvPr/>
          </p:nvSpPr>
          <p:spPr>
            <a:xfrm rot="16200000">
              <a:off x="8654760" y="396900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97" name="Freeform 112"/>
            <p:cNvSpPr/>
            <p:nvPr/>
          </p:nvSpPr>
          <p:spPr>
            <a:xfrm rot="16200000">
              <a:off x="8655120" y="4289400"/>
              <a:ext cx="8280" cy="106200"/>
            </a:xfrm>
            <a:custGeom>
              <a:avLst/>
              <a:gdLst>
                <a:gd name="textAreaLeft" fmla="*/ 0 w 8280"/>
                <a:gd name="textAreaRight" fmla="*/ 8640 w 8280"/>
                <a:gd name="textAreaTop" fmla="*/ 0 h 106200"/>
                <a:gd name="textAreaBottom" fmla="*/ 106560 h 106200"/>
              </a:gdLst>
              <a:ahLst/>
              <a:rect l="textAreaLeft" t="textAreaTop" r="textAreaRight" b="textAreaBottom"/>
              <a:pathLst>
                <a:path w="8637" h="105919">
                  <a:moveTo>
                    <a:pt x="0" y="0"/>
                  </a:moveTo>
                  <a:lnTo>
                    <a:pt x="8636" y="0"/>
                  </a:lnTo>
                  <a:lnTo>
                    <a:pt x="8636"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98" name="Freeform 113"/>
            <p:cNvSpPr/>
            <p:nvPr/>
          </p:nvSpPr>
          <p:spPr>
            <a:xfrm rot="16200000">
              <a:off x="8654760" y="462888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99" name="Freeform 114"/>
            <p:cNvSpPr/>
            <p:nvPr/>
          </p:nvSpPr>
          <p:spPr>
            <a:xfrm rot="16200000">
              <a:off x="8654760" y="494928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0" name="Freeform 115"/>
            <p:cNvSpPr/>
            <p:nvPr/>
          </p:nvSpPr>
          <p:spPr>
            <a:xfrm rot="16200000">
              <a:off x="8654760" y="5269680"/>
              <a:ext cx="8280" cy="105840"/>
            </a:xfrm>
            <a:custGeom>
              <a:avLst/>
              <a:gdLst>
                <a:gd name="textAreaLeft" fmla="*/ 0 w 8280"/>
                <a:gd name="textAreaRight" fmla="*/ 8640 w 8280"/>
                <a:gd name="textAreaTop" fmla="*/ 0 h 105840"/>
                <a:gd name="textAreaBottom" fmla="*/ 106200 h 105840"/>
              </a:gdLst>
              <a:ahLst/>
              <a:rect l="textAreaLeft" t="textAreaTop" r="textAreaRight" b="textAreaBottom"/>
              <a:pathLst>
                <a:path w="8636" h="105792">
                  <a:moveTo>
                    <a:pt x="0" y="0"/>
                  </a:moveTo>
                  <a:lnTo>
                    <a:pt x="8635" y="0"/>
                  </a:lnTo>
                  <a:lnTo>
                    <a:pt x="8635" y="105791"/>
                  </a:lnTo>
                  <a:lnTo>
                    <a:pt x="0" y="1057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1" name="Freeform 116"/>
            <p:cNvSpPr/>
            <p:nvPr/>
          </p:nvSpPr>
          <p:spPr>
            <a:xfrm rot="16200000">
              <a:off x="8659080" y="593568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2" name="Freeform 117"/>
            <p:cNvSpPr/>
            <p:nvPr/>
          </p:nvSpPr>
          <p:spPr>
            <a:xfrm rot="16200000">
              <a:off x="8659080" y="625608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20">
                  <a:moveTo>
                    <a:pt x="0" y="0"/>
                  </a:moveTo>
                  <a:lnTo>
                    <a:pt x="8763" y="0"/>
                  </a:lnTo>
                  <a:lnTo>
                    <a:pt x="8763" y="105919"/>
                  </a:lnTo>
                  <a:lnTo>
                    <a:pt x="0" y="10591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3" name="Freeform 118"/>
            <p:cNvSpPr/>
            <p:nvPr/>
          </p:nvSpPr>
          <p:spPr>
            <a:xfrm rot="16200000">
              <a:off x="8659080" y="659556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20">
                  <a:moveTo>
                    <a:pt x="0" y="0"/>
                  </a:moveTo>
                  <a:lnTo>
                    <a:pt x="8763" y="0"/>
                  </a:lnTo>
                  <a:lnTo>
                    <a:pt x="8763" y="105919"/>
                  </a:lnTo>
                  <a:lnTo>
                    <a:pt x="0" y="10591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4" name="Freeform 119"/>
            <p:cNvSpPr/>
            <p:nvPr/>
          </p:nvSpPr>
          <p:spPr>
            <a:xfrm rot="16200000">
              <a:off x="8659080" y="691596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5" h="105919">
                  <a:moveTo>
                    <a:pt x="0" y="0"/>
                  </a:moveTo>
                  <a:lnTo>
                    <a:pt x="8764" y="0"/>
                  </a:lnTo>
                  <a:lnTo>
                    <a:pt x="8764"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5" name="Freeform 120"/>
            <p:cNvSpPr/>
            <p:nvPr/>
          </p:nvSpPr>
          <p:spPr>
            <a:xfrm rot="16200000">
              <a:off x="8659080" y="7236000"/>
              <a:ext cx="8640" cy="106200"/>
            </a:xfrm>
            <a:custGeom>
              <a:avLst/>
              <a:gdLst>
                <a:gd name="textAreaLeft" fmla="*/ 0 w 8640"/>
                <a:gd name="textAreaRight" fmla="*/ 9000 w 8640"/>
                <a:gd name="textAreaTop" fmla="*/ 0 h 106200"/>
                <a:gd name="textAreaBottom" fmla="*/ 106560 h 106200"/>
              </a:gdLst>
              <a:ahLst/>
              <a:rect l="textAreaLeft" t="textAreaTop" r="textAreaRight" b="textAreaBottom"/>
              <a:pathLst>
                <a:path w="8764" h="105919">
                  <a:moveTo>
                    <a:pt x="0" y="0"/>
                  </a:moveTo>
                  <a:lnTo>
                    <a:pt x="8763" y="0"/>
                  </a:lnTo>
                  <a:lnTo>
                    <a:pt x="8763"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6" name="Freeform 121"/>
            <p:cNvSpPr/>
            <p:nvPr/>
          </p:nvSpPr>
          <p:spPr>
            <a:xfrm rot="16200000">
              <a:off x="8655120" y="5602680"/>
              <a:ext cx="8280" cy="106200"/>
            </a:xfrm>
            <a:custGeom>
              <a:avLst/>
              <a:gdLst>
                <a:gd name="textAreaLeft" fmla="*/ 0 w 8280"/>
                <a:gd name="textAreaRight" fmla="*/ 8640 w 8280"/>
                <a:gd name="textAreaTop" fmla="*/ 0 h 106200"/>
                <a:gd name="textAreaBottom" fmla="*/ 106560 h 106200"/>
              </a:gdLst>
              <a:ahLst/>
              <a:rect l="textAreaLeft" t="textAreaTop" r="textAreaRight" b="textAreaBottom"/>
              <a:pathLst>
                <a:path w="8637" h="105919">
                  <a:moveTo>
                    <a:pt x="0" y="0"/>
                  </a:moveTo>
                  <a:lnTo>
                    <a:pt x="8636" y="0"/>
                  </a:lnTo>
                  <a:lnTo>
                    <a:pt x="8636" y="105918"/>
                  </a:lnTo>
                  <a:lnTo>
                    <a:pt x="0" y="1059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407" name="Straight Connector 123"/>
          <p:cNvSpPr/>
          <p:nvPr/>
        </p:nvSpPr>
        <p:spPr>
          <a:xfrm flipV="1">
            <a:off x="7416720" y="4368600"/>
            <a:ext cx="0" cy="1244520"/>
          </a:xfrm>
          <a:prstGeom prst="line">
            <a:avLst/>
          </a:prstGeom>
          <a:ln w="3816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8" name="Straight Connector 124"/>
          <p:cNvSpPr/>
          <p:nvPr/>
        </p:nvSpPr>
        <p:spPr>
          <a:xfrm>
            <a:off x="8902800" y="5689440"/>
            <a:ext cx="0" cy="609840"/>
          </a:xfrm>
          <a:prstGeom prst="line">
            <a:avLst/>
          </a:prstGeom>
          <a:ln w="3816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9" name="TextBox 125"/>
          <p:cNvSpPr/>
          <p:nvPr/>
        </p:nvSpPr>
        <p:spPr>
          <a:xfrm>
            <a:off x="9029880" y="5880240"/>
            <a:ext cx="5331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mic Sans MS - 16"/>
              </a:rPr>
              <a:t>-2</a:t>
            </a:r>
            <a:endParaRPr b="0" lang="en-US" sz="1500" spc="-1" strike="noStrike">
              <a:solidFill>
                <a:srgbClr val="000000"/>
              </a:solidFill>
              <a:latin typeface="Calibri"/>
            </a:endParaRPr>
          </a:p>
        </p:txBody>
      </p:sp>
      <p:sp>
        <p:nvSpPr>
          <p:cNvPr id="410" name="TextBox 126"/>
          <p:cNvSpPr/>
          <p:nvPr/>
        </p:nvSpPr>
        <p:spPr>
          <a:xfrm>
            <a:off x="7505640" y="4940280"/>
            <a:ext cx="55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 16"/>
              </a:rPr>
              <a:t>+4</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TextBox 1"/>
          <p:cNvSpPr/>
          <p:nvPr/>
        </p:nvSpPr>
        <p:spPr>
          <a:xfrm>
            <a:off x="330120" y="343080"/>
            <a:ext cx="650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ff"/>
                </a:solidFill>
                <a:latin typeface="Comic Sans MS - 24"/>
              </a:rPr>
              <a:t>You can also use a horizontal or vertical number line to represent integer addition.</a:t>
            </a:r>
            <a:endParaRPr b="0" lang="en-US" sz="2400" spc="-1" strike="noStrike">
              <a:solidFill>
                <a:srgbClr val="000000"/>
              </a:solidFill>
              <a:latin typeface="Calibri"/>
            </a:endParaRPr>
          </a:p>
        </p:txBody>
      </p:sp>
      <p:grpSp>
        <p:nvGrpSpPr>
          <p:cNvPr id="412" name="Group 30"/>
          <p:cNvGrpSpPr/>
          <p:nvPr/>
        </p:nvGrpSpPr>
        <p:grpSpPr>
          <a:xfrm>
            <a:off x="503280" y="3278160"/>
            <a:ext cx="8531280" cy="749880"/>
            <a:chOff x="503280" y="3278160"/>
            <a:chExt cx="8531280" cy="749880"/>
          </a:xfrm>
        </p:grpSpPr>
        <p:sp>
          <p:nvSpPr>
            <p:cNvPr id="413" name="TextBox 2"/>
            <p:cNvSpPr/>
            <p:nvPr/>
          </p:nvSpPr>
          <p:spPr>
            <a:xfrm>
              <a:off x="3796920" y="3695760"/>
              <a:ext cx="4824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 12"/>
                </a:rPr>
                <a:t>-1</a:t>
              </a:r>
              <a:endParaRPr b="0" lang="en-US" sz="1300" spc="-1" strike="noStrike">
                <a:solidFill>
                  <a:srgbClr val="000000"/>
                </a:solidFill>
                <a:latin typeface="Calibri"/>
              </a:endParaRPr>
            </a:p>
          </p:txBody>
        </p:sp>
        <p:sp>
          <p:nvSpPr>
            <p:cNvPr id="414" name="TextBox 3"/>
            <p:cNvSpPr/>
            <p:nvPr/>
          </p:nvSpPr>
          <p:spPr>
            <a:xfrm>
              <a:off x="4635360" y="3720960"/>
              <a:ext cx="40644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 12"/>
                </a:rPr>
                <a:t>0</a:t>
              </a:r>
              <a:endParaRPr b="0" lang="en-US" sz="1300" spc="-1" strike="noStrike">
                <a:solidFill>
                  <a:srgbClr val="000000"/>
                </a:solidFill>
                <a:latin typeface="Calibri"/>
              </a:endParaRPr>
            </a:p>
          </p:txBody>
        </p:sp>
        <p:sp>
          <p:nvSpPr>
            <p:cNvPr id="415" name="TextBox 4"/>
            <p:cNvSpPr/>
            <p:nvPr/>
          </p:nvSpPr>
          <p:spPr>
            <a:xfrm>
              <a:off x="3136680" y="3695760"/>
              <a:ext cx="3553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 12"/>
                </a:rPr>
                <a:t>-2</a:t>
              </a:r>
              <a:endParaRPr b="0" lang="en-US" sz="1300" spc="-1" strike="noStrike">
                <a:solidFill>
                  <a:srgbClr val="000000"/>
                </a:solidFill>
                <a:latin typeface="Calibri"/>
              </a:endParaRPr>
            </a:p>
          </p:txBody>
        </p:sp>
        <p:sp>
          <p:nvSpPr>
            <p:cNvPr id="416" name="TextBox 5"/>
            <p:cNvSpPr/>
            <p:nvPr/>
          </p:nvSpPr>
          <p:spPr>
            <a:xfrm>
              <a:off x="2387160" y="3695760"/>
              <a:ext cx="50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 12"/>
                </a:rPr>
                <a:t>-3</a:t>
              </a:r>
              <a:endParaRPr b="0" lang="en-US" sz="1400" spc="-1" strike="noStrike">
                <a:solidFill>
                  <a:srgbClr val="000000"/>
                </a:solidFill>
                <a:latin typeface="Calibri"/>
              </a:endParaRPr>
            </a:p>
          </p:txBody>
        </p:sp>
        <p:sp>
          <p:nvSpPr>
            <p:cNvPr id="417" name="TextBox 6"/>
            <p:cNvSpPr/>
            <p:nvPr/>
          </p:nvSpPr>
          <p:spPr>
            <a:xfrm>
              <a:off x="1688400" y="3695760"/>
              <a:ext cx="50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 12"/>
                </a:rPr>
                <a:t>-4</a:t>
              </a:r>
              <a:endParaRPr b="0" lang="en-US" sz="1400" spc="-1" strike="noStrike">
                <a:solidFill>
                  <a:srgbClr val="000000"/>
                </a:solidFill>
                <a:latin typeface="Calibri"/>
              </a:endParaRPr>
            </a:p>
          </p:txBody>
        </p:sp>
        <p:sp>
          <p:nvSpPr>
            <p:cNvPr id="418" name="TextBox 7"/>
            <p:cNvSpPr/>
            <p:nvPr/>
          </p:nvSpPr>
          <p:spPr>
            <a:xfrm>
              <a:off x="1015200" y="3695760"/>
              <a:ext cx="50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 12"/>
                </a:rPr>
                <a:t>-5</a:t>
              </a:r>
              <a:endParaRPr b="0" lang="en-US" sz="1400" spc="-1" strike="noStrike">
                <a:solidFill>
                  <a:srgbClr val="000000"/>
                </a:solidFill>
                <a:latin typeface="Calibri"/>
              </a:endParaRPr>
            </a:p>
          </p:txBody>
        </p:sp>
        <p:sp>
          <p:nvSpPr>
            <p:cNvPr id="419" name="TextBox 8"/>
            <p:cNvSpPr/>
            <p:nvPr/>
          </p:nvSpPr>
          <p:spPr>
            <a:xfrm>
              <a:off x="5346720" y="3695760"/>
              <a:ext cx="4824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 12"/>
                </a:rPr>
                <a:t>1</a:t>
              </a:r>
              <a:endParaRPr b="0" lang="en-US" sz="1300" spc="-1" strike="noStrike">
                <a:solidFill>
                  <a:srgbClr val="000000"/>
                </a:solidFill>
                <a:latin typeface="Calibri"/>
              </a:endParaRPr>
            </a:p>
          </p:txBody>
        </p:sp>
        <p:sp>
          <p:nvSpPr>
            <p:cNvPr id="420" name="TextBox 9"/>
            <p:cNvSpPr/>
            <p:nvPr/>
          </p:nvSpPr>
          <p:spPr>
            <a:xfrm>
              <a:off x="6070680" y="3695760"/>
              <a:ext cx="3553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 12"/>
                </a:rPr>
                <a:t>2</a:t>
              </a:r>
              <a:endParaRPr b="0" lang="en-US" sz="1300" spc="-1" strike="noStrike">
                <a:solidFill>
                  <a:srgbClr val="000000"/>
                </a:solidFill>
                <a:latin typeface="Calibri"/>
              </a:endParaRPr>
            </a:p>
          </p:txBody>
        </p:sp>
        <p:sp>
          <p:nvSpPr>
            <p:cNvPr id="421" name="TextBox 10"/>
            <p:cNvSpPr/>
            <p:nvPr/>
          </p:nvSpPr>
          <p:spPr>
            <a:xfrm>
              <a:off x="6743880" y="3720960"/>
              <a:ext cx="50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 12"/>
                </a:rPr>
                <a:t>3</a:t>
              </a:r>
              <a:endParaRPr b="0" lang="en-US" sz="1400" spc="-1" strike="noStrike">
                <a:solidFill>
                  <a:srgbClr val="000000"/>
                </a:solidFill>
                <a:latin typeface="Calibri"/>
              </a:endParaRPr>
            </a:p>
          </p:txBody>
        </p:sp>
        <p:sp>
          <p:nvSpPr>
            <p:cNvPr id="422" name="TextBox 11"/>
            <p:cNvSpPr/>
            <p:nvPr/>
          </p:nvSpPr>
          <p:spPr>
            <a:xfrm>
              <a:off x="7442280" y="3720960"/>
              <a:ext cx="50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 12"/>
                </a:rPr>
                <a:t>4</a:t>
              </a:r>
              <a:endParaRPr b="0" lang="en-US" sz="1400" spc="-1" strike="noStrike">
                <a:solidFill>
                  <a:srgbClr val="000000"/>
                </a:solidFill>
                <a:latin typeface="Calibri"/>
              </a:endParaRPr>
            </a:p>
          </p:txBody>
        </p:sp>
        <p:sp>
          <p:nvSpPr>
            <p:cNvPr id="423" name="TextBox 12"/>
            <p:cNvSpPr/>
            <p:nvPr/>
          </p:nvSpPr>
          <p:spPr>
            <a:xfrm>
              <a:off x="8153640" y="3695760"/>
              <a:ext cx="50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 12"/>
                </a:rPr>
                <a:t>5</a:t>
              </a:r>
              <a:endParaRPr b="0" lang="en-US" sz="1400" spc="-1" strike="noStrike">
                <a:solidFill>
                  <a:srgbClr val="000000"/>
                </a:solidFill>
                <a:latin typeface="Calibri"/>
              </a:endParaRPr>
            </a:p>
          </p:txBody>
        </p:sp>
        <p:grpSp>
          <p:nvGrpSpPr>
            <p:cNvPr id="424" name="Group 18"/>
            <p:cNvGrpSpPr/>
            <p:nvPr/>
          </p:nvGrpSpPr>
          <p:grpSpPr>
            <a:xfrm>
              <a:off x="503280" y="3278160"/>
              <a:ext cx="8531280" cy="452160"/>
              <a:chOff x="503280" y="3278160"/>
              <a:chExt cx="8531280" cy="452160"/>
            </a:xfrm>
          </p:grpSpPr>
          <p:sp>
            <p:nvSpPr>
              <p:cNvPr id="425" name="Freeform 13"/>
              <p:cNvSpPr/>
              <p:nvPr/>
            </p:nvSpPr>
            <p:spPr>
              <a:xfrm>
                <a:off x="515160" y="3494160"/>
                <a:ext cx="8517600" cy="16920"/>
              </a:xfrm>
              <a:custGeom>
                <a:avLst/>
                <a:gdLst>
                  <a:gd name="textAreaLeft" fmla="*/ 0 w 8517600"/>
                  <a:gd name="textAreaRight" fmla="*/ 8517960 w 8517600"/>
                  <a:gd name="textAreaTop" fmla="*/ 0 h 16920"/>
                  <a:gd name="textAreaBottom" fmla="*/ 17280 h 16920"/>
                </a:gdLst>
                <a:ahLst/>
                <a:rect l="textAreaLeft" t="textAreaTop" r="textAreaRight" b="textAreaBottom"/>
                <a:pathLst>
                  <a:path w="8516747" h="17147">
                    <a:moveTo>
                      <a:pt x="0" y="17146"/>
                    </a:moveTo>
                    <a:lnTo>
                      <a:pt x="0" y="0"/>
                    </a:lnTo>
                    <a:lnTo>
                      <a:pt x="8516746" y="0"/>
                    </a:lnTo>
                    <a:lnTo>
                      <a:pt x="8516746" y="17146"/>
                    </a:lnTo>
                    <a:close/>
                  </a:path>
                </a:pathLst>
              </a:custGeom>
              <a:solidFill>
                <a:srgbClr val="000000"/>
              </a:solidFill>
              <a:ln w="0">
                <a:solidFill>
                  <a:srgbClr val="000000"/>
                </a:solidFill>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Calibri"/>
                </a:endParaRPr>
              </a:p>
            </p:txBody>
          </p:sp>
          <p:sp>
            <p:nvSpPr>
              <p:cNvPr id="426" name="Freeform 14"/>
              <p:cNvSpPr/>
              <p:nvPr/>
            </p:nvSpPr>
            <p:spPr>
              <a:xfrm>
                <a:off x="503280" y="3278160"/>
                <a:ext cx="245880" cy="236520"/>
              </a:xfrm>
              <a:custGeom>
                <a:avLst/>
                <a:gdLst>
                  <a:gd name="textAreaLeft" fmla="*/ 0 w 245880"/>
                  <a:gd name="textAreaRight" fmla="*/ 246240 w 245880"/>
                  <a:gd name="textAreaTop" fmla="*/ 0 h 236520"/>
                  <a:gd name="textAreaBottom" fmla="*/ 236880 h 236520"/>
                </a:gdLst>
                <a:ahLst/>
                <a:rect l="textAreaLeft" t="textAreaTop" r="textAreaRight" b="textAreaBottom"/>
                <a:pathLst>
                  <a:path w="246001" h="236220">
                    <a:moveTo>
                      <a:pt x="11939" y="236219"/>
                    </a:moveTo>
                    <a:lnTo>
                      <a:pt x="0" y="224155"/>
                    </a:lnTo>
                    <a:lnTo>
                      <a:pt x="233935" y="0"/>
                    </a:lnTo>
                    <a:lnTo>
                      <a:pt x="246000" y="1181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7" name="Freeform 15"/>
              <p:cNvSpPr/>
              <p:nvPr/>
            </p:nvSpPr>
            <p:spPr>
              <a:xfrm>
                <a:off x="506520" y="3493080"/>
                <a:ext cx="245880" cy="236520"/>
              </a:xfrm>
              <a:custGeom>
                <a:avLst/>
                <a:gdLst>
                  <a:gd name="textAreaLeft" fmla="*/ 0 w 245880"/>
                  <a:gd name="textAreaRight" fmla="*/ 246240 w 245880"/>
                  <a:gd name="textAreaTop" fmla="*/ 0 h 236520"/>
                  <a:gd name="textAreaBottom" fmla="*/ 236880 h 236520"/>
                </a:gdLst>
                <a:ahLst/>
                <a:rect l="textAreaLeft" t="textAreaTop" r="textAreaRight" b="textAreaBottom"/>
                <a:pathLst>
                  <a:path w="246001" h="236221">
                    <a:moveTo>
                      <a:pt x="0" y="11812"/>
                    </a:moveTo>
                    <a:lnTo>
                      <a:pt x="12065" y="0"/>
                    </a:lnTo>
                    <a:lnTo>
                      <a:pt x="246000" y="224156"/>
                    </a:lnTo>
                    <a:lnTo>
                      <a:pt x="234189" y="23622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8" name="Freeform 16"/>
              <p:cNvSpPr/>
              <p:nvPr/>
            </p:nvSpPr>
            <p:spPr>
              <a:xfrm>
                <a:off x="8788680" y="3278880"/>
                <a:ext cx="245880" cy="236160"/>
              </a:xfrm>
              <a:custGeom>
                <a:avLst/>
                <a:gdLst>
                  <a:gd name="textAreaLeft" fmla="*/ 0 w 245880"/>
                  <a:gd name="textAreaRight" fmla="*/ 246240 w 245880"/>
                  <a:gd name="textAreaTop" fmla="*/ 0 h 236160"/>
                  <a:gd name="textAreaBottom" fmla="*/ 236520 h 236160"/>
                </a:gdLst>
                <a:ahLst/>
                <a:rect l="textAreaLeft" t="textAreaTop" r="textAreaRight" b="textAreaBottom"/>
                <a:pathLst>
                  <a:path w="246000" h="235968">
                    <a:moveTo>
                      <a:pt x="245999" y="224156"/>
                    </a:moveTo>
                    <a:lnTo>
                      <a:pt x="234061" y="235967"/>
                    </a:lnTo>
                    <a:lnTo>
                      <a:pt x="0" y="12066"/>
                    </a:lnTo>
                    <a:lnTo>
                      <a:pt x="11811"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9" name="Freeform 17"/>
              <p:cNvSpPr/>
              <p:nvPr/>
            </p:nvSpPr>
            <p:spPr>
              <a:xfrm>
                <a:off x="8785440" y="3494160"/>
                <a:ext cx="245880" cy="236160"/>
              </a:xfrm>
              <a:custGeom>
                <a:avLst/>
                <a:gdLst>
                  <a:gd name="textAreaLeft" fmla="*/ 0 w 245880"/>
                  <a:gd name="textAreaRight" fmla="*/ 246240 w 245880"/>
                  <a:gd name="textAreaTop" fmla="*/ 0 h 236160"/>
                  <a:gd name="textAreaBottom" fmla="*/ 236520 h 236160"/>
                </a:gdLst>
                <a:ahLst/>
                <a:rect l="textAreaLeft" t="textAreaTop" r="textAreaRight" b="textAreaBottom"/>
                <a:pathLst>
                  <a:path w="246001" h="235968">
                    <a:moveTo>
                      <a:pt x="234062" y="0"/>
                    </a:moveTo>
                    <a:lnTo>
                      <a:pt x="246000" y="12066"/>
                    </a:lnTo>
                    <a:lnTo>
                      <a:pt x="12065" y="235967"/>
                    </a:lnTo>
                    <a:lnTo>
                      <a:pt x="0" y="224155"/>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430" name="Freeform 19"/>
            <p:cNvSpPr/>
            <p:nvPr/>
          </p:nvSpPr>
          <p:spPr>
            <a:xfrm>
              <a:off x="8274240" y="3320280"/>
              <a:ext cx="18720" cy="343440"/>
            </a:xfrm>
            <a:custGeom>
              <a:avLst/>
              <a:gdLst>
                <a:gd name="textAreaLeft" fmla="*/ 0 w 18720"/>
                <a:gd name="textAreaRight" fmla="*/ 19080 w 18720"/>
                <a:gd name="textAreaTop" fmla="*/ 0 h 343440"/>
                <a:gd name="textAreaBottom" fmla="*/ 343440 h 343440"/>
              </a:gdLst>
              <a:ahLst/>
              <a:rect l="textAreaLeft" t="textAreaTop" r="textAreaRight" b="textAreaBottom"/>
              <a:pathLst>
                <a:path w="18924" h="343028">
                  <a:moveTo>
                    <a:pt x="0" y="0"/>
                  </a:moveTo>
                  <a:lnTo>
                    <a:pt x="18923" y="0"/>
                  </a:lnTo>
                  <a:lnTo>
                    <a:pt x="18923" y="343027"/>
                  </a:lnTo>
                  <a:lnTo>
                    <a:pt x="0" y="34302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1" name="Freeform 20"/>
            <p:cNvSpPr/>
            <p:nvPr/>
          </p:nvSpPr>
          <p:spPr>
            <a:xfrm>
              <a:off x="7581960" y="3320280"/>
              <a:ext cx="18360" cy="343440"/>
            </a:xfrm>
            <a:custGeom>
              <a:avLst/>
              <a:gdLst>
                <a:gd name="textAreaLeft" fmla="*/ 0 w 18360"/>
                <a:gd name="textAreaRight" fmla="*/ 18720 w 18360"/>
                <a:gd name="textAreaTop" fmla="*/ 0 h 343440"/>
                <a:gd name="textAreaBottom" fmla="*/ 343440 h 343440"/>
              </a:gdLst>
              <a:ahLst/>
              <a:rect l="textAreaLeft" t="textAreaTop" r="textAreaRight" b="textAreaBottom"/>
              <a:pathLst>
                <a:path w="18671" h="343028">
                  <a:moveTo>
                    <a:pt x="0" y="0"/>
                  </a:moveTo>
                  <a:lnTo>
                    <a:pt x="18670" y="0"/>
                  </a:lnTo>
                  <a:lnTo>
                    <a:pt x="18670" y="343027"/>
                  </a:lnTo>
                  <a:lnTo>
                    <a:pt x="0" y="34302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2" name="Freeform 21"/>
            <p:cNvSpPr/>
            <p:nvPr/>
          </p:nvSpPr>
          <p:spPr>
            <a:xfrm>
              <a:off x="6847200" y="3320280"/>
              <a:ext cx="18720" cy="343440"/>
            </a:xfrm>
            <a:custGeom>
              <a:avLst/>
              <a:gdLst>
                <a:gd name="textAreaLeft" fmla="*/ 0 w 18720"/>
                <a:gd name="textAreaRight" fmla="*/ 19080 w 18720"/>
                <a:gd name="textAreaTop" fmla="*/ 0 h 343440"/>
                <a:gd name="textAreaBottom" fmla="*/ 343440 h 343440"/>
              </a:gdLst>
              <a:ahLst/>
              <a:rect l="textAreaLeft" t="textAreaTop" r="textAreaRight" b="textAreaBottom"/>
              <a:pathLst>
                <a:path w="18924" h="343028">
                  <a:moveTo>
                    <a:pt x="0" y="0"/>
                  </a:moveTo>
                  <a:lnTo>
                    <a:pt x="18923" y="0"/>
                  </a:lnTo>
                  <a:lnTo>
                    <a:pt x="18923" y="343027"/>
                  </a:lnTo>
                  <a:lnTo>
                    <a:pt x="0" y="34302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3" name="Freeform 22"/>
            <p:cNvSpPr/>
            <p:nvPr/>
          </p:nvSpPr>
          <p:spPr>
            <a:xfrm>
              <a:off x="6154920" y="3320280"/>
              <a:ext cx="18720" cy="343440"/>
            </a:xfrm>
            <a:custGeom>
              <a:avLst/>
              <a:gdLst>
                <a:gd name="textAreaLeft" fmla="*/ 0 w 18720"/>
                <a:gd name="textAreaRight" fmla="*/ 19080 w 18720"/>
                <a:gd name="textAreaTop" fmla="*/ 0 h 343440"/>
                <a:gd name="textAreaBottom" fmla="*/ 343440 h 343440"/>
              </a:gdLst>
              <a:ahLst/>
              <a:rect l="textAreaLeft" t="textAreaTop" r="textAreaRight" b="textAreaBottom"/>
              <a:pathLst>
                <a:path w="18796" h="343028">
                  <a:moveTo>
                    <a:pt x="0" y="0"/>
                  </a:moveTo>
                  <a:lnTo>
                    <a:pt x="18795" y="0"/>
                  </a:lnTo>
                  <a:lnTo>
                    <a:pt x="18795" y="343027"/>
                  </a:lnTo>
                  <a:lnTo>
                    <a:pt x="0" y="34302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4" name="Freeform 23"/>
            <p:cNvSpPr/>
            <p:nvPr/>
          </p:nvSpPr>
          <p:spPr>
            <a:xfrm>
              <a:off x="5462640" y="3320280"/>
              <a:ext cx="18360" cy="343440"/>
            </a:xfrm>
            <a:custGeom>
              <a:avLst/>
              <a:gdLst>
                <a:gd name="textAreaLeft" fmla="*/ 0 w 18360"/>
                <a:gd name="textAreaRight" fmla="*/ 18720 w 18360"/>
                <a:gd name="textAreaTop" fmla="*/ 0 h 343440"/>
                <a:gd name="textAreaBottom" fmla="*/ 343440 h 343440"/>
              </a:gdLst>
              <a:ahLst/>
              <a:rect l="textAreaLeft" t="textAreaTop" r="textAreaRight" b="textAreaBottom"/>
              <a:pathLst>
                <a:path w="18670" h="343028">
                  <a:moveTo>
                    <a:pt x="0" y="0"/>
                  </a:moveTo>
                  <a:lnTo>
                    <a:pt x="18669" y="0"/>
                  </a:lnTo>
                  <a:lnTo>
                    <a:pt x="18669" y="343027"/>
                  </a:lnTo>
                  <a:lnTo>
                    <a:pt x="0" y="34302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5" name="Freeform 24"/>
            <p:cNvSpPr/>
            <p:nvPr/>
          </p:nvSpPr>
          <p:spPr>
            <a:xfrm>
              <a:off x="4021200" y="3334320"/>
              <a:ext cx="18720" cy="343440"/>
            </a:xfrm>
            <a:custGeom>
              <a:avLst/>
              <a:gdLst>
                <a:gd name="textAreaLeft" fmla="*/ 0 w 18720"/>
                <a:gd name="textAreaRight" fmla="*/ 19080 w 18720"/>
                <a:gd name="textAreaTop" fmla="*/ 0 h 343440"/>
                <a:gd name="textAreaBottom" fmla="*/ 343800 h 343440"/>
              </a:gdLst>
              <a:ahLst/>
              <a:rect l="textAreaLeft" t="textAreaTop" r="textAreaRight" b="textAreaBottom"/>
              <a:pathLst>
                <a:path w="18925" h="343156">
                  <a:moveTo>
                    <a:pt x="0" y="0"/>
                  </a:moveTo>
                  <a:lnTo>
                    <a:pt x="18924" y="0"/>
                  </a:lnTo>
                  <a:lnTo>
                    <a:pt x="18924" y="343155"/>
                  </a:lnTo>
                  <a:lnTo>
                    <a:pt x="0" y="343155"/>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6" name="Freeform 25"/>
            <p:cNvSpPr/>
            <p:nvPr/>
          </p:nvSpPr>
          <p:spPr>
            <a:xfrm>
              <a:off x="3328920" y="3334320"/>
              <a:ext cx="18720" cy="343440"/>
            </a:xfrm>
            <a:custGeom>
              <a:avLst/>
              <a:gdLst>
                <a:gd name="textAreaLeft" fmla="*/ 0 w 18720"/>
                <a:gd name="textAreaRight" fmla="*/ 19080 w 18720"/>
                <a:gd name="textAreaTop" fmla="*/ 0 h 343440"/>
                <a:gd name="textAreaBottom" fmla="*/ 343800 h 343440"/>
              </a:gdLst>
              <a:ahLst/>
              <a:rect l="textAreaLeft" t="textAreaTop" r="textAreaRight" b="textAreaBottom"/>
              <a:pathLst>
                <a:path w="18798" h="343156">
                  <a:moveTo>
                    <a:pt x="0" y="0"/>
                  </a:moveTo>
                  <a:lnTo>
                    <a:pt x="18797" y="0"/>
                  </a:lnTo>
                  <a:lnTo>
                    <a:pt x="18797" y="343155"/>
                  </a:lnTo>
                  <a:lnTo>
                    <a:pt x="0" y="343155"/>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7" name="Freeform 26"/>
            <p:cNvSpPr/>
            <p:nvPr/>
          </p:nvSpPr>
          <p:spPr>
            <a:xfrm>
              <a:off x="2594160" y="3334320"/>
              <a:ext cx="18720" cy="343440"/>
            </a:xfrm>
            <a:custGeom>
              <a:avLst/>
              <a:gdLst>
                <a:gd name="textAreaLeft" fmla="*/ 0 w 18720"/>
                <a:gd name="textAreaRight" fmla="*/ 19080 w 18720"/>
                <a:gd name="textAreaTop" fmla="*/ 0 h 343440"/>
                <a:gd name="textAreaBottom" fmla="*/ 343800 h 343440"/>
              </a:gdLst>
              <a:ahLst/>
              <a:rect l="textAreaLeft" t="textAreaTop" r="textAreaRight" b="textAreaBottom"/>
              <a:pathLst>
                <a:path w="18797" h="343156">
                  <a:moveTo>
                    <a:pt x="0" y="0"/>
                  </a:moveTo>
                  <a:lnTo>
                    <a:pt x="18796" y="0"/>
                  </a:lnTo>
                  <a:lnTo>
                    <a:pt x="18796" y="343155"/>
                  </a:lnTo>
                  <a:lnTo>
                    <a:pt x="0" y="343155"/>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8" name="Freeform 27"/>
            <p:cNvSpPr/>
            <p:nvPr/>
          </p:nvSpPr>
          <p:spPr>
            <a:xfrm>
              <a:off x="1901880" y="3334320"/>
              <a:ext cx="18720" cy="343440"/>
            </a:xfrm>
            <a:custGeom>
              <a:avLst/>
              <a:gdLst>
                <a:gd name="textAreaLeft" fmla="*/ 0 w 18720"/>
                <a:gd name="textAreaRight" fmla="*/ 19080 w 18720"/>
                <a:gd name="textAreaTop" fmla="*/ 0 h 343440"/>
                <a:gd name="textAreaBottom" fmla="*/ 343800 h 343440"/>
              </a:gdLst>
              <a:ahLst/>
              <a:rect l="textAreaLeft" t="textAreaTop" r="textAreaRight" b="textAreaBottom"/>
              <a:pathLst>
                <a:path w="18923" h="343156">
                  <a:moveTo>
                    <a:pt x="0" y="0"/>
                  </a:moveTo>
                  <a:lnTo>
                    <a:pt x="18922" y="0"/>
                  </a:lnTo>
                  <a:lnTo>
                    <a:pt x="18922" y="343155"/>
                  </a:lnTo>
                  <a:lnTo>
                    <a:pt x="0" y="343155"/>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9" name="Freeform 28"/>
            <p:cNvSpPr/>
            <p:nvPr/>
          </p:nvSpPr>
          <p:spPr>
            <a:xfrm>
              <a:off x="1209600" y="3334320"/>
              <a:ext cx="18720" cy="343440"/>
            </a:xfrm>
            <a:custGeom>
              <a:avLst/>
              <a:gdLst>
                <a:gd name="textAreaLeft" fmla="*/ 0 w 18720"/>
                <a:gd name="textAreaRight" fmla="*/ 19080 w 18720"/>
                <a:gd name="textAreaTop" fmla="*/ 0 h 343440"/>
                <a:gd name="textAreaBottom" fmla="*/ 343800 h 343440"/>
              </a:gdLst>
              <a:ahLst/>
              <a:rect l="textAreaLeft" t="textAreaTop" r="textAreaRight" b="textAreaBottom"/>
              <a:pathLst>
                <a:path w="18923" h="343156">
                  <a:moveTo>
                    <a:pt x="0" y="0"/>
                  </a:moveTo>
                  <a:lnTo>
                    <a:pt x="18922" y="0"/>
                  </a:lnTo>
                  <a:lnTo>
                    <a:pt x="18922" y="343155"/>
                  </a:lnTo>
                  <a:lnTo>
                    <a:pt x="0" y="343155"/>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40" name="Freeform 29"/>
            <p:cNvSpPr/>
            <p:nvPr/>
          </p:nvSpPr>
          <p:spPr>
            <a:xfrm>
              <a:off x="4741920" y="3320280"/>
              <a:ext cx="18360" cy="343440"/>
            </a:xfrm>
            <a:custGeom>
              <a:avLst/>
              <a:gdLst>
                <a:gd name="textAreaLeft" fmla="*/ 0 w 18360"/>
                <a:gd name="textAreaRight" fmla="*/ 18720 w 18360"/>
                <a:gd name="textAreaTop" fmla="*/ 0 h 343440"/>
                <a:gd name="textAreaBottom" fmla="*/ 343440 h 343440"/>
              </a:gdLst>
              <a:ahLst/>
              <a:rect l="textAreaLeft" t="textAreaTop" r="textAreaRight" b="textAreaBottom"/>
              <a:pathLst>
                <a:path w="18670" h="343028">
                  <a:moveTo>
                    <a:pt x="0" y="0"/>
                  </a:moveTo>
                  <a:lnTo>
                    <a:pt x="18669" y="0"/>
                  </a:lnTo>
                  <a:lnTo>
                    <a:pt x="18669" y="343027"/>
                  </a:lnTo>
                  <a:lnTo>
                    <a:pt x="0" y="34302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441" name="TextBox 31"/>
          <p:cNvSpPr/>
          <p:nvPr/>
        </p:nvSpPr>
        <p:spPr>
          <a:xfrm>
            <a:off x="647640" y="203184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ff"/>
                </a:solidFill>
                <a:latin typeface="Comic Sans MS - 24"/>
              </a:rPr>
              <a:t>Start at "0" and go from there...</a:t>
            </a:r>
            <a:endParaRPr b="0" lang="en-US" sz="2400" spc="-1" strike="noStrike">
              <a:solidFill>
                <a:srgbClr val="000000"/>
              </a:solidFill>
              <a:latin typeface="Calibri"/>
            </a:endParaRPr>
          </a:p>
        </p:txBody>
      </p:sp>
      <p:sp>
        <p:nvSpPr>
          <p:cNvPr id="442" name="Straight Connector 32"/>
          <p:cNvSpPr/>
          <p:nvPr/>
        </p:nvSpPr>
        <p:spPr>
          <a:xfrm>
            <a:off x="4737240" y="3098880"/>
            <a:ext cx="2082600" cy="0"/>
          </a:xfrm>
          <a:prstGeom prst="line">
            <a:avLst/>
          </a:prstGeom>
          <a:ln w="3816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3" name="Straight Connector 33"/>
          <p:cNvSpPr/>
          <p:nvPr/>
        </p:nvSpPr>
        <p:spPr>
          <a:xfrm flipH="1">
            <a:off x="3365640" y="2781360"/>
            <a:ext cx="3466800" cy="0"/>
          </a:xfrm>
          <a:prstGeom prst="line">
            <a:avLst/>
          </a:prstGeom>
          <a:ln w="38160">
            <a:solidFill>
              <a:srgbClr val="0000ff"/>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4" name="TextBox 34"/>
          <p:cNvSpPr/>
          <p:nvPr/>
        </p:nvSpPr>
        <p:spPr>
          <a:xfrm>
            <a:off x="152280" y="4305240"/>
            <a:ext cx="962676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ff"/>
                </a:solidFill>
                <a:latin typeface="Comic Sans MS - 24"/>
              </a:rPr>
              <a:t>What is the addition statement represented by the number line?</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6T17:09:12Z</dcterms:created>
  <dc:creator>fraser kerr</dc:creator>
  <dc:description/>
  <dc:language>en-US</dc:language>
  <cp:lastModifiedBy>fraser kerr</cp:lastModifiedBy>
  <dcterms:modified xsi:type="dcterms:W3CDTF">2010-06-16T17:09:42Z</dcterms:modified>
  <cp:revision>1</cp:revision>
  <dc:subject/>
  <dc:title>Slide 1</dc:title>
</cp:coreProperties>
</file>